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png" ContentType="image/png"/>
  <Override PartName="/ppt/media/image7.png" ContentType="image/png"/>
  <Override PartName="/ppt/media/image8.wmf" ContentType="image/x-wmf"/>
  <Override PartName="/ppt/media/image9.png" ContentType="image/png"/>
  <Override PartName="/ppt/media/image10.jpeg" ContentType="image/jpeg"/>
  <Override PartName="/ppt/media/image11.jpeg" ContentType="image/jpe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2"/>
          <p:cNvSpPr>
            <a:spLocks noGrp="1"/>
          </p:cNvSpPr>
          <p:nvPr>
            <p:ph type="dt" idx="3"/>
          </p:nvPr>
        </p:nvSpPr>
        <p:spPr>
          <a:xfrm>
            <a:off x="3849840" y="0"/>
            <a:ext cx="2944800" cy="496800"/>
          </a:xfrm>
          <a:prstGeom prst="rect">
            <a:avLst/>
          </a:prstGeom>
          <a:noFill/>
          <a:ln w="0">
            <a:noFill/>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3"/>
          <p:cNvSpPr>
            <a:spLocks noGrp="1"/>
          </p:cNvSpPr>
          <p:nvPr>
            <p:ph type="sldImg"/>
          </p:nvPr>
        </p:nvSpPr>
        <p:spPr>
          <a:xfrm>
            <a:off x="915840" y="663120"/>
            <a:ext cx="4965840" cy="37242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Click to move the slide</a:t>
            </a:r>
            <a:endParaRPr b="1" lang="en-US" sz="3200" spc="-1" strike="noStrike">
              <a:solidFill>
                <a:srgbClr val="787878"/>
              </a:solidFill>
              <a:latin typeface="Arial"/>
            </a:endParaRPr>
          </a:p>
        </p:txBody>
      </p:sp>
      <p:sp>
        <p:nvSpPr>
          <p:cNvPr id="46" name="PlaceHolder 4"/>
          <p:cNvSpPr>
            <a:spLocks noGrp="1"/>
          </p:cNvSpPr>
          <p:nvPr>
            <p:ph type="body"/>
          </p:nvPr>
        </p:nvSpPr>
        <p:spPr>
          <a:xfrm>
            <a:off x="950760" y="4587840"/>
            <a:ext cx="4918320" cy="4479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0" y="9434520"/>
            <a:ext cx="2944800" cy="496800"/>
          </a:xfrm>
          <a:prstGeom prst="rect">
            <a:avLst/>
          </a:prstGeom>
          <a:noFill/>
          <a:ln w="0">
            <a:noFill/>
          </a:ln>
        </p:spPr>
        <p:txBody>
          <a:bodyPr lIns="92520" rIns="9252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6"/>
          <p:cNvSpPr>
            <a:spLocks noGrp="1"/>
          </p:cNvSpPr>
          <p:nvPr>
            <p:ph type="sldNum" idx="5"/>
          </p:nvPr>
        </p:nvSpPr>
        <p:spPr>
          <a:xfrm>
            <a:off x="3849840" y="9434520"/>
            <a:ext cx="2944800" cy="49680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B82C51F-719D-420B-9643-B2793B6937A2}" type="slidenum">
              <a:rPr b="0" lang="en-GB"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hyperlink" Target="http://www.unido.org/index.php?id=o18263" TargetMode="External"/><Relationship Id="rId2" Type="http://schemas.openxmlformats.org/officeDocument/2006/relationships/hyperlink" Target="http://www.unido.org/index.php?id=7862" TargetMode="External"/><Relationship Id="rId3" Type="http://schemas.openxmlformats.org/officeDocument/2006/relationships/hyperlink" Target="http://www.unido.org/index.php?id=7861" TargetMode="External"/><Relationship Id="rId4" Type="http://schemas.openxmlformats.org/officeDocument/2006/relationships/hyperlink" Target="http://www.unido.org/index.php?id=7860" TargetMode="External"/><Relationship Id="rId5" Type="http://schemas.openxmlformats.org/officeDocument/2006/relationships/hyperlink" Target="http://www.unido.org/index.php?id=o18256" TargetMode="External"/><Relationship Id="rId6" Type="http://schemas.openxmlformats.org/officeDocument/2006/relationships/hyperlink" Target="http://www.unido.org/index.php?id=7857" TargetMode="External"/><Relationship Id="rId7" Type="http://schemas.openxmlformats.org/officeDocument/2006/relationships/hyperlink" Target="http://www.unido.org/index.php?id=7858" TargetMode="External"/><Relationship Id="rId8" Type="http://schemas.openxmlformats.org/officeDocument/2006/relationships/hyperlink" Target="http://www.unido.org/index.php?id=7859" TargetMode="External"/><Relationship Id="rId9" Type="http://schemas.openxmlformats.org/officeDocument/2006/relationships/slide" Target="../slides/slide3.xml"/><Relationship Id="rId10"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92C0BC-B97E-4201-B5BF-7BC08CEBF10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88" name="PlaceHolder 1"/>
          <p:cNvSpPr>
            <a:spLocks noGrp="1"/>
          </p:cNvSpPr>
          <p:nvPr>
            <p:ph type="sldImg"/>
          </p:nvPr>
        </p:nvSpPr>
        <p:spPr>
          <a:xfrm>
            <a:off x="915840" y="663480"/>
            <a:ext cx="4965840" cy="3724200"/>
          </a:xfrm>
          <a:prstGeom prst="rect">
            <a:avLst/>
          </a:prstGeom>
          <a:ln w="0">
            <a:noFill/>
          </a:ln>
        </p:spPr>
      </p:sp>
      <p:sp>
        <p:nvSpPr>
          <p:cNvPr id="389"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0BCB6DB-40EE-43CE-B5D8-50F6602E90E4}" type="slidenum">
              <a:rPr b="0" lang="en-US" sz="1200" spc="-1" strike="noStrike">
                <a:solidFill>
                  <a:srgbClr val="ffffff"/>
                </a:solidFill>
                <a:latin typeface="Arial"/>
                <a:ea typeface="ＭＳ Ｐゴシック"/>
              </a:rPr>
              <a:t>&lt;number&gt;</a:t>
            </a:fld>
            <a:endParaRPr b="1" lang="en-US" sz="1200" spc="-1" strike="noStrike">
              <a:solidFill>
                <a:srgbClr val="ffffff"/>
              </a:solidFill>
              <a:latin typeface="Arial"/>
            </a:endParaRPr>
          </a:p>
        </p:txBody>
      </p:sp>
      <p:sp>
        <p:nvSpPr>
          <p:cNvPr id="413" name="PlaceHolder 1"/>
          <p:cNvSpPr>
            <a:spLocks noGrp="1"/>
          </p:cNvSpPr>
          <p:nvPr>
            <p:ph type="sldImg"/>
          </p:nvPr>
        </p:nvSpPr>
        <p:spPr>
          <a:xfrm>
            <a:off x="915840" y="663480"/>
            <a:ext cx="4965840" cy="3724200"/>
          </a:xfrm>
          <a:prstGeom prst="rect">
            <a:avLst/>
          </a:prstGeom>
          <a:ln w="0">
            <a:noFill/>
          </a:ln>
        </p:spPr>
      </p:sp>
      <p:sp>
        <p:nvSpPr>
          <p:cNvPr id="414" name="PlaceHolder 2"/>
          <p:cNvSpPr>
            <a:spLocks noGrp="1"/>
          </p:cNvSpPr>
          <p:nvPr>
            <p:ph type="body"/>
          </p:nvPr>
        </p:nvSpPr>
        <p:spPr>
          <a:xfrm>
            <a:off x="950760" y="4587840"/>
            <a:ext cx="4918320" cy="4479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y some accounts, China has just overtaken the U.S. and Europe to become the world’s largest carbon em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However, the U.S. will remain the most CO2 intensive--in terms of CO2 per capi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Middle East will become the most energy intensiv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5C3DBE-10BD-4536-9851-18B5CEC3D255}"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16" name="PlaceHolder 1"/>
          <p:cNvSpPr>
            <a:spLocks noGrp="1"/>
          </p:cNvSpPr>
          <p:nvPr>
            <p:ph type="sldImg"/>
          </p:nvPr>
        </p:nvSpPr>
        <p:spPr>
          <a:xfrm>
            <a:off x="915840" y="746280"/>
            <a:ext cx="4965840" cy="3724200"/>
          </a:xfrm>
          <a:prstGeom prst="rect">
            <a:avLst/>
          </a:prstGeom>
          <a:ln w="0">
            <a:noFill/>
          </a:ln>
        </p:spPr>
      </p:sp>
      <p:sp>
        <p:nvSpPr>
          <p:cNvPr id="417"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35E4222-0506-4F2B-9E5B-A760A545C52A}"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19" name="PlaceHolder 1"/>
          <p:cNvSpPr>
            <a:spLocks noGrp="1"/>
          </p:cNvSpPr>
          <p:nvPr>
            <p:ph type="sldImg"/>
          </p:nvPr>
        </p:nvSpPr>
        <p:spPr>
          <a:xfrm>
            <a:off x="915840" y="663480"/>
            <a:ext cx="4965840" cy="3724200"/>
          </a:xfrm>
          <a:prstGeom prst="rect">
            <a:avLst/>
          </a:prstGeom>
          <a:ln w="0">
            <a:noFill/>
          </a:ln>
        </p:spPr>
      </p:sp>
      <p:sp>
        <p:nvSpPr>
          <p:cNvPr id="420"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CE403D7-1C06-4A4E-A410-855DE150C524}" type="slidenum">
              <a:rPr b="0" lang="en-US" sz="1200" spc="-1" strike="noStrike">
                <a:solidFill>
                  <a:srgbClr val="ffffff"/>
                </a:solidFill>
                <a:latin typeface="Times New Roman"/>
                <a:ea typeface="ＭＳ Ｐゴシック"/>
              </a:rPr>
              <a:t>&lt;number&gt;</a:t>
            </a:fld>
            <a:endParaRPr b="1" lang="en-US" sz="1200" spc="-1" strike="noStrike">
              <a:solidFill>
                <a:srgbClr val="ffffff"/>
              </a:solidFill>
              <a:latin typeface="Arial"/>
            </a:endParaRPr>
          </a:p>
        </p:txBody>
      </p:sp>
      <p:sp>
        <p:nvSpPr>
          <p:cNvPr id="422" name="PlaceHolder 1"/>
          <p:cNvSpPr>
            <a:spLocks noGrp="1"/>
          </p:cNvSpPr>
          <p:nvPr>
            <p:ph type="sldImg"/>
          </p:nvPr>
        </p:nvSpPr>
        <p:spPr>
          <a:xfrm>
            <a:off x="915840" y="746280"/>
            <a:ext cx="4965840" cy="3724200"/>
          </a:xfrm>
          <a:prstGeom prst="rect">
            <a:avLst/>
          </a:prstGeom>
          <a:ln w="0">
            <a:noFill/>
          </a:ln>
        </p:spPr>
      </p:sp>
      <p:sp>
        <p:nvSpPr>
          <p:cNvPr id="423"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F5DD993-F6AC-4A57-A41D-2D1724BB96F5}"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25" name="PlaceHolder 1"/>
          <p:cNvSpPr>
            <a:spLocks noGrp="1"/>
          </p:cNvSpPr>
          <p:nvPr>
            <p:ph type="sldImg"/>
          </p:nvPr>
        </p:nvSpPr>
        <p:spPr>
          <a:xfrm>
            <a:off x="915840" y="663480"/>
            <a:ext cx="4965840" cy="3724200"/>
          </a:xfrm>
          <a:prstGeom prst="rect">
            <a:avLst/>
          </a:prstGeom>
          <a:ln w="0">
            <a:noFill/>
          </a:ln>
        </p:spPr>
      </p:sp>
      <p:sp>
        <p:nvSpPr>
          <p:cNvPr id="426"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3763EA-AD3A-4AD5-A55A-D96F405512E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28" name="PlaceHolder 1"/>
          <p:cNvSpPr>
            <a:spLocks noGrp="1"/>
          </p:cNvSpPr>
          <p:nvPr>
            <p:ph type="sldImg"/>
          </p:nvPr>
        </p:nvSpPr>
        <p:spPr>
          <a:xfrm>
            <a:off x="915840" y="663480"/>
            <a:ext cx="4965840" cy="3724200"/>
          </a:xfrm>
          <a:prstGeom prst="rect">
            <a:avLst/>
          </a:prstGeom>
          <a:ln w="0">
            <a:noFill/>
          </a:ln>
        </p:spPr>
      </p:sp>
      <p:sp>
        <p:nvSpPr>
          <p:cNvPr id="429"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0E30953-BEEA-45D2-9473-6E6B8797F253}"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31" name="PlaceHolder 1"/>
          <p:cNvSpPr>
            <a:spLocks noGrp="1"/>
          </p:cNvSpPr>
          <p:nvPr>
            <p:ph type="sldImg"/>
          </p:nvPr>
        </p:nvSpPr>
        <p:spPr>
          <a:xfrm>
            <a:off x="915840" y="663480"/>
            <a:ext cx="4965840" cy="3724200"/>
          </a:xfrm>
          <a:prstGeom prst="rect">
            <a:avLst/>
          </a:prstGeom>
          <a:ln w="0">
            <a:noFill/>
          </a:ln>
        </p:spPr>
      </p:sp>
      <p:sp>
        <p:nvSpPr>
          <p:cNvPr id="432"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F15917E-18CF-49E2-8077-74F3D3BA13E7}"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391" name="PlaceHolder 1"/>
          <p:cNvSpPr>
            <a:spLocks noGrp="1"/>
          </p:cNvSpPr>
          <p:nvPr>
            <p:ph type="sldImg"/>
          </p:nvPr>
        </p:nvSpPr>
        <p:spPr>
          <a:xfrm>
            <a:off x="914400" y="744480"/>
            <a:ext cx="4965840" cy="3724200"/>
          </a:xfrm>
          <a:prstGeom prst="rect">
            <a:avLst/>
          </a:prstGeom>
          <a:ln w="0">
            <a:noFill/>
          </a:ln>
        </p:spPr>
      </p:sp>
      <p:sp>
        <p:nvSpPr>
          <p:cNvPr id="39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CE9B3E7-DCD7-47A2-9BEB-CCC1E41FA085}" type="slidenum">
              <a:rPr b="0" lang="en-US" sz="1200" spc="-1" strike="noStrike">
                <a:solidFill>
                  <a:srgbClr val="ffffff"/>
                </a:solidFill>
                <a:latin typeface="Times New Roman"/>
                <a:ea typeface="ＭＳ Ｐゴシック"/>
              </a:rPr>
              <a:t>&lt;number&gt;</a:t>
            </a:fld>
            <a:endParaRPr b="1" lang="en-US" sz="1200" spc="-1" strike="noStrike">
              <a:solidFill>
                <a:srgbClr val="ffffff"/>
              </a:solidFill>
              <a:latin typeface="Arial"/>
            </a:endParaRPr>
          </a:p>
        </p:txBody>
      </p:sp>
      <p:sp>
        <p:nvSpPr>
          <p:cNvPr id="434" name="PlaceHolder 1"/>
          <p:cNvSpPr>
            <a:spLocks noGrp="1"/>
          </p:cNvSpPr>
          <p:nvPr>
            <p:ph type="sldImg"/>
          </p:nvPr>
        </p:nvSpPr>
        <p:spPr>
          <a:xfrm>
            <a:off x="915840" y="746280"/>
            <a:ext cx="4965840" cy="3724200"/>
          </a:xfrm>
          <a:prstGeom prst="rect">
            <a:avLst/>
          </a:prstGeom>
          <a:ln w="0">
            <a:noFill/>
          </a:ln>
        </p:spPr>
      </p:sp>
      <p:sp>
        <p:nvSpPr>
          <p:cNvPr id="435"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3793AFF-A8DF-4C06-B3BA-A7CC48B13A4E}"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37" name="PlaceHolder 1"/>
          <p:cNvSpPr>
            <a:spLocks noGrp="1"/>
          </p:cNvSpPr>
          <p:nvPr>
            <p:ph type="sldImg"/>
          </p:nvPr>
        </p:nvSpPr>
        <p:spPr>
          <a:xfrm>
            <a:off x="915840" y="663480"/>
            <a:ext cx="4965840" cy="3724200"/>
          </a:xfrm>
          <a:prstGeom prst="rect">
            <a:avLst/>
          </a:prstGeom>
          <a:ln w="0">
            <a:noFill/>
          </a:ln>
        </p:spPr>
      </p:sp>
      <p:sp>
        <p:nvSpPr>
          <p:cNvPr id="438"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F62EE89-669E-41BC-AE99-20133642AAFF}"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40" name="PlaceHolder 1"/>
          <p:cNvSpPr>
            <a:spLocks noGrp="1"/>
          </p:cNvSpPr>
          <p:nvPr>
            <p:ph type="sldImg"/>
          </p:nvPr>
        </p:nvSpPr>
        <p:spPr>
          <a:xfrm>
            <a:off x="915840" y="663480"/>
            <a:ext cx="4965840" cy="3724200"/>
          </a:xfrm>
          <a:prstGeom prst="rect">
            <a:avLst/>
          </a:prstGeom>
          <a:ln w="0">
            <a:noFill/>
          </a:ln>
        </p:spPr>
      </p:sp>
      <p:sp>
        <p:nvSpPr>
          <p:cNvPr id="441"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5A17E2A-2494-4C47-A487-55B8ACE05C87}"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43" name="PlaceHolder 1"/>
          <p:cNvSpPr>
            <a:spLocks noGrp="1"/>
          </p:cNvSpPr>
          <p:nvPr>
            <p:ph type="sldImg"/>
          </p:nvPr>
        </p:nvSpPr>
        <p:spPr>
          <a:xfrm>
            <a:off x="915840" y="663480"/>
            <a:ext cx="4965840" cy="3724200"/>
          </a:xfrm>
          <a:prstGeom prst="rect">
            <a:avLst/>
          </a:prstGeom>
          <a:ln w="0">
            <a:noFill/>
          </a:ln>
        </p:spPr>
      </p:sp>
      <p:sp>
        <p:nvSpPr>
          <p:cNvPr id="444"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2F5C80-745C-47FA-B138-7EF6FCDB4548}"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46" name="PlaceHolder 1"/>
          <p:cNvSpPr>
            <a:spLocks noGrp="1"/>
          </p:cNvSpPr>
          <p:nvPr>
            <p:ph type="sldImg"/>
          </p:nvPr>
        </p:nvSpPr>
        <p:spPr>
          <a:xfrm>
            <a:off x="915840" y="663480"/>
            <a:ext cx="4965840" cy="3724200"/>
          </a:xfrm>
          <a:prstGeom prst="rect">
            <a:avLst/>
          </a:prstGeom>
          <a:ln w="0">
            <a:noFill/>
          </a:ln>
        </p:spPr>
      </p:sp>
      <p:sp>
        <p:nvSpPr>
          <p:cNvPr id="447"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E57CC2-FCB9-4500-B4AF-2E5AD904686D}" type="slidenum">
              <a:rPr b="0" lang="en-GB"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49" name="PlaceHolder 1"/>
          <p:cNvSpPr>
            <a:spLocks noGrp="1"/>
          </p:cNvSpPr>
          <p:nvPr>
            <p:ph type="sldImg"/>
          </p:nvPr>
        </p:nvSpPr>
        <p:spPr>
          <a:xfrm>
            <a:off x="914400" y="744480"/>
            <a:ext cx="4965840" cy="3724200"/>
          </a:xfrm>
          <a:prstGeom prst="rect">
            <a:avLst/>
          </a:prstGeom>
          <a:ln w="0">
            <a:noFill/>
          </a:ln>
        </p:spPr>
      </p:sp>
      <p:sp>
        <p:nvSpPr>
          <p:cNvPr id="45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23760" y="750960"/>
            <a:ext cx="4953240" cy="3714840"/>
          </a:xfrm>
          <a:prstGeom prst="rect">
            <a:avLst/>
          </a:prstGeom>
          <a:ln w="0">
            <a:noFill/>
          </a:ln>
        </p:spPr>
      </p:sp>
      <p:sp>
        <p:nvSpPr>
          <p:cNvPr id="394" name="PlaceHolder 2"/>
          <p:cNvSpPr>
            <a:spLocks noGrp="1"/>
          </p:cNvSpPr>
          <p:nvPr>
            <p:ph type="body"/>
          </p:nvPr>
        </p:nvSpPr>
        <p:spPr>
          <a:xfrm>
            <a:off x="903240" y="4714920"/>
            <a:ext cx="4983120" cy="417816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IDO has about 650 employees and it is growing at the moment.  UNIDO has 36 field offices around the world, as well as a network of 38 national cleaner production cent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IDO’s goal is wealth creation through sustainable industrial develop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IDO pursues this goal in two ways: through global forum activities, where we develop and disseminate knowledge, and technical cooperation, where we design and implement programmes with our partn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UNIDO is multidisciplinary.  Industrial development is approached holistically through the branches listed here</a:t>
            </a:r>
            <a:r>
              <a:rPr b="0" lang="en-US" sz="1000" spc="-1" strike="noStrike">
                <a:solidFill>
                  <a:srgbClr val="969696"/>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69696"/>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1"/>
              </a:rPr>
              <a:t>Industrial Governance and Statistics</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2"/>
              </a:rPr>
              <a:t>Investment and Technology Promotion</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3"/>
              </a:rPr>
              <a:t>Industrial Competitiveness and Trade</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4"/>
              </a:rPr>
              <a:t>Private Sector Development</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5"/>
              </a:rPr>
              <a:t>Agro-Industries</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6"/>
              </a:rPr>
              <a:t>Sustainable Energy and Climate Change</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7"/>
              </a:rPr>
              <a:t>Montreal Protocol</a:t>
            </a:r>
            <a:r>
              <a:rPr b="0"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Arial"/>
                <a:hlinkClick r:id="rId8"/>
              </a:rPr>
              <a:t>Environmental Management</a:t>
            </a:r>
            <a:r>
              <a:rPr b="0" lang="en-U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48040" y="9433080"/>
            <a:ext cx="2944800" cy="49680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26855EDB-B7CC-494A-A854-FE0BE99681A7}" type="slidenum">
              <a:rPr b="0" lang="en-US" sz="1200" spc="-1" strike="noStrike">
                <a:solidFill>
                  <a:srgbClr val="ffffff"/>
                </a:solidFill>
                <a:latin typeface="Arial"/>
                <a:ea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915840" y="744480"/>
            <a:ext cx="4965840" cy="3724200"/>
          </a:xfrm>
          <a:prstGeom prst="rect">
            <a:avLst/>
          </a:prstGeom>
          <a:ln w="0">
            <a:noFill/>
          </a:ln>
        </p:spPr>
      </p:sp>
      <p:sp>
        <p:nvSpPr>
          <p:cNvPr id="397" name="PlaceHolder 2"/>
          <p:cNvSpPr>
            <a:spLocks noGrp="1"/>
          </p:cNvSpPr>
          <p:nvPr>
            <p:ph type="body"/>
          </p:nvPr>
        </p:nvSpPr>
        <p:spPr>
          <a:xfrm>
            <a:off x="681120" y="4717800"/>
            <a:ext cx="543240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48040" y="9434520"/>
            <a:ext cx="2944800" cy="49536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593256-EA51-451D-BC37-6C880D8ACD70}" type="slidenum">
              <a:rPr b="0" lang="en-US" sz="1300" spc="-1" strike="noStrike">
                <a:solidFill>
                  <a:srgbClr val="ffffff"/>
                </a:solidFill>
                <a:latin typeface="Arial"/>
                <a:ea typeface="Arial"/>
              </a:rPr>
              <a:t>&lt;number&gt;</a:t>
            </a:fld>
            <a:endParaRPr b="1" lang="en-US" sz="1300" spc="-1" strike="noStrike">
              <a:solidFill>
                <a:srgbClr val="ffffff"/>
              </a:solidFill>
              <a:latin typeface="Arial"/>
            </a:endParaRPr>
          </a:p>
        </p:txBody>
      </p:sp>
      <p:sp>
        <p:nvSpPr>
          <p:cNvPr id="399" name="PlaceHolder 1"/>
          <p:cNvSpPr>
            <a:spLocks noGrp="1"/>
          </p:cNvSpPr>
          <p:nvPr>
            <p:ph type="sldImg"/>
          </p:nvPr>
        </p:nvSpPr>
        <p:spPr>
          <a:xfrm>
            <a:off x="914400" y="746280"/>
            <a:ext cx="4965840" cy="37242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48040" y="9433080"/>
            <a:ext cx="2944800" cy="496800"/>
          </a:xfrm>
          <a:prstGeom prst="rect">
            <a:avLst/>
          </a:prstGeom>
          <a:noFill/>
          <a:ln w="0">
            <a:noFill/>
          </a:ln>
        </p:spPr>
        <p:style>
          <a:lnRef idx="0"/>
          <a:fillRef idx="0"/>
          <a:effectRef idx="0"/>
          <a:fontRef idx="minor"/>
        </p:style>
        <p:txBody>
          <a:bodyPr lIns="88200" rIns="88200" tIns="43920" bIns="43920" anchor="b">
            <a:noAutofit/>
          </a:bodyPr>
          <a:p>
            <a:pPr algn="r">
              <a:tabLst>
                <a:tab algn="l" pos="0"/>
                <a:tab algn="l" pos="880920"/>
                <a:tab algn="l" pos="1762200"/>
                <a:tab algn="l" pos="2643120"/>
                <a:tab algn="l" pos="3524400"/>
                <a:tab algn="l" pos="4405320"/>
                <a:tab algn="l" pos="5286240"/>
                <a:tab algn="l" pos="6167520"/>
                <a:tab algn="l" pos="7048440"/>
                <a:tab algn="l" pos="7929720"/>
                <a:tab algn="l" pos="8810640"/>
                <a:tab algn="l" pos="9691560"/>
                <a:tab algn="l" pos="10572840"/>
              </a:tabLst>
            </a:pPr>
            <a:fld id="{5F7BD2A3-035F-4434-83E5-95EF9B88EFBF}" type="slidenum">
              <a:rPr b="0" lang="en-US" sz="1200" spc="-1" strike="noStrike">
                <a:solidFill>
                  <a:srgbClr val="ffffff"/>
                </a:solidFill>
                <a:latin typeface="Arial"/>
                <a:ea typeface="Arial"/>
              </a:rPr>
              <a:t>&lt;number&gt;</a:t>
            </a:fld>
            <a:endParaRPr b="1" lang="en-US" sz="1200" spc="-1" strike="noStrike">
              <a:solidFill>
                <a:srgbClr val="ffffff"/>
              </a:solidFill>
              <a:latin typeface="Arial"/>
            </a:endParaRPr>
          </a:p>
        </p:txBody>
      </p:sp>
      <p:sp>
        <p:nvSpPr>
          <p:cNvPr id="401" name="PlaceHolder 1"/>
          <p:cNvSpPr>
            <a:spLocks noGrp="1"/>
          </p:cNvSpPr>
          <p:nvPr>
            <p:ph type="sldImg"/>
          </p:nvPr>
        </p:nvSpPr>
        <p:spPr>
          <a:xfrm>
            <a:off x="915840" y="744480"/>
            <a:ext cx="4965840" cy="3724200"/>
          </a:xfrm>
          <a:prstGeom prst="rect">
            <a:avLst/>
          </a:prstGeom>
          <a:ln w="0">
            <a:noFill/>
          </a:ln>
        </p:spPr>
      </p:sp>
      <p:sp>
        <p:nvSpPr>
          <p:cNvPr id="402" name="PlaceHolder 2"/>
          <p:cNvSpPr>
            <a:spLocks noGrp="1"/>
          </p:cNvSpPr>
          <p:nvPr>
            <p:ph type="body"/>
          </p:nvPr>
        </p:nvSpPr>
        <p:spPr>
          <a:xfrm>
            <a:off x="681120" y="4717800"/>
            <a:ext cx="5432400" cy="4468680"/>
          </a:xfrm>
          <a:prstGeom prst="rect">
            <a:avLst/>
          </a:prstGeom>
          <a:noFill/>
          <a:ln w="0">
            <a:noFill/>
          </a:ln>
        </p:spPr>
        <p:txBody>
          <a:bodyPr lIns="88200" rIns="88200" tIns="43920" bIns="43920" anchor="t">
            <a:noAutofit/>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a:t>
            </a:r>
            <a:r>
              <a:rPr b="0" lang="en-US" sz="1200" spc="-1" strike="noStrike">
                <a:solidFill>
                  <a:srgbClr val="000000"/>
                </a:solidFill>
                <a:latin typeface="Arial"/>
              </a:rPr>
              <a:t> Integrate energy efficiency practices and projects into enterprises’  existing management structures for continual improvement</a:t>
            </a:r>
            <a:r>
              <a:rPr b="0" lang="en-NZ"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9F7E91A-2A4E-4056-9610-8FAF3FD3404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04" name="PlaceHolder 1"/>
          <p:cNvSpPr>
            <a:spLocks noGrp="1"/>
          </p:cNvSpPr>
          <p:nvPr>
            <p:ph type="sldImg"/>
          </p:nvPr>
        </p:nvSpPr>
        <p:spPr>
          <a:xfrm>
            <a:off x="915840" y="663480"/>
            <a:ext cx="4965840" cy="3724200"/>
          </a:xfrm>
          <a:prstGeom prst="rect">
            <a:avLst/>
          </a:prstGeom>
          <a:ln w="0">
            <a:noFill/>
          </a:ln>
        </p:spPr>
      </p:sp>
      <p:sp>
        <p:nvSpPr>
          <p:cNvPr id="405" name="PlaceHolder 2"/>
          <p:cNvSpPr>
            <a:spLocks noGrp="1"/>
          </p:cNvSpPr>
          <p:nvPr>
            <p:ph type="body"/>
          </p:nvPr>
        </p:nvSpPr>
        <p:spPr>
          <a:xfrm>
            <a:off x="950760" y="4587840"/>
            <a:ext cx="4918320" cy="447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4F94E6A-A2F6-4BAB-AA92-9C89962F542B}"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07" name="PlaceHolder 1"/>
          <p:cNvSpPr>
            <a:spLocks noGrp="1"/>
          </p:cNvSpPr>
          <p:nvPr>
            <p:ph type="sldImg"/>
          </p:nvPr>
        </p:nvSpPr>
        <p:spPr>
          <a:xfrm>
            <a:off x="912960" y="746280"/>
            <a:ext cx="4965480" cy="3724200"/>
          </a:xfrm>
          <a:prstGeom prst="rect">
            <a:avLst/>
          </a:prstGeom>
          <a:ln w="0">
            <a:noFill/>
          </a:ln>
        </p:spPr>
      </p:sp>
      <p:sp>
        <p:nvSpPr>
          <p:cNvPr id="408" name="PlaceHolder 2"/>
          <p:cNvSpPr>
            <a:spLocks noGrp="1"/>
          </p:cNvSpPr>
          <p:nvPr>
            <p:ph type="body"/>
          </p:nvPr>
        </p:nvSpPr>
        <p:spPr>
          <a:xfrm>
            <a:off x="950760" y="4587840"/>
            <a:ext cx="4918320" cy="4479840"/>
          </a:xfrm>
          <a:prstGeom prst="rect">
            <a:avLst/>
          </a:prstGeom>
          <a:noFill/>
          <a:ln w="0">
            <a:noFill/>
          </a:ln>
        </p:spPr>
        <p:txBody>
          <a:bodyPr lIns="92520" rIns="9252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ECD Europe</a:t>
            </a:r>
            <a:r>
              <a:rPr b="0" lang="en-US" sz="1200" spc="-1" strike="noStrike">
                <a:solidFill>
                  <a:srgbClr val="000000"/>
                </a:solidFill>
                <a:latin typeface="Times New Roman"/>
              </a:rPr>
              <a:t> includes: Austria, Belgium, Czech Republic, Denmark, Finland, France, Germany, Greece, Hungary, Iceland, Ireland, Italy, Luxembourg, the Netherlands, Norway, Poland, Portugal, Slovakia, Spain, Sweden, Switzerland, Turkey, and the United Kingdom.</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ing focus from the U.S. stage of energy management to the work stage now.</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rowed this slide from DOE.  The stand out part of this is that industry consumes 50% of world energy.  When you look at many developing countries, industrial energy use can be as large as 70- 80% of their total use.</a:t>
            </a:r>
            <a:endParaRPr b="0" lang="en-US" sz="1200" spc="-1" strike="noStrike">
              <a:solidFill>
                <a:srgbClr val="000000"/>
              </a:solidFill>
              <a:latin typeface="Arial"/>
            </a:endParaRPr>
          </a:p>
          <a:p>
            <a:pPr>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es not go unrecognized.  Many countries have developed energy management system standards or other types of national programs to help their industry.  These countries include Denmark, Ireland, China, Korea, Japan, Spain, Thailand, Germany, Sweden, United Kingdom.  So there is a ground swell of energy management standards that have been developed our are in the process of being develop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49840" y="9434520"/>
            <a:ext cx="2944800" cy="49680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20416DF-5677-479F-8175-E78E791859EE}"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410" name="PlaceHolder 1"/>
          <p:cNvSpPr>
            <a:spLocks noGrp="1"/>
          </p:cNvSpPr>
          <p:nvPr>
            <p:ph type="sldImg"/>
          </p:nvPr>
        </p:nvSpPr>
        <p:spPr>
          <a:xfrm>
            <a:off x="914400" y="744480"/>
            <a:ext cx="4965840" cy="3724200"/>
          </a:xfrm>
          <a:prstGeom prst="rect">
            <a:avLst/>
          </a:prstGeom>
          <a:ln w="0">
            <a:noFill/>
          </a:ln>
        </p:spPr>
      </p:sp>
      <p:sp>
        <p:nvSpPr>
          <p:cNvPr id="4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B758BC-D34C-4C28-BBDB-05C0935FB4F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28" name="PlaceHolder 2"/>
          <p:cNvSpPr>
            <a:spLocks noGrp="1"/>
          </p:cNvSpPr>
          <p:nvPr>
            <p:ph/>
          </p:nvPr>
        </p:nvSpPr>
        <p:spPr>
          <a:xfrm>
            <a:off x="324000" y="1989000"/>
            <a:ext cx="842472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9" name="PlaceHolder 3"/>
          <p:cNvSpPr>
            <a:spLocks noGrp="1"/>
          </p:cNvSpPr>
          <p:nvPr>
            <p:ph/>
          </p:nvPr>
        </p:nvSpPr>
        <p:spPr>
          <a:xfrm>
            <a:off x="324000" y="4283640"/>
            <a:ext cx="842472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sldNum" idx="2"/>
          </p:nvPr>
        </p:nvSpPr>
        <p:spPr/>
        <p:txBody>
          <a:bodyPr/>
          <a:p>
            <a:fld id="{76879CB3-827D-4346-BA82-00D473E67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1" name="PlaceHolder 2"/>
          <p:cNvSpPr>
            <a:spLocks noGrp="1"/>
          </p:cNvSpPr>
          <p:nvPr>
            <p:ph/>
          </p:nvPr>
        </p:nvSpPr>
        <p:spPr>
          <a:xfrm>
            <a:off x="32400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2" name="PlaceHolder 3"/>
          <p:cNvSpPr>
            <a:spLocks noGrp="1"/>
          </p:cNvSpPr>
          <p:nvPr>
            <p:ph/>
          </p:nvPr>
        </p:nvSpPr>
        <p:spPr>
          <a:xfrm>
            <a:off x="464112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3" name="PlaceHolder 4"/>
          <p:cNvSpPr>
            <a:spLocks noGrp="1"/>
          </p:cNvSpPr>
          <p:nvPr>
            <p:ph/>
          </p:nvPr>
        </p:nvSpPr>
        <p:spPr>
          <a:xfrm>
            <a:off x="324000" y="428364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4" name="PlaceHolder 5"/>
          <p:cNvSpPr>
            <a:spLocks noGrp="1"/>
          </p:cNvSpPr>
          <p:nvPr>
            <p:ph/>
          </p:nvPr>
        </p:nvSpPr>
        <p:spPr>
          <a:xfrm>
            <a:off x="4641120" y="428364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 name="PlaceHolder 6"/>
          <p:cNvSpPr>
            <a:spLocks noGrp="1"/>
          </p:cNvSpPr>
          <p:nvPr>
            <p:ph type="sldNum" idx="2"/>
          </p:nvPr>
        </p:nvSpPr>
        <p:spPr/>
        <p:txBody>
          <a:bodyPr/>
          <a:p>
            <a:fld id="{30D76494-0A5D-4526-87D7-2E5865554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6" name="PlaceHolder 2"/>
          <p:cNvSpPr>
            <a:spLocks noGrp="1"/>
          </p:cNvSpPr>
          <p:nvPr>
            <p:ph/>
          </p:nvPr>
        </p:nvSpPr>
        <p:spPr>
          <a:xfrm>
            <a:off x="324000" y="198900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7" name="PlaceHolder 3"/>
          <p:cNvSpPr>
            <a:spLocks noGrp="1"/>
          </p:cNvSpPr>
          <p:nvPr>
            <p:ph/>
          </p:nvPr>
        </p:nvSpPr>
        <p:spPr>
          <a:xfrm>
            <a:off x="3172680" y="198900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8" name="PlaceHolder 4"/>
          <p:cNvSpPr>
            <a:spLocks noGrp="1"/>
          </p:cNvSpPr>
          <p:nvPr>
            <p:ph/>
          </p:nvPr>
        </p:nvSpPr>
        <p:spPr>
          <a:xfrm>
            <a:off x="6021360" y="198900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 name="PlaceHolder 5"/>
          <p:cNvSpPr>
            <a:spLocks noGrp="1"/>
          </p:cNvSpPr>
          <p:nvPr>
            <p:ph/>
          </p:nvPr>
        </p:nvSpPr>
        <p:spPr>
          <a:xfrm>
            <a:off x="324000" y="428364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 name="PlaceHolder 6"/>
          <p:cNvSpPr>
            <a:spLocks noGrp="1"/>
          </p:cNvSpPr>
          <p:nvPr>
            <p:ph/>
          </p:nvPr>
        </p:nvSpPr>
        <p:spPr>
          <a:xfrm>
            <a:off x="3172680" y="428364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1" name="PlaceHolder 7"/>
          <p:cNvSpPr>
            <a:spLocks noGrp="1"/>
          </p:cNvSpPr>
          <p:nvPr>
            <p:ph/>
          </p:nvPr>
        </p:nvSpPr>
        <p:spPr>
          <a:xfrm>
            <a:off x="6021360" y="4283640"/>
            <a:ext cx="27126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9" name="PlaceHolder 8"/>
          <p:cNvSpPr>
            <a:spLocks noGrp="1"/>
          </p:cNvSpPr>
          <p:nvPr>
            <p:ph type="sldNum" idx="2"/>
          </p:nvPr>
        </p:nvSpPr>
        <p:spPr/>
        <p:txBody>
          <a:bodyPr/>
          <a:p>
            <a:fld id="{B28B9775-5555-41CB-A9D9-C0E36AB16C0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7" name="PlaceHolder 2"/>
          <p:cNvSpPr>
            <a:spLocks noGrp="1"/>
          </p:cNvSpPr>
          <p:nvPr>
            <p:ph type="subTitle"/>
          </p:nvPr>
        </p:nvSpPr>
        <p:spPr>
          <a:xfrm>
            <a:off x="324000" y="1989000"/>
            <a:ext cx="8424720" cy="4392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07D6A224-384A-4C83-A45A-6C598B62F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9" name="PlaceHolder 2"/>
          <p:cNvSpPr>
            <a:spLocks noGrp="1"/>
          </p:cNvSpPr>
          <p:nvPr>
            <p:ph/>
          </p:nvPr>
        </p:nvSpPr>
        <p:spPr>
          <a:xfrm>
            <a:off x="324000" y="1989000"/>
            <a:ext cx="8424720" cy="439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 name="PlaceHolder 3"/>
          <p:cNvSpPr>
            <a:spLocks noGrp="1"/>
          </p:cNvSpPr>
          <p:nvPr>
            <p:ph type="sldNum" idx="2"/>
          </p:nvPr>
        </p:nvSpPr>
        <p:spPr/>
        <p:txBody>
          <a:bodyPr/>
          <a:p>
            <a:fld id="{99382935-3351-43C5-946C-81737A2F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11" name="PlaceHolder 2"/>
          <p:cNvSpPr>
            <a:spLocks noGrp="1"/>
          </p:cNvSpPr>
          <p:nvPr>
            <p:ph/>
          </p:nvPr>
        </p:nvSpPr>
        <p:spPr>
          <a:xfrm>
            <a:off x="324000" y="1989000"/>
            <a:ext cx="4111200" cy="439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2" name="PlaceHolder 3"/>
          <p:cNvSpPr>
            <a:spLocks noGrp="1"/>
          </p:cNvSpPr>
          <p:nvPr>
            <p:ph/>
          </p:nvPr>
        </p:nvSpPr>
        <p:spPr>
          <a:xfrm>
            <a:off x="4641120" y="1989000"/>
            <a:ext cx="4111200" cy="439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 name="PlaceHolder 4"/>
          <p:cNvSpPr>
            <a:spLocks noGrp="1"/>
          </p:cNvSpPr>
          <p:nvPr>
            <p:ph type="sldNum" idx="2"/>
          </p:nvPr>
        </p:nvSpPr>
        <p:spPr/>
        <p:txBody>
          <a:bodyPr/>
          <a:p>
            <a:fld id="{2DE444CF-9E61-48D4-844A-699C25EE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3" name="PlaceHolder 2"/>
          <p:cNvSpPr>
            <a:spLocks noGrp="1"/>
          </p:cNvSpPr>
          <p:nvPr>
            <p:ph type="sldNum" idx="2"/>
          </p:nvPr>
        </p:nvSpPr>
        <p:spPr/>
        <p:txBody>
          <a:bodyPr/>
          <a:p>
            <a:fld id="{A5673579-013A-45AC-AAC5-7E54B573D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764640"/>
            <a:ext cx="842472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 name="PlaceHolder 2"/>
          <p:cNvSpPr>
            <a:spLocks noGrp="1"/>
          </p:cNvSpPr>
          <p:nvPr>
            <p:ph type="sldNum" idx="2"/>
          </p:nvPr>
        </p:nvSpPr>
        <p:spPr/>
        <p:txBody>
          <a:bodyPr/>
          <a:p>
            <a:fld id="{5C2EB13D-807D-43DB-A5D3-EC926F405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16" name="PlaceHolder 2"/>
          <p:cNvSpPr>
            <a:spLocks noGrp="1"/>
          </p:cNvSpPr>
          <p:nvPr>
            <p:ph/>
          </p:nvPr>
        </p:nvSpPr>
        <p:spPr>
          <a:xfrm>
            <a:off x="32400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7" name="PlaceHolder 3"/>
          <p:cNvSpPr>
            <a:spLocks noGrp="1"/>
          </p:cNvSpPr>
          <p:nvPr>
            <p:ph/>
          </p:nvPr>
        </p:nvSpPr>
        <p:spPr>
          <a:xfrm>
            <a:off x="4641120" y="1989000"/>
            <a:ext cx="4111200" cy="439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8" name="PlaceHolder 4"/>
          <p:cNvSpPr>
            <a:spLocks noGrp="1"/>
          </p:cNvSpPr>
          <p:nvPr>
            <p:ph/>
          </p:nvPr>
        </p:nvSpPr>
        <p:spPr>
          <a:xfrm>
            <a:off x="324000" y="428364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sldNum" idx="2"/>
          </p:nvPr>
        </p:nvSpPr>
        <p:spPr/>
        <p:txBody>
          <a:bodyPr/>
          <a:p>
            <a:fld id="{9CAC7BA1-A86F-49FA-A72F-44E9EC6C7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20" name="PlaceHolder 2"/>
          <p:cNvSpPr>
            <a:spLocks noGrp="1"/>
          </p:cNvSpPr>
          <p:nvPr>
            <p:ph/>
          </p:nvPr>
        </p:nvSpPr>
        <p:spPr>
          <a:xfrm>
            <a:off x="324000" y="1989000"/>
            <a:ext cx="4111200" cy="43927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1" name="PlaceHolder 3"/>
          <p:cNvSpPr>
            <a:spLocks noGrp="1"/>
          </p:cNvSpPr>
          <p:nvPr>
            <p:ph/>
          </p:nvPr>
        </p:nvSpPr>
        <p:spPr>
          <a:xfrm>
            <a:off x="464112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2" name="PlaceHolder 4"/>
          <p:cNvSpPr>
            <a:spLocks noGrp="1"/>
          </p:cNvSpPr>
          <p:nvPr>
            <p:ph/>
          </p:nvPr>
        </p:nvSpPr>
        <p:spPr>
          <a:xfrm>
            <a:off x="4641120" y="428364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sldNum" idx="2"/>
          </p:nvPr>
        </p:nvSpPr>
        <p:spPr/>
        <p:txBody>
          <a:bodyPr/>
          <a:p>
            <a:fld id="{6A721228-4E2A-4415-B631-D54939B5B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87878"/>
              </a:solidFill>
              <a:latin typeface="Arial"/>
            </a:endParaRPr>
          </a:p>
        </p:txBody>
      </p:sp>
      <p:sp>
        <p:nvSpPr>
          <p:cNvPr id="24" name="PlaceHolder 2"/>
          <p:cNvSpPr>
            <a:spLocks noGrp="1"/>
          </p:cNvSpPr>
          <p:nvPr>
            <p:ph/>
          </p:nvPr>
        </p:nvSpPr>
        <p:spPr>
          <a:xfrm>
            <a:off x="32400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5" name="PlaceHolder 3"/>
          <p:cNvSpPr>
            <a:spLocks noGrp="1"/>
          </p:cNvSpPr>
          <p:nvPr>
            <p:ph/>
          </p:nvPr>
        </p:nvSpPr>
        <p:spPr>
          <a:xfrm>
            <a:off x="4641120" y="1989000"/>
            <a:ext cx="411120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6" name="PlaceHolder 4"/>
          <p:cNvSpPr>
            <a:spLocks noGrp="1"/>
          </p:cNvSpPr>
          <p:nvPr>
            <p:ph/>
          </p:nvPr>
        </p:nvSpPr>
        <p:spPr>
          <a:xfrm>
            <a:off x="324000" y="4283640"/>
            <a:ext cx="8424720" cy="2095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 name="PlaceHolder 5"/>
          <p:cNvSpPr>
            <a:spLocks noGrp="1"/>
          </p:cNvSpPr>
          <p:nvPr>
            <p:ph type="sldNum" idx="2"/>
          </p:nvPr>
        </p:nvSpPr>
        <p:spPr/>
        <p:txBody>
          <a:bodyPr/>
          <a:p>
            <a:fld id="{8A9CF341-D23F-4071-9E03-C83C14D717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top"/>
          <p:cNvPicPr/>
          <p:nvPr/>
        </p:nvPicPr>
        <p:blipFill>
          <a:blip r:embed="rId2"/>
          <a:stretch/>
        </p:blipFill>
        <p:spPr>
          <a:xfrm>
            <a:off x="0" y="0"/>
            <a:ext cx="9144000" cy="895320"/>
          </a:xfrm>
          <a:prstGeom prst="rect">
            <a:avLst/>
          </a:prstGeom>
          <a:ln w="0">
            <a:noFill/>
          </a:ln>
        </p:spPr>
      </p:pic>
      <p:pic>
        <p:nvPicPr>
          <p:cNvPr id="1" name="Picture 8" descr="bottom"/>
          <p:cNvPicPr/>
          <p:nvPr/>
        </p:nvPicPr>
        <p:blipFill>
          <a:blip r:embed="rId3"/>
          <a:stretch/>
        </p:blipFill>
        <p:spPr>
          <a:xfrm>
            <a:off x="0" y="6473880"/>
            <a:ext cx="9144000" cy="384120"/>
          </a:xfrm>
          <a:prstGeom prst="rect">
            <a:avLst/>
          </a:prstGeom>
          <a:ln w="0">
            <a:noFill/>
          </a:ln>
        </p:spPr>
      </p:pic>
      <p:sp>
        <p:nvSpPr>
          <p:cNvPr id="2" name="PlaceHolder 1"/>
          <p:cNvSpPr>
            <a:spLocks noGrp="1"/>
          </p:cNvSpPr>
          <p:nvPr>
            <p:ph type="title"/>
          </p:nvPr>
        </p:nvSpPr>
        <p:spPr>
          <a:xfrm>
            <a:off x="324000" y="764640"/>
            <a:ext cx="8424720" cy="11430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Click to edit the title text format</a:t>
            </a:r>
            <a:endParaRPr b="1" lang="en-US" sz="3200" spc="-1" strike="noStrike">
              <a:solidFill>
                <a:srgbClr val="787878"/>
              </a:solidFill>
              <a:latin typeface="Arial"/>
            </a:endParaRPr>
          </a:p>
        </p:txBody>
      </p:sp>
      <p:sp>
        <p:nvSpPr>
          <p:cNvPr id="3" name="PlaceHolder 2"/>
          <p:cNvSpPr>
            <a:spLocks noGrp="1"/>
          </p:cNvSpPr>
          <p:nvPr>
            <p:ph type="body"/>
          </p:nvPr>
        </p:nvSpPr>
        <p:spPr>
          <a:xfrm>
            <a:off x="324000" y="1989000"/>
            <a:ext cx="8424720" cy="43927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Click to edit the outline text format</a:t>
            </a:r>
            <a:endParaRPr b="0" lang="en-US" sz="1800" spc="-1" strike="noStrike">
              <a:solidFill>
                <a:srgbClr val="000000"/>
              </a:solidFill>
              <a:latin typeface="Arial Unicode MS"/>
            </a:endParaRPr>
          </a:p>
          <a:p>
            <a:pPr lvl="1"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cond Outline Level</a:t>
            </a:r>
            <a:endParaRPr b="0" lang="en-US" sz="1800" spc="-1" strike="noStrike">
              <a:solidFill>
                <a:srgbClr val="000000"/>
              </a:solidFill>
              <a:latin typeface="Arial Unicode MS"/>
            </a:endParaRPr>
          </a:p>
          <a:p>
            <a:pPr lvl="2" marL="343080" indent="-343080">
              <a:spcBef>
                <a:spcPts val="451"/>
              </a:spcBef>
              <a:buClr>
                <a:srgbClr val="ffcc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Third Outline Level</a:t>
            </a:r>
            <a:endParaRPr b="0" lang="en-US" sz="1800" spc="-1" strike="noStrike">
              <a:solidFill>
                <a:srgbClr val="000000"/>
              </a:solidFill>
              <a:latin typeface="Arial Unicode MS"/>
            </a:endParaRPr>
          </a:p>
          <a:p>
            <a:pPr lvl="3"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ourth Outline Level</a:t>
            </a:r>
            <a:endParaRPr b="0" lang="en-US" sz="1800" spc="-1" strike="noStrike">
              <a:solidFill>
                <a:srgbClr val="000000"/>
              </a:solidFill>
              <a:latin typeface="Arial Unicode MS"/>
            </a:endParaRPr>
          </a:p>
          <a:p>
            <a:pPr lvl="4" marL="343080" indent="-343080">
              <a:spcBef>
                <a:spcPts val="451"/>
              </a:spcBef>
              <a:buClr>
                <a:srgbClr val="ffcc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Fifth Outline Level</a:t>
            </a:r>
            <a:endParaRPr b="0" lang="en-US" sz="1800" spc="-1" strike="noStrike">
              <a:solidFill>
                <a:srgbClr val="000000"/>
              </a:solidFill>
              <a:latin typeface="Arial Unicode MS"/>
            </a:endParaRPr>
          </a:p>
          <a:p>
            <a:pPr lvl="5" marL="343080" indent="-34308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ixth Outline Level</a:t>
            </a:r>
            <a:endParaRPr b="0" lang="en-US" sz="1800" spc="-1" strike="noStrike">
              <a:solidFill>
                <a:srgbClr val="000000"/>
              </a:solidFill>
              <a:latin typeface="Arial Unicode MS"/>
            </a:endParaRPr>
          </a:p>
          <a:p>
            <a:pPr lvl="6" marL="343080" indent="-343080">
              <a:spcBef>
                <a:spcPts val="45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rPr>
              <a:t>Seventh Outline Level</a:t>
            </a:r>
            <a:endParaRPr b="0" lang="en-US" sz="1800" spc="-1" strike="noStrike">
              <a:solidFill>
                <a:srgbClr val="000000"/>
              </a:solidFill>
              <a:latin typeface="Arial Unicode MS"/>
            </a:endParaRPr>
          </a:p>
        </p:txBody>
      </p:sp>
      <p:sp>
        <p:nvSpPr>
          <p:cNvPr id="4" name="PlaceHolder 3"/>
          <p:cNvSpPr>
            <a:spLocks noGrp="1"/>
          </p:cNvSpPr>
          <p:nvPr>
            <p:ph type="dt" idx="1"/>
          </p:nvPr>
        </p:nvSpPr>
        <p:spPr>
          <a:xfrm>
            <a:off x="324000" y="6552720"/>
            <a:ext cx="227808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sldNum" idx="2"/>
          </p:nvPr>
        </p:nvSpPr>
        <p:spPr>
          <a:xfrm>
            <a:off x="6516720" y="6552720"/>
            <a:ext cx="2232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808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396A-E2FB-4027-BA0A-504EF8094815}" type="slidenum">
              <a:rPr b="0" lang="en-US" sz="1000" spc="-1" strike="noStrike">
                <a:solidFill>
                  <a:srgbClr val="008080"/>
                </a:solidFill>
                <a:latin typeface="Arial"/>
                <a:ea typeface="Arial"/>
              </a:rPr>
              <a:t>&lt;number&gt;</a:t>
            </a:fld>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mailto:M.Matteini@unido.org" TargetMode="External"/><Relationship Id="rId2" Type="http://schemas.openxmlformats.org/officeDocument/2006/relationships/hyperlink" Target="mailto:M.Khoroshev@unido.org"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30120" y="1383840"/>
            <a:ext cx="8483760" cy="187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Energy Management in Industry: Issues &amp; Opportunities</a:t>
            </a:r>
            <a:endParaRPr b="1" lang="en-US" sz="3600" spc="-1" strike="noStrike">
              <a:solidFill>
                <a:srgbClr val="787878"/>
              </a:solidFill>
              <a:latin typeface="Arial"/>
            </a:endParaRPr>
          </a:p>
        </p:txBody>
      </p:sp>
      <p:sp>
        <p:nvSpPr>
          <p:cNvPr id="50" name="Rectangle 3"/>
          <p:cNvSpPr/>
          <p:nvPr/>
        </p:nvSpPr>
        <p:spPr>
          <a:xfrm>
            <a:off x="1079640" y="3629160"/>
            <a:ext cx="6914880" cy="2603520"/>
          </a:xfrm>
          <a:prstGeom prst="rect">
            <a:avLst/>
          </a:prstGeom>
          <a:noFill/>
          <a:ln w="0">
            <a:noFill/>
          </a:ln>
        </p:spPr>
        <p:style>
          <a:lnRef idx="0"/>
          <a:fillRef idx="0"/>
          <a:effectRef idx="0"/>
          <a:fontRef idx="minor"/>
        </p:style>
        <p:txBody>
          <a:bodyPr lIns="90000" rIns="90000" tIns="46800" bIns="46800" anchor="t">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Ronald Vermeeren</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UNIDO Industrial Energy Efficiency Expert,</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NL Agency</a:t>
            </a: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Based also on material from Liam McLaughlin and Bill Meffert</a:t>
            </a:r>
            <a:endParaRPr b="1"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UNIDO EnMS Experts</a:t>
            </a:r>
            <a:endParaRPr b="1" lang="en-US" sz="18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Moscow, 19 November 2010</a:t>
            </a:r>
            <a:endParaRPr b="1"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4"/>
          <p:cNvSpPr/>
          <p:nvPr/>
        </p:nvSpPr>
        <p:spPr>
          <a:xfrm>
            <a:off x="212760" y="1068480"/>
            <a:ext cx="8817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Comparison of Energy Intensity per GDP (PPP)</a:t>
            </a:r>
            <a:endParaRPr b="1" lang="en-US" sz="2600" spc="-1" strike="noStrike">
              <a:solidFill>
                <a:srgbClr val="ffffff"/>
              </a:solidFill>
              <a:latin typeface="Arial"/>
            </a:endParaRPr>
          </a:p>
        </p:txBody>
      </p:sp>
      <p:sp>
        <p:nvSpPr>
          <p:cNvPr id="110" name="Line 5"/>
          <p:cNvSpPr/>
          <p:nvPr/>
        </p:nvSpPr>
        <p:spPr>
          <a:xfrm flipH="1">
            <a:off x="3123720" y="3733920"/>
            <a:ext cx="11430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11" name="" descr=""/>
          <p:cNvPicPr/>
          <p:nvPr/>
        </p:nvPicPr>
        <p:blipFill>
          <a:blip r:embed="rId1"/>
          <a:srcRect l="5906" t="27071" r="3692" b="9352"/>
          <a:stretch/>
        </p:blipFill>
        <p:spPr>
          <a:xfrm>
            <a:off x="206280" y="1741320"/>
            <a:ext cx="8815320" cy="4653000"/>
          </a:xfrm>
          <a:prstGeom prst="rect">
            <a:avLst/>
          </a:prstGeom>
          <a:ln w="0">
            <a:noFill/>
          </a:ln>
        </p:spPr>
      </p:pic>
      <p:sp>
        <p:nvSpPr>
          <p:cNvPr id="112" name=""/>
          <p:cNvSpPr/>
          <p:nvPr/>
        </p:nvSpPr>
        <p:spPr>
          <a:xfrm>
            <a:off x="2087640" y="4189320"/>
            <a:ext cx="118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Arial"/>
              </a:rPr>
              <a:t>Germany</a:t>
            </a:r>
            <a:endParaRPr b="1" lang="en-US" sz="1400" spc="-1" strike="noStrike">
              <a:solidFill>
                <a:srgbClr val="ffffff"/>
              </a:solidFill>
              <a:latin typeface="Arial"/>
            </a:endParaRPr>
          </a:p>
        </p:txBody>
      </p:sp>
      <p:sp>
        <p:nvSpPr>
          <p:cNvPr id="113" name=""/>
          <p:cNvSpPr/>
          <p:nvPr/>
        </p:nvSpPr>
        <p:spPr>
          <a:xfrm>
            <a:off x="4191120" y="4081320"/>
            <a:ext cx="1596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80"/>
                </a:solidFill>
                <a:latin typeface="Arial"/>
              </a:rPr>
              <a:t>United States</a:t>
            </a:r>
            <a:endParaRPr b="1" lang="en-US" sz="1400" spc="-1" strike="noStrike">
              <a:solidFill>
                <a:srgbClr val="ffffff"/>
              </a:solidFill>
              <a:latin typeface="Arial"/>
            </a:endParaRPr>
          </a:p>
        </p:txBody>
      </p:sp>
      <p:sp>
        <p:nvSpPr>
          <p:cNvPr id="114" name=""/>
          <p:cNvSpPr/>
          <p:nvPr/>
        </p:nvSpPr>
        <p:spPr>
          <a:xfrm>
            <a:off x="2701800" y="4640400"/>
            <a:ext cx="42840" cy="423720"/>
          </a:xfrm>
          <a:prstGeom prst="rect">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
          <p:cNvSpPr/>
          <p:nvPr/>
        </p:nvSpPr>
        <p:spPr>
          <a:xfrm>
            <a:off x="7137360" y="3427560"/>
            <a:ext cx="750960" cy="307080"/>
          </a:xfrm>
          <a:prstGeom prst="rect">
            <a:avLst/>
          </a:prstGeom>
          <a:solidFill>
            <a:srgbClr val="ffffff"/>
          </a:solidFill>
          <a:ln w="0">
            <a:noFill/>
          </a:ln>
        </p:spPr>
        <p:style>
          <a:lnRef idx="0"/>
          <a:fillRef idx="0"/>
          <a:effectRef idx="0"/>
          <a:fontRef idx="minor"/>
        </p:style>
        <p:txBody>
          <a:bodyPr lIns="0" rIns="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ussia</a:t>
            </a:r>
            <a:endParaRPr b="1" lang="en-US" sz="1400" spc="-1" strike="noStrike">
              <a:solidFill>
                <a:srgbClr val="ffffff"/>
              </a:solidFill>
              <a:latin typeface="Arial"/>
            </a:endParaRPr>
          </a:p>
        </p:txBody>
      </p:sp>
      <p:sp>
        <p:nvSpPr>
          <p:cNvPr id="116" name=""/>
          <p:cNvSpPr/>
          <p:nvPr/>
        </p:nvSpPr>
        <p:spPr>
          <a:xfrm>
            <a:off x="4888080" y="4464000"/>
            <a:ext cx="42840" cy="603360"/>
          </a:xfrm>
          <a:prstGeom prst="rect">
            <a:avLst/>
          </a:prstGeom>
          <a:solidFill>
            <a:srgbClr val="800080"/>
          </a:solidFill>
          <a:ln w="93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49400" y="947520"/>
            <a:ext cx="7162560" cy="6094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d6d6d"/>
                </a:solidFill>
                <a:latin typeface="Verdana"/>
              </a:rPr>
              <a:t>Cost of New Electricity Resources</a:t>
            </a:r>
            <a:endParaRPr b="1" lang="en-US" sz="2800" spc="-1" strike="noStrike">
              <a:solidFill>
                <a:srgbClr val="787878"/>
              </a:solidFill>
              <a:latin typeface="Arial"/>
            </a:endParaRPr>
          </a:p>
        </p:txBody>
      </p:sp>
      <p:sp>
        <p:nvSpPr>
          <p:cNvPr id="118" name="Text Box 3"/>
          <p:cNvSpPr/>
          <p:nvPr/>
        </p:nvSpPr>
        <p:spPr>
          <a:xfrm>
            <a:off x="2735640" y="6019920"/>
            <a:ext cx="3428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CEEE 2008, EPRI 2006 &amp; UCS 2008</a:t>
            </a:r>
            <a:endParaRPr b="1" lang="en-US" sz="1200" spc="-1" strike="noStrike">
              <a:solidFill>
                <a:srgbClr val="ffffff"/>
              </a:solidFill>
              <a:latin typeface="Arial"/>
            </a:endParaRPr>
          </a:p>
        </p:txBody>
      </p:sp>
      <p:pic>
        <p:nvPicPr>
          <p:cNvPr id="119" name="Picture 4" descr=""/>
          <p:cNvPicPr/>
          <p:nvPr/>
        </p:nvPicPr>
        <p:blipFill>
          <a:blip r:embed="rId1"/>
          <a:srcRect l="0" t="10525" r="0" b="0"/>
          <a:stretch/>
        </p:blipFill>
        <p:spPr>
          <a:xfrm>
            <a:off x="1109520" y="1379520"/>
            <a:ext cx="7086600" cy="5002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Climate Change - What needs to be done </a:t>
            </a:r>
            <a:endParaRPr b="1" lang="en-US" sz="3200" spc="-1" strike="noStrike">
              <a:solidFill>
                <a:srgbClr val="787878"/>
              </a:solidFill>
              <a:latin typeface="Arial"/>
            </a:endParaRPr>
          </a:p>
        </p:txBody>
      </p:sp>
      <p:sp>
        <p:nvSpPr>
          <p:cNvPr id="121" name="PlaceHolder 2"/>
          <p:cNvSpPr>
            <a:spLocks noGrp="1"/>
          </p:cNvSpPr>
          <p:nvPr>
            <p:ph/>
          </p:nvPr>
        </p:nvSpPr>
        <p:spPr>
          <a:xfrm>
            <a:off x="406080" y="1561680"/>
            <a:ext cx="8737560" cy="584280"/>
          </a:xfrm>
          <a:prstGeom prst="rect">
            <a:avLst/>
          </a:prstGeom>
          <a:noFill/>
          <a:ln w="0">
            <a:noFill/>
          </a:ln>
        </p:spPr>
        <p:txBody>
          <a:bodyPr anchor="t">
            <a:normAutofit fontScale="84000"/>
          </a:bodyPr>
          <a:p>
            <a:pPr indent="0">
              <a:lnSpc>
                <a:spcPct val="85000"/>
              </a:lnSpc>
              <a:spcBef>
                <a:spcPts val="17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energy-related CO</a:t>
            </a:r>
            <a:r>
              <a:rPr b="0" lang="en-US" sz="2400" spc="-1" strike="noStrike" baseline="-25000">
                <a:solidFill>
                  <a:srgbClr val="000000"/>
                </a:solidFill>
                <a:latin typeface="Arial"/>
              </a:rPr>
              <a:t>2</a:t>
            </a:r>
            <a:r>
              <a:rPr b="0" lang="en-US" sz="2400" spc="-1" strike="noStrike">
                <a:solidFill>
                  <a:srgbClr val="000000"/>
                </a:solidFill>
                <a:latin typeface="Arial"/>
              </a:rPr>
              <a:t> emissions in the climate-policy scenarios</a:t>
            </a:r>
            <a:r>
              <a:rPr b="0" lang="en-US" sz="2600" spc="-1" strike="noStrike">
                <a:solidFill>
                  <a:srgbClr val="000000"/>
                </a:solidFill>
                <a:latin typeface="Arial Unicode MS"/>
              </a:rPr>
              <a:t> </a:t>
            </a:r>
            <a:endParaRPr b="0" lang="en-US" sz="2600" spc="-1" strike="noStrike">
              <a:solidFill>
                <a:srgbClr val="000000"/>
              </a:solidFill>
              <a:latin typeface="Arial Unicode MS"/>
            </a:endParaRPr>
          </a:p>
        </p:txBody>
      </p:sp>
      <p:sp>
        <p:nvSpPr>
          <p:cNvPr id="122" name="Rectangle 4"/>
          <p:cNvSpPr/>
          <p:nvPr/>
        </p:nvSpPr>
        <p:spPr>
          <a:xfrm>
            <a:off x="406440" y="5486400"/>
            <a:ext cx="8407440" cy="952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While technological progress is needed to achieve some emissions </a:t>
            </a:r>
            <a:endParaRPr b="1" lang="en-US" sz="2000" spc="-1" strike="noStrike">
              <a:solidFill>
                <a:srgbClr val="ffffff"/>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ductions, efficiency gains and deployment of existing low-carbon </a:t>
            </a:r>
            <a:endParaRPr b="1" lang="en-US" sz="2000" spc="-1" strike="noStrike">
              <a:solidFill>
                <a:srgbClr val="ffffff"/>
              </a:solidFill>
              <a:latin typeface="Arial"/>
            </a:endParaRPr>
          </a:p>
          <a:p>
            <a:pPr marL="343080" indent="-34308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nergy account for most of the savings</a:t>
            </a:r>
            <a:endParaRPr b="1" lang="en-US" sz="2000" spc="-1" strike="noStrike">
              <a:solidFill>
                <a:srgbClr val="ffffff"/>
              </a:solidFill>
              <a:latin typeface="Arial"/>
            </a:endParaRPr>
          </a:p>
        </p:txBody>
      </p:sp>
      <p:grpSp>
        <p:nvGrpSpPr>
          <p:cNvPr id="123" name="Group 5"/>
          <p:cNvGrpSpPr/>
          <p:nvPr/>
        </p:nvGrpSpPr>
        <p:grpSpPr>
          <a:xfrm>
            <a:off x="1122480" y="2279520"/>
            <a:ext cx="7165800" cy="3175200"/>
            <a:chOff x="1122480" y="2279520"/>
            <a:chExt cx="7165800" cy="3175200"/>
          </a:xfrm>
        </p:grpSpPr>
        <p:pic>
          <p:nvPicPr>
            <p:cNvPr id="124" name="Picture 6" descr=""/>
            <p:cNvPicPr/>
            <p:nvPr/>
          </p:nvPicPr>
          <p:blipFill>
            <a:blip r:embed="rId1"/>
            <a:srcRect l="3375" t="35631" r="1875" b="12189"/>
            <a:stretch/>
          </p:blipFill>
          <p:spPr>
            <a:xfrm>
              <a:off x="1122480" y="2279520"/>
              <a:ext cx="7165800" cy="3154320"/>
            </a:xfrm>
            <a:prstGeom prst="rect">
              <a:avLst/>
            </a:prstGeom>
            <a:ln w="0">
              <a:noFill/>
            </a:ln>
          </p:spPr>
        </p:pic>
        <p:sp>
          <p:nvSpPr>
            <p:cNvPr id="125" name="Text Box 7"/>
            <p:cNvSpPr/>
            <p:nvPr/>
          </p:nvSpPr>
          <p:spPr>
            <a:xfrm>
              <a:off x="6730920" y="4813200"/>
              <a:ext cx="15361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urce: IEA World Energy  Outlook 2008</a:t>
              </a:r>
              <a:endParaRPr b="1" lang="en-US" sz="1200" spc="-1" strike="noStrike">
                <a:solidFill>
                  <a:srgbClr val="ffffff"/>
                </a:solidFill>
                <a:latin typeface="Arial"/>
              </a:endParaRPr>
            </a:p>
          </p:txBody>
        </p:sp>
        <p:sp>
          <p:nvSpPr>
            <p:cNvPr id="126" name="Rectangle 8"/>
            <p:cNvSpPr/>
            <p:nvPr/>
          </p:nvSpPr>
          <p:spPr>
            <a:xfrm>
              <a:off x="6806880" y="3403440"/>
              <a:ext cx="1333440" cy="254160"/>
            </a:xfrm>
            <a:prstGeom prst="rect">
              <a:avLst/>
            </a:prstGeom>
            <a:noFill/>
            <a:ln w="316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7" name="Rectangle 9"/>
            <p:cNvSpPr/>
            <p:nvPr/>
          </p:nvSpPr>
          <p:spPr>
            <a:xfrm>
              <a:off x="6387840" y="3822480"/>
              <a:ext cx="329760" cy="254160"/>
            </a:xfrm>
            <a:prstGeom prst="rect">
              <a:avLst/>
            </a:prstGeom>
            <a:noFill/>
            <a:ln w="3168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7560" y="905040"/>
            <a:ext cx="6781680" cy="598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87878"/>
                </a:solidFill>
                <a:latin typeface="Arial"/>
              </a:rPr>
              <a:t>Energy Efficiency a Major Opportunity</a:t>
            </a:r>
            <a:endParaRPr b="1" lang="en-US" sz="2600" spc="-1" strike="noStrike">
              <a:solidFill>
                <a:srgbClr val="787878"/>
              </a:solidFill>
              <a:latin typeface="Arial"/>
            </a:endParaRPr>
          </a:p>
        </p:txBody>
      </p:sp>
      <p:sp>
        <p:nvSpPr>
          <p:cNvPr id="129" name="PlaceHolder 2"/>
          <p:cNvSpPr>
            <a:spLocks noGrp="1"/>
          </p:cNvSpPr>
          <p:nvPr>
            <p:ph/>
          </p:nvPr>
        </p:nvSpPr>
        <p:spPr>
          <a:xfrm>
            <a:off x="151920" y="1473120"/>
            <a:ext cx="5985000" cy="4897440"/>
          </a:xfrm>
          <a:prstGeom prst="rect">
            <a:avLst/>
          </a:prstGeom>
          <a:noFill/>
          <a:ln w="0">
            <a:noFill/>
          </a:ln>
        </p:spPr>
        <p:txBody>
          <a:bodyPr anchor="t">
            <a:normAutofit fontScale="98000"/>
          </a:bodyPr>
          <a:p>
            <a:pPr indent="0">
              <a:lnSpc>
                <a:spcPct val="100000"/>
              </a:lnSpc>
              <a:spcBef>
                <a:spcPts val="2251"/>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a:rPr>
              <a:t>Existing technologies </a:t>
            </a:r>
            <a:r>
              <a:rPr b="0" i="1" lang="en-US" sz="2200" spc="-1" strike="noStrike">
                <a:solidFill>
                  <a:srgbClr val="000000"/>
                </a:solidFill>
                <a:latin typeface="Arial"/>
              </a:rPr>
              <a:t>with an attractive internal rate of return</a:t>
            </a:r>
            <a:r>
              <a:rPr b="0" lang="en-US" sz="2200" spc="-1" strike="noStrike">
                <a:solidFill>
                  <a:srgbClr val="000000"/>
                </a:solidFill>
                <a:latin typeface="Arial"/>
              </a:rPr>
              <a:t> can cut the growth in global energy demand by half or more within 15 years.</a:t>
            </a:r>
            <a:br>
              <a:rPr sz="2000"/>
            </a:br>
            <a:r>
              <a:rPr b="0" lang="en-US" sz="20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i="1" lang="en-US" sz="1600" spc="-1" strike="noStrike">
                <a:solidFill>
                  <a:srgbClr val="000000"/>
                </a:solidFill>
                <a:latin typeface="Arial Unicode MS"/>
              </a:rPr>
              <a:t>Curbing Global Energy Demand</a:t>
            </a:r>
            <a:r>
              <a:rPr b="0" i="1" lang="en-US" sz="1600" spc="-1" strike="noStrike">
                <a:solidFill>
                  <a:srgbClr val="000000"/>
                </a:solidFill>
                <a:latin typeface="Arial Unicode MS"/>
              </a:rPr>
              <a:t>	</a:t>
            </a:r>
            <a:r>
              <a:rPr b="0" i="1" lang="en-US" sz="1600" spc="-1" strike="noStrike">
                <a:solidFill>
                  <a:srgbClr val="000000"/>
                </a:solidFill>
                <a:latin typeface="Arial Unicode MS"/>
              </a:rPr>
              <a:t>Growth</a:t>
            </a:r>
            <a:r>
              <a:rPr b="0" lang="en-US" sz="1600" spc="-1" strike="noStrike">
                <a:solidFill>
                  <a:srgbClr val="000000"/>
                </a:solidFill>
                <a:latin typeface="Arial Unicode MS"/>
              </a:rPr>
              <a:t>,</a:t>
            </a:r>
            <a:br>
              <a:rPr sz="1600"/>
            </a:b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	</a:t>
            </a:r>
            <a:r>
              <a:rPr b="0" lang="en-US" sz="1600" spc="-1" strike="noStrike">
                <a:solidFill>
                  <a:srgbClr val="000000"/>
                </a:solidFill>
                <a:latin typeface="Arial Unicode MS"/>
              </a:rPr>
              <a:t>McKinsey &amp; Co., May 2007</a:t>
            </a:r>
            <a:r>
              <a:rPr b="0" lang="en-US" sz="2000" spc="-1" strike="noStrike">
                <a:solidFill>
                  <a:srgbClr val="000000"/>
                </a:solidFill>
                <a:latin typeface="Arial Unicode MS"/>
              </a:rPr>
              <a:t> </a:t>
            </a:r>
            <a:endParaRPr b="0" lang="en-US" sz="2000" spc="-1" strike="noStrike">
              <a:solidFill>
                <a:srgbClr val="000000"/>
              </a:solidFill>
              <a:latin typeface="Arial Unicode MS"/>
            </a:endParaRPr>
          </a:p>
          <a:p>
            <a:pPr indent="0">
              <a:spcBef>
                <a:spcPts val="11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Unicode MS"/>
              </a:rPr>
              <a:t>Industries around the globe can cut CO</a:t>
            </a:r>
            <a:r>
              <a:rPr b="0" lang="en-US" sz="2200" spc="-1" strike="noStrike" baseline="-25000">
                <a:solidFill>
                  <a:srgbClr val="000000"/>
                </a:solidFill>
                <a:latin typeface="Arial Unicode MS"/>
              </a:rPr>
              <a:t>2</a:t>
            </a:r>
            <a:r>
              <a:rPr b="0" lang="en-US" sz="2200" spc="-1" strike="noStrike">
                <a:solidFill>
                  <a:srgbClr val="000000"/>
                </a:solidFill>
                <a:latin typeface="Arial Unicode MS"/>
              </a:rPr>
              <a:t> emissions 19 to 31% using </a:t>
            </a:r>
            <a:r>
              <a:rPr b="0" i="1" lang="en-US" sz="2200" spc="-1" strike="noStrike">
                <a:solidFill>
                  <a:srgbClr val="000000"/>
                </a:solidFill>
                <a:latin typeface="Arial Unicode MS"/>
              </a:rPr>
              <a:t>proven </a:t>
            </a:r>
            <a:r>
              <a:rPr b="0" lang="en-US" sz="2200" spc="-1" strike="noStrike">
                <a:solidFill>
                  <a:srgbClr val="000000"/>
                </a:solidFill>
                <a:latin typeface="Arial Unicode MS"/>
              </a:rPr>
              <a:t>technologies and practices.</a:t>
            </a:r>
            <a:br>
              <a:rPr sz="2000"/>
            </a:br>
            <a:r>
              <a:rPr b="0" lang="en-US" sz="2000" spc="-1" strike="noStrike">
                <a:solidFill>
                  <a:srgbClr val="000000"/>
                </a:solidFill>
                <a:latin typeface="Arial Unicode MS"/>
              </a:rPr>
              <a:t>	</a:t>
            </a:r>
            <a:r>
              <a:rPr b="0" lang="en-US" sz="2000" spc="-1" strike="noStrike">
                <a:solidFill>
                  <a:srgbClr val="000000"/>
                </a:solidFill>
                <a:latin typeface="Arial Unicode MS"/>
              </a:rPr>
              <a:t>	</a:t>
            </a:r>
            <a:r>
              <a:rPr b="0" lang="en-US" sz="1600" spc="-1" strike="noStrike">
                <a:solidFill>
                  <a:srgbClr val="000000"/>
                </a:solidFill>
                <a:latin typeface="Arial Unicode MS"/>
              </a:rPr>
              <a:t>-- International Energy Agency, 2007 </a:t>
            </a:r>
            <a:endParaRPr b="0" lang="en-US" sz="1600" spc="-1" strike="noStrike">
              <a:solidFill>
                <a:srgbClr val="000000"/>
              </a:solidFill>
              <a:latin typeface="Arial Unicode MS"/>
            </a:endParaRPr>
          </a:p>
          <a:p>
            <a:pPr indent="0">
              <a:spcBef>
                <a:spcPts val="1199"/>
              </a:spcBef>
              <a:buNone/>
              <a:tabLst>
                <a:tab algn="l" pos="0"/>
                <a:tab algn="l" pos="29052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Lst>
            </a:pPr>
            <a:r>
              <a:rPr b="0" lang="en-US" sz="2200" spc="-1" strike="noStrike">
                <a:solidFill>
                  <a:srgbClr val="000000"/>
                </a:solidFill>
                <a:latin typeface="Arial Unicode MS"/>
              </a:rPr>
              <a:t>“</a:t>
            </a:r>
            <a:r>
              <a:rPr b="0" lang="en-US" sz="2200" spc="-1" strike="noStrike">
                <a:solidFill>
                  <a:srgbClr val="000000"/>
                </a:solidFill>
                <a:latin typeface="Arial Unicode MS"/>
              </a:rPr>
              <a:t>Energy Efficiency is the most promising means to reduce greenhouse gases in the short term.”</a:t>
            </a:r>
            <a:endParaRPr b="0" lang="en-US" sz="2200" spc="-1" strike="noStrike">
              <a:solidFill>
                <a:srgbClr val="000000"/>
              </a:solidFill>
              <a:latin typeface="Arial Unicode MS"/>
            </a:endParaRPr>
          </a:p>
          <a:p>
            <a:pPr lvl="1" marL="500760" indent="0">
              <a:spcBef>
                <a:spcPts val="349"/>
              </a:spcBef>
              <a:buNone/>
              <a:tabLst>
                <a:tab algn="l" pos="0"/>
                <a:tab algn="l" pos="581040"/>
                <a:tab algn="l" pos="871560"/>
                <a:tab algn="l" pos="1162080"/>
                <a:tab algn="l" pos="1452600"/>
                <a:tab algn="l" pos="1743120"/>
                <a:tab algn="l" pos="2033640"/>
                <a:tab algn="l" pos="2324160"/>
                <a:tab algn="l" pos="2614680"/>
                <a:tab algn="l" pos="2905200"/>
                <a:tab algn="l" pos="3195720"/>
                <a:tab algn="l" pos="3486240"/>
                <a:tab algn="l" pos="3776760"/>
                <a:tab algn="l" pos="4067280"/>
                <a:tab algn="l" pos="4357800"/>
                <a:tab algn="l" pos="4648320"/>
                <a:tab algn="l" pos="4938840"/>
                <a:tab algn="l" pos="5229360"/>
                <a:tab algn="l" pos="5519880"/>
                <a:tab algn="l" pos="5810400"/>
                <a:tab algn="l" pos="6100920"/>
              </a:tabLst>
            </a:pPr>
            <a:r>
              <a:rPr b="0" i="1" lang="en-US" sz="1400" spc="-1" strike="noStrike">
                <a:solidFill>
                  <a:srgbClr val="000000"/>
                </a:solidFill>
                <a:latin typeface="Arial"/>
              </a:rPr>
              <a:t>-Yvo de Boer, Former Exec. Secretary UNFCC</a:t>
            </a:r>
            <a:endParaRPr b="0" lang="en-US" sz="1400" spc="-1" strike="noStrike">
              <a:solidFill>
                <a:srgbClr val="ffffff"/>
              </a:solidFill>
              <a:latin typeface="Arial"/>
            </a:endParaRPr>
          </a:p>
        </p:txBody>
      </p:sp>
      <p:pic>
        <p:nvPicPr>
          <p:cNvPr id="130" name="Picture 4" descr=""/>
          <p:cNvPicPr/>
          <p:nvPr/>
        </p:nvPicPr>
        <p:blipFill>
          <a:blip r:embed="rId1"/>
          <a:stretch/>
        </p:blipFill>
        <p:spPr>
          <a:xfrm>
            <a:off x="6238800" y="1752480"/>
            <a:ext cx="2685960" cy="39531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50840" y="883800"/>
            <a:ext cx="5506920" cy="893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87878"/>
                </a:solidFill>
                <a:latin typeface="Arial"/>
              </a:rPr>
              <a:t>Energy Management Results</a:t>
            </a:r>
            <a:r>
              <a:rPr b="1" lang="en-US" sz="3200" spc="-1" strike="noStrike">
                <a:solidFill>
                  <a:srgbClr val="000099"/>
                </a:solidFill>
                <a:latin typeface="Arial"/>
              </a:rPr>
              <a:t> </a:t>
            </a:r>
            <a:endParaRPr b="1" lang="en-US" sz="3200" spc="-1" strike="noStrike">
              <a:solidFill>
                <a:srgbClr val="787878"/>
              </a:solidFill>
              <a:latin typeface="Arial"/>
            </a:endParaRPr>
          </a:p>
        </p:txBody>
      </p:sp>
      <p:sp>
        <p:nvSpPr>
          <p:cNvPr id="132" name="PlaceHolder 2"/>
          <p:cNvSpPr>
            <a:spLocks noGrp="1"/>
          </p:cNvSpPr>
          <p:nvPr>
            <p:ph/>
          </p:nvPr>
        </p:nvSpPr>
        <p:spPr>
          <a:xfrm>
            <a:off x="600120" y="1706400"/>
            <a:ext cx="7935840" cy="4430880"/>
          </a:xfrm>
          <a:prstGeom prst="rect">
            <a:avLst/>
          </a:prstGeom>
          <a:noFill/>
          <a:ln w="0">
            <a:noFill/>
          </a:ln>
        </p:spPr>
        <p:txBody>
          <a:bodyPr anchor="t">
            <a:normAutofit/>
          </a:bodyPr>
          <a:p>
            <a:pPr indent="0">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Companies who have used energy management to achieve major energy intensity* improvements include:</a:t>
            </a:r>
            <a:endParaRPr b="0" lang="en-US" sz="2200" spc="-1" strike="noStrike">
              <a:solidFill>
                <a:srgbClr val="000000"/>
              </a:solidFill>
              <a:latin typeface="Arial Unicode MS"/>
            </a:endParaRPr>
          </a:p>
          <a:p>
            <a:pPr lvl="1" marL="741240" indent="-468360">
              <a:lnSpc>
                <a:spcPct val="95000"/>
              </a:lnSpc>
              <a:spcBef>
                <a:spcPts val="11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 Chemical</a:t>
            </a:r>
            <a:r>
              <a:rPr b="0" lang="en-US" sz="2000" spc="-1" strike="noStrike">
                <a:solidFill>
                  <a:srgbClr val="000000"/>
                </a:solidFill>
                <a:latin typeface="Arial"/>
              </a:rPr>
              <a:t> achieved 22% improvement ($4B US savings) between 1994 and 2005, and is now seeking another 25% from 2005 to 2015</a:t>
            </a:r>
            <a:endParaRPr b="0" lang="en-US" sz="2000" spc="-1" strike="noStrike">
              <a:solidFill>
                <a:srgbClr val="ffffff"/>
              </a:solidFill>
              <a:latin typeface="Arial"/>
            </a:endParaRPr>
          </a:p>
          <a:p>
            <a:pPr lvl="1" marL="741240" indent="-468360">
              <a:lnSpc>
                <a:spcPct val="95000"/>
              </a:lnSpc>
              <a:spcBef>
                <a:spcPts val="11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ed Technologies Corp</a:t>
            </a:r>
            <a:r>
              <a:rPr b="0" lang="en-US" sz="2000" spc="-1" strike="noStrike">
                <a:solidFill>
                  <a:srgbClr val="000000"/>
                </a:solidFill>
                <a:latin typeface="Arial"/>
              </a:rPr>
              <a:t> reduced global GHG emissions by 46% per dollar of revenue from 2001 to 2006, and is now seeking an additional 12% reduction from 2006 to 2010</a:t>
            </a:r>
            <a:endParaRPr b="0" lang="en-US" sz="2000" spc="-1" strike="noStrike">
              <a:solidFill>
                <a:srgbClr val="ffffff"/>
              </a:solidFill>
              <a:latin typeface="Arial"/>
            </a:endParaRPr>
          </a:p>
          <a:p>
            <a:pPr lvl="1" marL="741240" indent="-468360">
              <a:lnSpc>
                <a:spcPct val="95000"/>
              </a:lnSpc>
              <a:spcBef>
                <a:spcPts val="1199"/>
              </a:spcBef>
              <a:buClr>
                <a:srgbClr val="0099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yota’s</a:t>
            </a:r>
            <a:r>
              <a:rPr b="0" lang="en-US" sz="2000" spc="-1" strike="noStrike">
                <a:solidFill>
                  <a:srgbClr val="000000"/>
                </a:solidFill>
                <a:latin typeface="Arial"/>
              </a:rPr>
              <a:t> North American (NA) Energy Management Organization has reduced energy use per unit by 23% since 2002; company-wide energy-saving efforts have saved $9.2 million in NA since 1999.</a:t>
            </a:r>
            <a:endParaRPr b="0" lang="en-US" sz="2000" spc="-1" strike="noStrike">
              <a:solidFill>
                <a:srgbClr val="ffffff"/>
              </a:solidFill>
              <a:latin typeface="Arial"/>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
        <p:nvSpPr>
          <p:cNvPr id="133" name="Text Box 4"/>
          <p:cNvSpPr/>
          <p:nvPr/>
        </p:nvSpPr>
        <p:spPr>
          <a:xfrm>
            <a:off x="1330200" y="5997600"/>
            <a:ext cx="5181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1 Btu/lb of product</a:t>
            </a:r>
            <a:endParaRPr b="1" lang="en-US" sz="1200" spc="-1" strike="noStrike">
              <a:solidFill>
                <a:srgbClr val="ffffff"/>
              </a:solidFill>
              <a:latin typeface="Arial"/>
            </a:endParaRPr>
          </a:p>
        </p:txBody>
      </p:sp>
      <p:sp>
        <p:nvSpPr>
          <p:cNvPr id="134" name="Slide Number Placeholder 1"/>
          <p:cNvSpPr/>
          <p:nvPr/>
        </p:nvSpPr>
        <p:spPr>
          <a:xfrm>
            <a:off x="6248520" y="6553080"/>
            <a:ext cx="2895480" cy="304920"/>
          </a:xfrm>
          <a:prstGeom prst="rect">
            <a:avLst/>
          </a:prstGeom>
          <a:noFill/>
          <a:ln w="0">
            <a:noFill/>
          </a:ln>
          <a:effectLst>
            <a:outerShdw dist="20364"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B8FA3-FAD1-4ABE-ADD3-94D74E34E743}" type="slidenum">
              <a:rPr b="1" i="1" lang="en-US" sz="1600" spc="-1" strike="noStrike">
                <a:solidFill>
                  <a:srgbClr val="0099cc"/>
                </a:solidFill>
                <a:latin typeface="Arial"/>
                <a:ea typeface="Arial"/>
              </a:rPr>
              <a:t>&lt;number&gt;</a:t>
            </a:fld>
            <a:endParaRPr b="1"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Industrial Energy Efficiency Benefits</a:t>
            </a:r>
            <a:endParaRPr b="1" lang="en-US" sz="3200" spc="-1" strike="noStrike">
              <a:solidFill>
                <a:srgbClr val="787878"/>
              </a:solidFill>
              <a:latin typeface="Arial"/>
            </a:endParaRPr>
          </a:p>
        </p:txBody>
      </p:sp>
      <p:sp>
        <p:nvSpPr>
          <p:cNvPr id="136" name="PlaceHolder 2"/>
          <p:cNvSpPr>
            <a:spLocks noGrp="1"/>
          </p:cNvSpPr>
          <p:nvPr>
            <p:ph/>
          </p:nvPr>
        </p:nvSpPr>
        <p:spPr>
          <a:xfrm>
            <a:off x="329760" y="1676160"/>
            <a:ext cx="8572680" cy="2361960"/>
          </a:xfrm>
          <a:prstGeom prst="rect">
            <a:avLst/>
          </a:prstGeom>
          <a:noFill/>
          <a:ln w="0">
            <a:noFill/>
          </a:ln>
        </p:spPr>
        <p:txBody>
          <a:bodyPr anchor="t">
            <a:normAutofit fontScale="86000"/>
          </a:bodyPr>
          <a:p>
            <a:pPr marL="294840" indent="-294840">
              <a:lnSpc>
                <a:spcPct val="90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Energy efficiency has demonstrated, time and again, that</a:t>
            </a:r>
            <a:endParaRPr b="0" lang="en-US" sz="2400" spc="-1" strike="noStrike">
              <a:solidFill>
                <a:srgbClr val="000000"/>
              </a:solidFill>
              <a:latin typeface="Arial Unicode MS"/>
            </a:endParaRPr>
          </a:p>
          <a:p>
            <a:pPr lvl="1" marL="687960" indent="-294840">
              <a:lnSpc>
                <a:spcPct val="90000"/>
              </a:lnSpc>
              <a:spcBef>
                <a:spcPts val="123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saves industrial firms money</a:t>
            </a:r>
            <a:endParaRPr b="0" lang="en-US" sz="2200" spc="-1" strike="noStrike">
              <a:solidFill>
                <a:srgbClr val="ffffff"/>
              </a:solidFill>
              <a:latin typeface="Arial"/>
            </a:endParaRPr>
          </a:p>
          <a:p>
            <a:pPr lvl="1" marL="687960" indent="-294840">
              <a:lnSpc>
                <a:spcPct val="90000"/>
              </a:lnSpc>
              <a:spcBef>
                <a:spcPts val="123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increases reliability of operations</a:t>
            </a:r>
            <a:endParaRPr b="0" lang="en-US" sz="2200" spc="-1" strike="noStrike">
              <a:solidFill>
                <a:srgbClr val="ffffff"/>
              </a:solidFill>
              <a:latin typeface="Arial"/>
            </a:endParaRPr>
          </a:p>
          <a:p>
            <a:pPr lvl="1" marL="687960" indent="-294840">
              <a:lnSpc>
                <a:spcPct val="90000"/>
              </a:lnSpc>
              <a:spcBef>
                <a:spcPts val="123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has a positive effect on productivity and competitiveness</a:t>
            </a:r>
            <a:endParaRPr b="0" lang="en-US" sz="2200" spc="-1" strike="noStrike">
              <a:solidFill>
                <a:srgbClr val="ffffff"/>
              </a:solidFill>
              <a:latin typeface="Arial"/>
            </a:endParaRPr>
          </a:p>
          <a:p>
            <a:pPr lvl="1" marL="687960" indent="-294840">
              <a:lnSpc>
                <a:spcPct val="90000"/>
              </a:lnSpc>
              <a:spcBef>
                <a:spcPts val="123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can offer attractive financial and economic returns</a:t>
            </a:r>
            <a:endParaRPr b="0" lang="en-US" sz="2200" spc="-1" strike="noStrike">
              <a:solidFill>
                <a:srgbClr val="ffffff"/>
              </a:solidFill>
              <a:latin typeface="Arial"/>
            </a:endParaRPr>
          </a:p>
          <a:p>
            <a:pPr lvl="1" marL="687960" indent="-294840">
              <a:lnSpc>
                <a:spcPct val="90000"/>
              </a:lnSpc>
              <a:spcBef>
                <a:spcPts val="1239"/>
              </a:spcBef>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a:t>
            </a:r>
            <a:r>
              <a:rPr b="0" lang="en-US" sz="2200" spc="-1" strike="noStrike">
                <a:solidFill>
                  <a:srgbClr val="000000"/>
                </a:solidFill>
                <a:latin typeface="Arial"/>
                <a:ea typeface="굴림"/>
              </a:rPr>
              <a:t>. </a:t>
            </a:r>
            <a:endParaRPr b="0" lang="en-US" sz="2200" spc="-1" strike="noStrike">
              <a:solidFill>
                <a:srgbClr val="ffffff"/>
              </a:solidFill>
              <a:latin typeface="Arial"/>
            </a:endParaRPr>
          </a:p>
        </p:txBody>
      </p:sp>
      <p:sp>
        <p:nvSpPr>
          <p:cNvPr id="137" name="Text Box 5"/>
          <p:cNvSpPr/>
          <p:nvPr/>
        </p:nvSpPr>
        <p:spPr>
          <a:xfrm>
            <a:off x="1511280" y="5410080"/>
            <a:ext cx="593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it is not happening?</a:t>
            </a:r>
            <a:r>
              <a:rPr b="1" lang="en-US" sz="2400" spc="-1" strike="noStrike">
                <a:solidFill>
                  <a:srgbClr val="003366"/>
                </a:solidFill>
                <a:latin typeface="Arial"/>
              </a:rPr>
              <a:t> </a:t>
            </a:r>
            <a:endParaRPr b="1" lang="en-US" sz="2400" spc="-1" strike="noStrike">
              <a:solidFill>
                <a:srgbClr val="ffffff"/>
              </a:solidFill>
              <a:latin typeface="Arial"/>
            </a:endParaRPr>
          </a:p>
        </p:txBody>
      </p:sp>
      <p:sp>
        <p:nvSpPr>
          <p:cNvPr id="138" name="Right Arrow Callout 6"/>
          <p:cNvSpPr/>
          <p:nvPr/>
        </p:nvSpPr>
        <p:spPr>
          <a:xfrm rot="5400000">
            <a:off x="3806280" y="4024080"/>
            <a:ext cx="1139760" cy="1276200"/>
          </a:xfrm>
          <a:prstGeom prst="rightArrowCallout">
            <a:avLst>
              <a:gd name="adj1" fmla="val 31375"/>
              <a:gd name="adj2" fmla="val 31367"/>
              <a:gd name="adj3" fmla="val 33731"/>
              <a:gd name="adj4" fmla="val 52944"/>
            </a:avLst>
          </a:prstGeom>
          <a:gradFill rotWithShape="0">
            <a:gsLst>
              <a:gs pos="0">
                <a:srgbClr val="90a4f1"/>
              </a:gs>
              <a:gs pos="100000">
                <a:srgbClr val="dfe3f9">
                  <a:alpha val="71372"/>
                </a:srgbClr>
              </a:gs>
            </a:gsLst>
            <a:lin ang="16200000"/>
          </a:gradFill>
          <a:ln w="9360">
            <a:solidFill>
              <a:srgbClr val="0033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9" name="Text Box 4"/>
          <p:cNvSpPr/>
          <p:nvPr/>
        </p:nvSpPr>
        <p:spPr>
          <a:xfrm>
            <a:off x="3670200" y="418608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a:t>
            </a:r>
            <a:endParaRPr b="1"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Barriers to Industrial Energy Efficiency</a:t>
            </a:r>
            <a:endParaRPr b="1" lang="en-US" sz="3200" spc="-1" strike="noStrike">
              <a:solidFill>
                <a:srgbClr val="787878"/>
              </a:solidFill>
              <a:latin typeface="Arial"/>
            </a:endParaRPr>
          </a:p>
        </p:txBody>
      </p:sp>
      <p:sp>
        <p:nvSpPr>
          <p:cNvPr id="141" name="PlaceHolder 2"/>
          <p:cNvSpPr>
            <a:spLocks noGrp="1"/>
          </p:cNvSpPr>
          <p:nvPr>
            <p:ph/>
          </p:nvPr>
        </p:nvSpPr>
        <p:spPr>
          <a:xfrm>
            <a:off x="406440" y="1346040"/>
            <a:ext cx="8572320" cy="49024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343080">
              <a:lnSpc>
                <a:spcPct val="95000"/>
              </a:lnSpc>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ment focus is on production and not on energy efficiency</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ck of information and understanding of financial and qualitative benefits</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ck of adequate technical skills to assess performance,  developing and implementing EE measures and projects</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rst costs more important than recurring costs </a:t>
            </a:r>
            <a:r>
              <a:rPr b="0" lang="en-US" sz="2200" spc="-1" strike="noStrike">
                <a:solidFill>
                  <a:srgbClr val="000000"/>
                </a:solidFill>
                <a:latin typeface="Wingdings"/>
                <a:ea typeface="Wingdings"/>
              </a:rPr>
              <a:t></a:t>
            </a:r>
            <a:r>
              <a:rPr b="0" lang="en-US" sz="2200" spc="-1" strike="noStrike">
                <a:solidFill>
                  <a:srgbClr val="000000"/>
                </a:solidFill>
                <a:latin typeface="Arial"/>
              </a:rPr>
              <a:t> disconnection between capital and operating budgets</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EE knowledge exists it very often resides with individuals rather than with the company/ organization </a:t>
            </a:r>
            <a:r>
              <a:rPr b="0" lang="en-US" sz="2200" spc="-1" strike="noStrike">
                <a:solidFill>
                  <a:srgbClr val="000000"/>
                </a:solidFill>
                <a:latin typeface="Wingdings"/>
                <a:ea typeface="Wingdings"/>
              </a:rPr>
              <a:t></a:t>
            </a:r>
            <a:r>
              <a:rPr b="0" lang="en-US" sz="2200" spc="-1" strike="noStrike">
                <a:solidFill>
                  <a:srgbClr val="000000"/>
                </a:solidFill>
                <a:latin typeface="Arial"/>
              </a:rPr>
              <a:t> sustainability risk</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monitoring system and data </a:t>
            </a:r>
            <a:endParaRPr b="0" lang="en-US" sz="2200" spc="-1" strike="noStrike">
              <a:solidFill>
                <a:srgbClr val="000000"/>
              </a:solidFill>
              <a:latin typeface="Arial Unicode MS"/>
            </a:endParaRPr>
          </a:p>
          <a:p>
            <a:pPr marL="343080" indent="-343080">
              <a:lnSpc>
                <a:spcPct val="95000"/>
              </a:lnSpc>
              <a:spcBef>
                <a:spcPts val="110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endParaRPr b="0" lang="en-US" sz="2200" spc="-1" strike="noStrike">
              <a:solidFill>
                <a:srgbClr val="000000"/>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787878"/>
                </a:solidFill>
                <a:latin typeface="Arial"/>
              </a:rPr>
              <a:t>Energy Management Systems &amp; Standards – Why?</a:t>
            </a:r>
            <a:endParaRPr b="1" lang="en-US" sz="2900" spc="-1" strike="noStrike">
              <a:solidFill>
                <a:srgbClr val="787878"/>
              </a:solidFill>
              <a:latin typeface="Arial"/>
            </a:endParaRPr>
          </a:p>
        </p:txBody>
      </p:sp>
      <p:sp>
        <p:nvSpPr>
          <p:cNvPr id="143" name="PlaceHolder 2"/>
          <p:cNvSpPr>
            <a:spLocks noGrp="1"/>
          </p:cNvSpPr>
          <p:nvPr>
            <p:ph/>
          </p:nvPr>
        </p:nvSpPr>
        <p:spPr>
          <a:xfrm>
            <a:off x="406440" y="1663560"/>
            <a:ext cx="8177040" cy="4546800"/>
          </a:xfrm>
          <a:prstGeom prst="rect">
            <a:avLst/>
          </a:prstGeom>
          <a:noFill/>
          <a:ln w="0">
            <a:noFill/>
          </a:ln>
        </p:spPr>
        <p:txBody>
          <a:bodyPr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Most energy efficiency in industry is achieved through </a:t>
            </a:r>
            <a:endParaRPr b="0" lang="en-US" sz="2200" spc="-1" strike="noStrike">
              <a:solidFill>
                <a:srgbClr val="000000"/>
              </a:solidFill>
              <a:latin typeface="Arial Unicode MS"/>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changes in </a:t>
            </a:r>
            <a:r>
              <a:rPr b="1" i="1" lang="en-US" sz="2200" spc="-1" strike="noStrike">
                <a:solidFill>
                  <a:srgbClr val="000000"/>
                </a:solidFill>
                <a:latin typeface="Arial"/>
                <a:ea typeface="MS Mincho"/>
              </a:rPr>
              <a:t>how energy is managed</a:t>
            </a:r>
            <a:r>
              <a:rPr b="0" lang="en-US" sz="2200" spc="-1" strike="noStrike">
                <a:solidFill>
                  <a:srgbClr val="000000"/>
                </a:solidFill>
                <a:latin typeface="Arial"/>
                <a:ea typeface="MS Mincho"/>
              </a:rPr>
              <a:t> in an industrial facility,</a:t>
            </a:r>
            <a:endParaRPr b="0" lang="en-US" sz="2200" spc="-1" strike="noStrike">
              <a:solidFill>
                <a:srgbClr val="000000"/>
              </a:solidFill>
              <a:latin typeface="Arial Unicode MS"/>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rather than through installation of new technologies.</a:t>
            </a:r>
            <a:endParaRPr b="0" lang="en-US" sz="2200" spc="-1" strike="noStrike">
              <a:solidFill>
                <a:srgbClr val="000000"/>
              </a:solidFill>
              <a:latin typeface="Arial Unicode MS"/>
            </a:endParaRPr>
          </a:p>
          <a:p>
            <a:pPr indent="0">
              <a:lnSpc>
                <a:spcPct val="9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MS Mincho"/>
              </a:rPr>
              <a:t>Energy Management Systems (EnMS) are methodical and organized structures to </a:t>
            </a:r>
            <a:r>
              <a:rPr b="1" lang="en-US" sz="2000" spc="-1" strike="noStrike">
                <a:solidFill>
                  <a:srgbClr val="003366"/>
                </a:solidFill>
                <a:latin typeface="Arial"/>
                <a:ea typeface="MS Mincho"/>
              </a:rPr>
              <a:t>integrate EE into industry corporate culture </a:t>
            </a:r>
            <a:r>
              <a:rPr b="0" lang="en-US" sz="2000" spc="-1" strike="noStrike">
                <a:solidFill>
                  <a:srgbClr val="003366"/>
                </a:solidFill>
                <a:latin typeface="Arial"/>
                <a:ea typeface="MS Mincho"/>
              </a:rPr>
              <a:t>and daily management practices.  EnMS provide:</a:t>
            </a:r>
            <a:endParaRPr b="0" lang="en-US" sz="2000" spc="-1" strike="noStrike">
              <a:solidFill>
                <a:srgbClr val="000000"/>
              </a:solidFill>
              <a:latin typeface="Arial Unicode MS"/>
            </a:endParaRPr>
          </a:p>
          <a:p>
            <a:pPr>
              <a:lnSpc>
                <a:spcPct val="100000"/>
              </a:lnSpc>
              <a:spcBef>
                <a:spcPts val="9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MS Mincho"/>
              </a:rPr>
              <a:t>  </a:t>
            </a:r>
            <a:r>
              <a:rPr b="0" lang="en-US" sz="1800" spc="-1" strike="noStrike">
                <a:solidFill>
                  <a:srgbClr val="003366"/>
                </a:solidFill>
                <a:latin typeface="Arial"/>
                <a:ea typeface="MS Mincho"/>
              </a:rPr>
              <a:t>A framework for understanding significant energy uses</a:t>
            </a:r>
            <a:endParaRPr b="0" lang="en-US" sz="1800" spc="-1" strike="noStrike">
              <a:solidFill>
                <a:srgbClr val="000000"/>
              </a:solidFill>
              <a:latin typeface="Arial Unicode MS"/>
            </a:endParaRPr>
          </a:p>
          <a:p>
            <a:pPr>
              <a:lnSpc>
                <a:spcPct val="100000"/>
              </a:lnSpc>
              <a:spcBef>
                <a:spcPts val="9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MS Mincho"/>
              </a:rPr>
              <a:t>  </a:t>
            </a:r>
            <a:r>
              <a:rPr b="0" lang="en-US" sz="1800" spc="-1" strike="noStrike">
                <a:solidFill>
                  <a:srgbClr val="003366"/>
                </a:solidFill>
                <a:latin typeface="Arial"/>
                <a:ea typeface="MS Mincho"/>
              </a:rPr>
              <a:t>Action plans for continually improve energy performance</a:t>
            </a:r>
            <a:endParaRPr b="0" lang="en-US" sz="1800" spc="-1" strike="noStrike">
              <a:solidFill>
                <a:srgbClr val="000000"/>
              </a:solidFill>
              <a:latin typeface="Arial Unicode MS"/>
            </a:endParaRPr>
          </a:p>
          <a:p>
            <a:pPr>
              <a:lnSpc>
                <a:spcPct val="100000"/>
              </a:lnSpc>
              <a:spcBef>
                <a:spcPts val="90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MS Mincho"/>
              </a:rPr>
              <a:t>  </a:t>
            </a:r>
            <a:r>
              <a:rPr b="0" lang="en-US" sz="1800" spc="-1" strike="noStrike">
                <a:solidFill>
                  <a:srgbClr val="003366"/>
                </a:solidFill>
                <a:latin typeface="Arial"/>
                <a:ea typeface="MS Mincho"/>
              </a:rPr>
              <a:t>Structure and organizational framework to sustain energy performance  </a:t>
            </a:r>
            <a:endParaRPr b="0" lang="en-US" sz="1800" spc="-1" strike="noStrike">
              <a:solidFill>
                <a:srgbClr val="000000"/>
              </a:solidFill>
              <a:latin typeface="Arial Unicode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MS Mincho"/>
              </a:rPr>
              <a:t>     </a:t>
            </a:r>
            <a:r>
              <a:rPr b="0" lang="en-US" sz="1800" spc="-1" strike="noStrike">
                <a:solidFill>
                  <a:srgbClr val="003366"/>
                </a:solidFill>
                <a:latin typeface="Arial"/>
                <a:ea typeface="MS Mincho"/>
              </a:rPr>
              <a:t>improvements over time and change of personnel</a:t>
            </a:r>
            <a:endParaRPr b="0" lang="en-US" sz="1800" spc="-1" strike="noStrike">
              <a:solidFill>
                <a:srgbClr val="000000"/>
              </a:solidFill>
              <a:latin typeface="Arial Unicode MS"/>
            </a:endParaRPr>
          </a:p>
          <a:p>
            <a:pPr indent="0">
              <a:lnSpc>
                <a:spcPct val="95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MS Mincho"/>
              </a:rPr>
              <a:t>EnMS Standards provide a market-based mechanism to disseminate and harmonize best-practices.</a:t>
            </a:r>
            <a:endParaRPr b="0" lang="en-US" sz="2000" spc="-1" strike="noStrike">
              <a:solidFill>
                <a:srgbClr val="000000"/>
              </a:solidFill>
              <a:latin typeface="Arial Unicode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882720"/>
            <a:ext cx="8820000" cy="6811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787878"/>
                </a:solidFill>
                <a:latin typeface="Arial"/>
              </a:rPr>
              <a:t>Ad hoc approach to energy management…</a:t>
            </a:r>
            <a:endParaRPr b="1" lang="en-US" sz="3200" spc="-1" strike="noStrike">
              <a:solidFill>
                <a:srgbClr val="787878"/>
              </a:solidFill>
              <a:latin typeface="Arial"/>
            </a:endParaRPr>
          </a:p>
        </p:txBody>
      </p:sp>
      <p:pic>
        <p:nvPicPr>
          <p:cNvPr id="145" name="Picture 2" descr=""/>
          <p:cNvPicPr/>
          <p:nvPr/>
        </p:nvPicPr>
        <p:blipFill>
          <a:blip r:embed="rId1"/>
          <a:stretch/>
        </p:blipFill>
        <p:spPr>
          <a:xfrm>
            <a:off x="638280" y="1581120"/>
            <a:ext cx="7910280" cy="4865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33080" y="925560"/>
            <a:ext cx="6629400" cy="5335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787878"/>
                </a:solidFill>
                <a:latin typeface="Arial"/>
              </a:rPr>
              <a:t>Structured Approach</a:t>
            </a:r>
            <a:endParaRPr b="1" lang="en-US" sz="3200" spc="-1" strike="noStrike">
              <a:solidFill>
                <a:srgbClr val="787878"/>
              </a:solidFill>
              <a:latin typeface="Arial"/>
            </a:endParaRPr>
          </a:p>
        </p:txBody>
      </p:sp>
      <p:grpSp>
        <p:nvGrpSpPr>
          <p:cNvPr id="147" name=""/>
          <p:cNvGrpSpPr/>
          <p:nvPr/>
        </p:nvGrpSpPr>
        <p:grpSpPr>
          <a:xfrm>
            <a:off x="780480" y="1616040"/>
            <a:ext cx="7607880" cy="4945320"/>
            <a:chOff x="780480" y="1616040"/>
            <a:chExt cx="7607880" cy="4945320"/>
          </a:xfrm>
        </p:grpSpPr>
        <p:grpSp>
          <p:nvGrpSpPr>
            <p:cNvPr id="148" name="Group 3"/>
            <p:cNvGrpSpPr/>
            <p:nvPr/>
          </p:nvGrpSpPr>
          <p:grpSpPr>
            <a:xfrm>
              <a:off x="1314360" y="1616040"/>
              <a:ext cx="3089520" cy="1316880"/>
              <a:chOff x="1314360" y="1616040"/>
              <a:chExt cx="3089520" cy="1316880"/>
            </a:xfrm>
          </p:grpSpPr>
          <p:grpSp>
            <p:nvGrpSpPr>
              <p:cNvPr id="149" name="Group 4"/>
              <p:cNvGrpSpPr/>
              <p:nvPr/>
            </p:nvGrpSpPr>
            <p:grpSpPr>
              <a:xfrm>
                <a:off x="1314360" y="1616040"/>
                <a:ext cx="3089520" cy="1316880"/>
                <a:chOff x="1314360" y="1616040"/>
                <a:chExt cx="3089520" cy="1316880"/>
              </a:xfrm>
            </p:grpSpPr>
            <p:grpSp>
              <p:nvGrpSpPr>
                <p:cNvPr id="150" name="Group 5"/>
                <p:cNvGrpSpPr/>
                <p:nvPr/>
              </p:nvGrpSpPr>
              <p:grpSpPr>
                <a:xfrm>
                  <a:off x="1892160" y="2430000"/>
                  <a:ext cx="819360" cy="502920"/>
                  <a:chOff x="1892160" y="2430000"/>
                  <a:chExt cx="819360" cy="502920"/>
                </a:xfrm>
              </p:grpSpPr>
              <p:grpSp>
                <p:nvGrpSpPr>
                  <p:cNvPr id="151" name="Group 6"/>
                  <p:cNvGrpSpPr/>
                  <p:nvPr/>
                </p:nvGrpSpPr>
                <p:grpSpPr>
                  <a:xfrm>
                    <a:off x="2358000" y="2430000"/>
                    <a:ext cx="235800" cy="295560"/>
                    <a:chOff x="2358000" y="2430000"/>
                    <a:chExt cx="235800" cy="295560"/>
                  </a:xfrm>
                </p:grpSpPr>
                <p:sp>
                  <p:nvSpPr>
                    <p:cNvPr id="152" name="AutoShape 7"/>
                    <p:cNvSpPr/>
                    <p:nvPr/>
                  </p:nvSpPr>
                  <p:spPr>
                    <a:xfrm>
                      <a:off x="2358000" y="2561400"/>
                      <a:ext cx="235800" cy="164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Oval 8"/>
                    <p:cNvSpPr/>
                    <p:nvPr/>
                  </p:nvSpPr>
                  <p:spPr>
                    <a:xfrm>
                      <a:off x="2381400" y="2430000"/>
                      <a:ext cx="188640" cy="131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54" name="Group 9"/>
                  <p:cNvGrpSpPr/>
                  <p:nvPr/>
                </p:nvGrpSpPr>
                <p:grpSpPr>
                  <a:xfrm>
                    <a:off x="2122200" y="2430000"/>
                    <a:ext cx="235800" cy="295560"/>
                    <a:chOff x="2122200" y="2430000"/>
                    <a:chExt cx="235800" cy="295560"/>
                  </a:xfrm>
                </p:grpSpPr>
                <p:sp>
                  <p:nvSpPr>
                    <p:cNvPr id="155" name="AutoShape 10"/>
                    <p:cNvSpPr/>
                    <p:nvPr/>
                  </p:nvSpPr>
                  <p:spPr>
                    <a:xfrm>
                      <a:off x="2122200" y="2561400"/>
                      <a:ext cx="235800" cy="164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Oval 11"/>
                    <p:cNvSpPr/>
                    <p:nvPr/>
                  </p:nvSpPr>
                  <p:spPr>
                    <a:xfrm>
                      <a:off x="2145600" y="2430000"/>
                      <a:ext cx="188640" cy="131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57" name="Line 12"/>
                  <p:cNvSpPr/>
                  <p:nvPr/>
                </p:nvSpPr>
                <p:spPr>
                  <a:xfrm>
                    <a:off x="1892160" y="2882520"/>
                    <a:ext cx="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AutoShape 13"/>
                  <p:cNvSpPr/>
                  <p:nvPr/>
                </p:nvSpPr>
                <p:spPr>
                  <a:xfrm>
                    <a:off x="1970640" y="2646000"/>
                    <a:ext cx="740880" cy="163800"/>
                  </a:xfrm>
                  <a:custGeom>
                    <a:avLst/>
                    <a:gdLst>
                      <a:gd name="textAreaLeft" fmla="*/ 154080 w 740880"/>
                      <a:gd name="textAreaRight" fmla="*/ 586800 w 740880"/>
                      <a:gd name="textAreaTop" fmla="*/ 34200 h 163800"/>
                      <a:gd name="textAreaBottom" fmla="*/ 129600 h 1638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9" name="Oval 14"/>
                  <p:cNvSpPr/>
                  <p:nvPr/>
                </p:nvSpPr>
                <p:spPr>
                  <a:xfrm>
                    <a:off x="2126160" y="2769120"/>
                    <a:ext cx="15588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Oval 15"/>
                  <p:cNvSpPr/>
                  <p:nvPr/>
                </p:nvSpPr>
                <p:spPr>
                  <a:xfrm>
                    <a:off x="2400120" y="2769120"/>
                    <a:ext cx="15588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61" name="AutoShape 16"/>
                <p:cNvSpPr/>
                <p:nvPr/>
              </p:nvSpPr>
              <p:spPr>
                <a:xfrm>
                  <a:off x="1314360" y="1616040"/>
                  <a:ext cx="3089520" cy="614160"/>
                </a:xfrm>
                <a:prstGeom prst="wedgeRoundRectCallout">
                  <a:avLst>
                    <a:gd name="adj1" fmla="val -13833"/>
                    <a:gd name="adj2" fmla="val 78513"/>
                    <a:gd name="adj3" fmla="val 1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62" name="Rectangle 17"/>
              <p:cNvSpPr/>
              <p:nvPr/>
            </p:nvSpPr>
            <p:spPr>
              <a:xfrm>
                <a:off x="1420920" y="1650240"/>
                <a:ext cx="281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nior management commit to programme</a:t>
                </a:r>
                <a:endParaRPr b="1" lang="en-US" sz="1800" spc="-1" strike="noStrike">
                  <a:solidFill>
                    <a:srgbClr val="ffffff"/>
                  </a:solidFill>
                  <a:latin typeface="Arial"/>
                </a:endParaRPr>
              </a:p>
            </p:txBody>
          </p:sp>
        </p:grpSp>
        <p:sp>
          <p:nvSpPr>
            <p:cNvPr id="163" name="Rectangle 18"/>
            <p:cNvSpPr/>
            <p:nvPr/>
          </p:nvSpPr>
          <p:spPr>
            <a:xfrm>
              <a:off x="1506240" y="611964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0</a:t>
              </a:r>
              <a:endParaRPr b="1" lang="en-US" sz="2000" spc="-1" strike="noStrike">
                <a:solidFill>
                  <a:srgbClr val="ffffff"/>
                </a:solidFill>
                <a:latin typeface="Arial"/>
              </a:endParaRPr>
            </a:p>
          </p:txBody>
        </p:sp>
        <p:sp>
          <p:nvSpPr>
            <p:cNvPr id="164" name="Rectangle 19"/>
            <p:cNvSpPr/>
            <p:nvPr/>
          </p:nvSpPr>
          <p:spPr>
            <a:xfrm>
              <a:off x="7570440" y="611964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3</a:t>
              </a:r>
              <a:endParaRPr b="1" lang="en-US" sz="2000" spc="-1" strike="noStrike">
                <a:solidFill>
                  <a:srgbClr val="ffffff"/>
                </a:solidFill>
                <a:latin typeface="Arial"/>
              </a:endParaRPr>
            </a:p>
          </p:txBody>
        </p:sp>
        <p:sp>
          <p:nvSpPr>
            <p:cNvPr id="165" name="Rectangle 20"/>
            <p:cNvSpPr/>
            <p:nvPr/>
          </p:nvSpPr>
          <p:spPr>
            <a:xfrm>
              <a:off x="4065480" y="6119640"/>
              <a:ext cx="7063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ears</a:t>
              </a:r>
              <a:endParaRPr b="1" lang="en-US" sz="2000" spc="-1" strike="noStrike">
                <a:solidFill>
                  <a:srgbClr val="ffffff"/>
                </a:solidFill>
                <a:latin typeface="Arial"/>
              </a:endParaRPr>
            </a:p>
          </p:txBody>
        </p:sp>
        <p:grpSp>
          <p:nvGrpSpPr>
            <p:cNvPr id="166" name="Group 21"/>
            <p:cNvGrpSpPr/>
            <p:nvPr/>
          </p:nvGrpSpPr>
          <p:grpSpPr>
            <a:xfrm>
              <a:off x="780480" y="2860560"/>
              <a:ext cx="659520" cy="3700800"/>
              <a:chOff x="780480" y="2860560"/>
              <a:chExt cx="659520" cy="3700800"/>
            </a:xfrm>
          </p:grpSpPr>
          <p:sp>
            <p:nvSpPr>
              <p:cNvPr id="167" name="Rectangle 22"/>
              <p:cNvSpPr/>
              <p:nvPr/>
            </p:nvSpPr>
            <p:spPr>
              <a:xfrm>
                <a:off x="780480" y="5848560"/>
                <a:ext cx="21600" cy="351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8" name="Rectangle 23"/>
              <p:cNvSpPr/>
              <p:nvPr/>
            </p:nvSpPr>
            <p:spPr>
              <a:xfrm>
                <a:off x="800640" y="5341320"/>
                <a:ext cx="604080" cy="1220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20%</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25%</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9" name="Rectangle 24"/>
              <p:cNvSpPr/>
              <p:nvPr/>
            </p:nvSpPr>
            <p:spPr>
              <a:xfrm>
                <a:off x="800640" y="4847400"/>
                <a:ext cx="604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15%</a:t>
                </a:r>
                <a:endParaRPr b="1" lang="en-US" sz="2000" spc="-1" strike="noStrike">
                  <a:solidFill>
                    <a:srgbClr val="ffffff"/>
                  </a:solidFill>
                  <a:latin typeface="Arial"/>
                </a:endParaRPr>
              </a:p>
            </p:txBody>
          </p:sp>
          <p:sp>
            <p:nvSpPr>
              <p:cNvPr id="170" name="Rectangle 25"/>
              <p:cNvSpPr/>
              <p:nvPr/>
            </p:nvSpPr>
            <p:spPr>
              <a:xfrm>
                <a:off x="800640" y="4349160"/>
                <a:ext cx="6040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10%</a:t>
                </a:r>
                <a:endParaRPr b="1" lang="en-US" sz="2000" spc="-1" strike="noStrike">
                  <a:solidFill>
                    <a:srgbClr val="ffffff"/>
                  </a:solidFill>
                  <a:latin typeface="Arial"/>
                </a:endParaRPr>
              </a:p>
            </p:txBody>
          </p:sp>
          <p:sp>
            <p:nvSpPr>
              <p:cNvPr id="171" name="Rectangle 26"/>
              <p:cNvSpPr/>
              <p:nvPr/>
            </p:nvSpPr>
            <p:spPr>
              <a:xfrm>
                <a:off x="866880" y="3853800"/>
                <a:ext cx="45792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5%</a:t>
                </a:r>
                <a:endParaRPr b="1" lang="en-US" sz="2000" spc="-1" strike="noStrike">
                  <a:solidFill>
                    <a:srgbClr val="ffffff"/>
                  </a:solidFill>
                  <a:latin typeface="Arial"/>
                </a:endParaRPr>
              </a:p>
            </p:txBody>
          </p:sp>
          <p:sp>
            <p:nvSpPr>
              <p:cNvPr id="172" name="Rectangle 27"/>
              <p:cNvSpPr/>
              <p:nvPr/>
            </p:nvSpPr>
            <p:spPr>
              <a:xfrm>
                <a:off x="878400" y="3355560"/>
                <a:ext cx="1468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0</a:t>
                </a:r>
                <a:endParaRPr b="1" lang="en-US" sz="2000" spc="-1" strike="noStrike">
                  <a:solidFill>
                    <a:srgbClr val="ffffff"/>
                  </a:solidFill>
                  <a:latin typeface="Arial"/>
                </a:endParaRPr>
              </a:p>
            </p:txBody>
          </p:sp>
          <p:sp>
            <p:nvSpPr>
              <p:cNvPr id="173" name="Rectangle 28"/>
              <p:cNvSpPr/>
              <p:nvPr/>
            </p:nvSpPr>
            <p:spPr>
              <a:xfrm>
                <a:off x="918000" y="2860560"/>
                <a:ext cx="5220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5%</a:t>
                </a:r>
                <a:endParaRPr b="1" lang="en-US" sz="2000" spc="-1" strike="noStrike">
                  <a:solidFill>
                    <a:srgbClr val="ffffff"/>
                  </a:solidFill>
                  <a:latin typeface="Arial"/>
                </a:endParaRPr>
              </a:p>
            </p:txBody>
          </p:sp>
        </p:grpSp>
        <p:sp>
          <p:nvSpPr>
            <p:cNvPr id="174" name="Rectangle 29"/>
            <p:cNvSpPr/>
            <p:nvPr/>
          </p:nvSpPr>
          <p:spPr>
            <a:xfrm>
              <a:off x="876600" y="2563920"/>
              <a:ext cx="6818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cc"/>
                  </a:solidFill>
                  <a:latin typeface="Tahoma"/>
                </a:rPr>
                <a:t>Costs</a:t>
              </a:r>
              <a:endParaRPr b="1" lang="en-US" sz="2000" spc="-1" strike="noStrike">
                <a:solidFill>
                  <a:srgbClr val="ffffff"/>
                </a:solidFill>
                <a:latin typeface="Arial"/>
              </a:endParaRPr>
            </a:p>
          </p:txBody>
        </p:sp>
        <p:sp>
          <p:nvSpPr>
            <p:cNvPr id="175" name="Rectangle 30"/>
            <p:cNvSpPr/>
            <p:nvPr/>
          </p:nvSpPr>
          <p:spPr>
            <a:xfrm>
              <a:off x="1744560" y="5475240"/>
              <a:ext cx="2476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Tahoma"/>
                </a:rPr>
                <a:t>Investment</a:t>
              </a:r>
              <a:endParaRPr b="1"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76" name="Rectangle 31"/>
            <p:cNvSpPr/>
            <p:nvPr/>
          </p:nvSpPr>
          <p:spPr>
            <a:xfrm>
              <a:off x="1227240" y="3002040"/>
              <a:ext cx="6549840" cy="3062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7" name="Rectangle 32"/>
            <p:cNvSpPr/>
            <p:nvPr/>
          </p:nvSpPr>
          <p:spPr>
            <a:xfrm>
              <a:off x="1449360" y="2919240"/>
              <a:ext cx="6543720" cy="3164040"/>
            </a:xfrm>
            <a:prstGeom prst="rect">
              <a:avLst/>
            </a:prstGeom>
            <a:noFill/>
            <a:ln w="507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Line 33"/>
            <p:cNvSpPr/>
            <p:nvPr/>
          </p:nvSpPr>
          <p:spPr>
            <a:xfrm>
              <a:off x="1192320" y="6008760"/>
              <a:ext cx="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9" name="Line 34"/>
            <p:cNvSpPr/>
            <p:nvPr/>
          </p:nvSpPr>
          <p:spPr>
            <a:xfrm>
              <a:off x="1390680" y="34941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0" name="Line 35"/>
            <p:cNvSpPr/>
            <p:nvPr/>
          </p:nvSpPr>
          <p:spPr>
            <a:xfrm>
              <a:off x="1390680" y="30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Line 36"/>
            <p:cNvSpPr/>
            <p:nvPr/>
          </p:nvSpPr>
          <p:spPr>
            <a:xfrm>
              <a:off x="1184400" y="55324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Line 37"/>
            <p:cNvSpPr/>
            <p:nvPr/>
          </p:nvSpPr>
          <p:spPr>
            <a:xfrm>
              <a:off x="1184400" y="5054760"/>
              <a:ext cx="28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3" name="Line 38"/>
            <p:cNvSpPr/>
            <p:nvPr/>
          </p:nvSpPr>
          <p:spPr>
            <a:xfrm>
              <a:off x="1184400" y="452448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4" name="Line 39"/>
            <p:cNvSpPr/>
            <p:nvPr/>
          </p:nvSpPr>
          <p:spPr>
            <a:xfrm>
              <a:off x="1184400" y="4027320"/>
              <a:ext cx="2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Line 40"/>
            <p:cNvSpPr/>
            <p:nvPr/>
          </p:nvSpPr>
          <p:spPr>
            <a:xfrm>
              <a:off x="1449360" y="3511440"/>
              <a:ext cx="620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Freeform 41"/>
            <p:cNvSpPr/>
            <p:nvPr/>
          </p:nvSpPr>
          <p:spPr>
            <a:xfrm>
              <a:off x="1449360" y="2919240"/>
              <a:ext cx="6554880" cy="1019520"/>
            </a:xfrm>
            <a:custGeom>
              <a:avLst/>
              <a:gdLst>
                <a:gd name="textAreaLeft" fmla="*/ 0 w 6554880"/>
                <a:gd name="textAreaRight" fmla="*/ 6555240 w 6554880"/>
                <a:gd name="textAreaTop" fmla="*/ 0 h 1019520"/>
                <a:gd name="textAreaBottom" fmla="*/ 1019880 h 1019520"/>
              </a:gdLst>
              <a:ahLst/>
              <a:rect l="textAreaLeft" t="textAreaTop" r="textAreaRight" b="textAreaBottom"/>
              <a:pathLst>
                <a:path w="3608" h="781">
                  <a:moveTo>
                    <a:pt x="0" y="390"/>
                  </a:moveTo>
                  <a:lnTo>
                    <a:pt x="6" y="383"/>
                  </a:lnTo>
                  <a:lnTo>
                    <a:pt x="10" y="377"/>
                  </a:lnTo>
                  <a:lnTo>
                    <a:pt x="14" y="369"/>
                  </a:lnTo>
                  <a:lnTo>
                    <a:pt x="19" y="363"/>
                  </a:lnTo>
                  <a:lnTo>
                    <a:pt x="25" y="356"/>
                  </a:lnTo>
                  <a:lnTo>
                    <a:pt x="30" y="350"/>
                  </a:lnTo>
                  <a:lnTo>
                    <a:pt x="36" y="342"/>
                  </a:lnTo>
                  <a:lnTo>
                    <a:pt x="39" y="336"/>
                  </a:lnTo>
                  <a:lnTo>
                    <a:pt x="44" y="329"/>
                  </a:lnTo>
                  <a:lnTo>
                    <a:pt x="50" y="323"/>
                  </a:lnTo>
                  <a:lnTo>
                    <a:pt x="54" y="315"/>
                  </a:lnTo>
                  <a:lnTo>
                    <a:pt x="60" y="309"/>
                  </a:lnTo>
                  <a:lnTo>
                    <a:pt x="65" y="303"/>
                  </a:lnTo>
                  <a:lnTo>
                    <a:pt x="70" y="296"/>
                  </a:lnTo>
                  <a:lnTo>
                    <a:pt x="76" y="290"/>
                  </a:lnTo>
                  <a:lnTo>
                    <a:pt x="80" y="282"/>
                  </a:lnTo>
                  <a:lnTo>
                    <a:pt x="86" y="276"/>
                  </a:lnTo>
                  <a:lnTo>
                    <a:pt x="91" y="270"/>
                  </a:lnTo>
                  <a:lnTo>
                    <a:pt x="95" y="263"/>
                  </a:lnTo>
                  <a:lnTo>
                    <a:pt x="100" y="257"/>
                  </a:lnTo>
                  <a:lnTo>
                    <a:pt x="105" y="250"/>
                  </a:lnTo>
                  <a:lnTo>
                    <a:pt x="111" y="244"/>
                  </a:lnTo>
                  <a:lnTo>
                    <a:pt x="115" y="237"/>
                  </a:lnTo>
                  <a:lnTo>
                    <a:pt x="120" y="231"/>
                  </a:lnTo>
                  <a:lnTo>
                    <a:pt x="126" y="225"/>
                  </a:lnTo>
                  <a:lnTo>
                    <a:pt x="130" y="219"/>
                  </a:lnTo>
                  <a:lnTo>
                    <a:pt x="136" y="213"/>
                  </a:lnTo>
                  <a:lnTo>
                    <a:pt x="141" y="207"/>
                  </a:lnTo>
                  <a:lnTo>
                    <a:pt x="144" y="201"/>
                  </a:lnTo>
                  <a:lnTo>
                    <a:pt x="150" y="195"/>
                  </a:lnTo>
                  <a:lnTo>
                    <a:pt x="155" y="189"/>
                  </a:lnTo>
                  <a:lnTo>
                    <a:pt x="160" y="183"/>
                  </a:lnTo>
                  <a:lnTo>
                    <a:pt x="166" y="177"/>
                  </a:lnTo>
                  <a:lnTo>
                    <a:pt x="170" y="172"/>
                  </a:lnTo>
                  <a:lnTo>
                    <a:pt x="174" y="166"/>
                  </a:lnTo>
                  <a:lnTo>
                    <a:pt x="180" y="161"/>
                  </a:lnTo>
                  <a:lnTo>
                    <a:pt x="186" y="156"/>
                  </a:lnTo>
                  <a:lnTo>
                    <a:pt x="190" y="150"/>
                  </a:lnTo>
                  <a:lnTo>
                    <a:pt x="195" y="144"/>
                  </a:lnTo>
                  <a:lnTo>
                    <a:pt x="200" y="139"/>
                  </a:lnTo>
                  <a:lnTo>
                    <a:pt x="206" y="134"/>
                  </a:lnTo>
                  <a:lnTo>
                    <a:pt x="210" y="129"/>
                  </a:lnTo>
                  <a:lnTo>
                    <a:pt x="216" y="124"/>
                  </a:lnTo>
                  <a:lnTo>
                    <a:pt x="222" y="118"/>
                  </a:lnTo>
                  <a:lnTo>
                    <a:pt x="225" y="114"/>
                  </a:lnTo>
                  <a:lnTo>
                    <a:pt x="231" y="110"/>
                  </a:lnTo>
                  <a:lnTo>
                    <a:pt x="235" y="105"/>
                  </a:lnTo>
                  <a:lnTo>
                    <a:pt x="241" y="101"/>
                  </a:lnTo>
                  <a:lnTo>
                    <a:pt x="246" y="96"/>
                  </a:lnTo>
                  <a:lnTo>
                    <a:pt x="250" y="91"/>
                  </a:lnTo>
                  <a:lnTo>
                    <a:pt x="256" y="87"/>
                  </a:lnTo>
                  <a:lnTo>
                    <a:pt x="261" y="83"/>
                  </a:lnTo>
                  <a:lnTo>
                    <a:pt x="266" y="78"/>
                  </a:lnTo>
                  <a:lnTo>
                    <a:pt x="271" y="75"/>
                  </a:lnTo>
                  <a:lnTo>
                    <a:pt x="275" y="70"/>
                  </a:lnTo>
                  <a:lnTo>
                    <a:pt x="280" y="66"/>
                  </a:lnTo>
                  <a:lnTo>
                    <a:pt x="285" y="63"/>
                  </a:lnTo>
                  <a:lnTo>
                    <a:pt x="291" y="60"/>
                  </a:lnTo>
                  <a:lnTo>
                    <a:pt x="295" y="56"/>
                  </a:lnTo>
                  <a:lnTo>
                    <a:pt x="300" y="52"/>
                  </a:lnTo>
                  <a:lnTo>
                    <a:pt x="306" y="50"/>
                  </a:lnTo>
                  <a:lnTo>
                    <a:pt x="310" y="45"/>
                  </a:lnTo>
                  <a:lnTo>
                    <a:pt x="316" y="42"/>
                  </a:lnTo>
                  <a:lnTo>
                    <a:pt x="321" y="39"/>
                  </a:lnTo>
                  <a:lnTo>
                    <a:pt x="325" y="36"/>
                  </a:lnTo>
                  <a:lnTo>
                    <a:pt x="330" y="33"/>
                  </a:lnTo>
                  <a:lnTo>
                    <a:pt x="336" y="31"/>
                  </a:lnTo>
                  <a:lnTo>
                    <a:pt x="341" y="29"/>
                  </a:lnTo>
                  <a:lnTo>
                    <a:pt x="346" y="25"/>
                  </a:lnTo>
                  <a:lnTo>
                    <a:pt x="351" y="24"/>
                  </a:lnTo>
                  <a:lnTo>
                    <a:pt x="355" y="21"/>
                  </a:lnTo>
                  <a:lnTo>
                    <a:pt x="361" y="19"/>
                  </a:lnTo>
                  <a:lnTo>
                    <a:pt x="366" y="17"/>
                  </a:lnTo>
                  <a:lnTo>
                    <a:pt x="371" y="15"/>
                  </a:lnTo>
                  <a:lnTo>
                    <a:pt x="377" y="14"/>
                  </a:lnTo>
                  <a:lnTo>
                    <a:pt x="380" y="12"/>
                  </a:lnTo>
                  <a:lnTo>
                    <a:pt x="385" y="10"/>
                  </a:lnTo>
                  <a:lnTo>
                    <a:pt x="391" y="9"/>
                  </a:lnTo>
                  <a:lnTo>
                    <a:pt x="397" y="8"/>
                  </a:lnTo>
                  <a:lnTo>
                    <a:pt x="402" y="6"/>
                  </a:lnTo>
                  <a:lnTo>
                    <a:pt x="405" y="4"/>
                  </a:lnTo>
                  <a:lnTo>
                    <a:pt x="411" y="4"/>
                  </a:lnTo>
                  <a:lnTo>
                    <a:pt x="415" y="3"/>
                  </a:lnTo>
                  <a:lnTo>
                    <a:pt x="421" y="2"/>
                  </a:lnTo>
                  <a:lnTo>
                    <a:pt x="426" y="2"/>
                  </a:lnTo>
                  <a:lnTo>
                    <a:pt x="430" y="2"/>
                  </a:lnTo>
                  <a:lnTo>
                    <a:pt x="436" y="0"/>
                  </a:lnTo>
                  <a:lnTo>
                    <a:pt x="441" y="0"/>
                  </a:lnTo>
                  <a:lnTo>
                    <a:pt x="446" y="0"/>
                  </a:lnTo>
                  <a:lnTo>
                    <a:pt x="451" y="0"/>
                  </a:lnTo>
                  <a:lnTo>
                    <a:pt x="455" y="0"/>
                  </a:lnTo>
                  <a:lnTo>
                    <a:pt x="461" y="0"/>
                  </a:lnTo>
                  <a:lnTo>
                    <a:pt x="466" y="0"/>
                  </a:lnTo>
                  <a:lnTo>
                    <a:pt x="471" y="2"/>
                  </a:lnTo>
                  <a:lnTo>
                    <a:pt x="476" y="2"/>
                  </a:lnTo>
                  <a:lnTo>
                    <a:pt x="481" y="2"/>
                  </a:lnTo>
                  <a:lnTo>
                    <a:pt x="486" y="3"/>
                  </a:lnTo>
                  <a:lnTo>
                    <a:pt x="491" y="4"/>
                  </a:lnTo>
                  <a:lnTo>
                    <a:pt x="497" y="4"/>
                  </a:lnTo>
                  <a:lnTo>
                    <a:pt x="502" y="6"/>
                  </a:lnTo>
                  <a:lnTo>
                    <a:pt x="507" y="8"/>
                  </a:lnTo>
                  <a:lnTo>
                    <a:pt x="510" y="9"/>
                  </a:lnTo>
                  <a:lnTo>
                    <a:pt x="516" y="10"/>
                  </a:lnTo>
                  <a:lnTo>
                    <a:pt x="521" y="12"/>
                  </a:lnTo>
                  <a:lnTo>
                    <a:pt x="526" y="14"/>
                  </a:lnTo>
                  <a:lnTo>
                    <a:pt x="533" y="15"/>
                  </a:lnTo>
                  <a:lnTo>
                    <a:pt x="535" y="17"/>
                  </a:lnTo>
                  <a:lnTo>
                    <a:pt x="541" y="19"/>
                  </a:lnTo>
                  <a:lnTo>
                    <a:pt x="546" y="21"/>
                  </a:lnTo>
                  <a:lnTo>
                    <a:pt x="551" y="24"/>
                  </a:lnTo>
                  <a:lnTo>
                    <a:pt x="557" y="25"/>
                  </a:lnTo>
                  <a:lnTo>
                    <a:pt x="560" y="29"/>
                  </a:lnTo>
                  <a:lnTo>
                    <a:pt x="565" y="31"/>
                  </a:lnTo>
                  <a:lnTo>
                    <a:pt x="571" y="33"/>
                  </a:lnTo>
                  <a:lnTo>
                    <a:pt x="577" y="36"/>
                  </a:lnTo>
                  <a:lnTo>
                    <a:pt x="581" y="39"/>
                  </a:lnTo>
                  <a:lnTo>
                    <a:pt x="585" y="42"/>
                  </a:lnTo>
                  <a:lnTo>
                    <a:pt x="591" y="45"/>
                  </a:lnTo>
                  <a:lnTo>
                    <a:pt x="596" y="50"/>
                  </a:lnTo>
                  <a:lnTo>
                    <a:pt x="601" y="52"/>
                  </a:lnTo>
                  <a:lnTo>
                    <a:pt x="606" y="56"/>
                  </a:lnTo>
                  <a:lnTo>
                    <a:pt x="610" y="60"/>
                  </a:lnTo>
                  <a:lnTo>
                    <a:pt x="617" y="63"/>
                  </a:lnTo>
                  <a:lnTo>
                    <a:pt x="622" y="66"/>
                  </a:lnTo>
                  <a:lnTo>
                    <a:pt x="627" y="70"/>
                  </a:lnTo>
                  <a:lnTo>
                    <a:pt x="632" y="75"/>
                  </a:lnTo>
                  <a:lnTo>
                    <a:pt x="636" y="78"/>
                  </a:lnTo>
                  <a:lnTo>
                    <a:pt x="641" y="83"/>
                  </a:lnTo>
                  <a:lnTo>
                    <a:pt x="646" y="87"/>
                  </a:lnTo>
                  <a:lnTo>
                    <a:pt x="652" y="91"/>
                  </a:lnTo>
                  <a:lnTo>
                    <a:pt x="656" y="96"/>
                  </a:lnTo>
                  <a:lnTo>
                    <a:pt x="662" y="101"/>
                  </a:lnTo>
                  <a:lnTo>
                    <a:pt x="666" y="105"/>
                  </a:lnTo>
                  <a:lnTo>
                    <a:pt x="671" y="110"/>
                  </a:lnTo>
                  <a:lnTo>
                    <a:pt x="677" y="114"/>
                  </a:lnTo>
                  <a:lnTo>
                    <a:pt x="682" y="118"/>
                  </a:lnTo>
                  <a:lnTo>
                    <a:pt x="687" y="124"/>
                  </a:lnTo>
                  <a:lnTo>
                    <a:pt x="690" y="129"/>
                  </a:lnTo>
                  <a:lnTo>
                    <a:pt x="696" y="134"/>
                  </a:lnTo>
                  <a:lnTo>
                    <a:pt x="701" y="139"/>
                  </a:lnTo>
                  <a:lnTo>
                    <a:pt x="706" y="144"/>
                  </a:lnTo>
                  <a:lnTo>
                    <a:pt x="712" y="150"/>
                  </a:lnTo>
                  <a:lnTo>
                    <a:pt x="715" y="156"/>
                  </a:lnTo>
                  <a:lnTo>
                    <a:pt x="721" y="161"/>
                  </a:lnTo>
                  <a:lnTo>
                    <a:pt x="726" y="166"/>
                  </a:lnTo>
                  <a:lnTo>
                    <a:pt x="731" y="172"/>
                  </a:lnTo>
                  <a:lnTo>
                    <a:pt x="737" y="177"/>
                  </a:lnTo>
                  <a:lnTo>
                    <a:pt x="741" y="183"/>
                  </a:lnTo>
                  <a:lnTo>
                    <a:pt x="746" y="189"/>
                  </a:lnTo>
                  <a:lnTo>
                    <a:pt x="751" y="195"/>
                  </a:lnTo>
                  <a:lnTo>
                    <a:pt x="758" y="201"/>
                  </a:lnTo>
                  <a:lnTo>
                    <a:pt x="762" y="207"/>
                  </a:lnTo>
                  <a:lnTo>
                    <a:pt x="766" y="213"/>
                  </a:lnTo>
                  <a:lnTo>
                    <a:pt x="772" y="219"/>
                  </a:lnTo>
                  <a:lnTo>
                    <a:pt x="776" y="225"/>
                  </a:lnTo>
                  <a:lnTo>
                    <a:pt x="782" y="231"/>
                  </a:lnTo>
                  <a:lnTo>
                    <a:pt x="787" y="237"/>
                  </a:lnTo>
                  <a:lnTo>
                    <a:pt x="790" y="244"/>
                  </a:lnTo>
                  <a:lnTo>
                    <a:pt x="797" y="250"/>
                  </a:lnTo>
                  <a:lnTo>
                    <a:pt x="802" y="257"/>
                  </a:lnTo>
                  <a:lnTo>
                    <a:pt x="807" y="263"/>
                  </a:lnTo>
                  <a:lnTo>
                    <a:pt x="812" y="270"/>
                  </a:lnTo>
                  <a:lnTo>
                    <a:pt x="818" y="276"/>
                  </a:lnTo>
                  <a:lnTo>
                    <a:pt x="821" y="282"/>
                  </a:lnTo>
                  <a:lnTo>
                    <a:pt x="826" y="290"/>
                  </a:lnTo>
                  <a:lnTo>
                    <a:pt x="832" y="296"/>
                  </a:lnTo>
                  <a:lnTo>
                    <a:pt x="836" y="303"/>
                  </a:lnTo>
                  <a:lnTo>
                    <a:pt x="842" y="309"/>
                  </a:lnTo>
                  <a:lnTo>
                    <a:pt x="846" y="315"/>
                  </a:lnTo>
                  <a:lnTo>
                    <a:pt x="851" y="323"/>
                  </a:lnTo>
                  <a:lnTo>
                    <a:pt x="857" y="329"/>
                  </a:lnTo>
                  <a:lnTo>
                    <a:pt x="862" y="336"/>
                  </a:lnTo>
                  <a:lnTo>
                    <a:pt x="867" y="342"/>
                  </a:lnTo>
                  <a:lnTo>
                    <a:pt x="871" y="350"/>
                  </a:lnTo>
                  <a:lnTo>
                    <a:pt x="877" y="356"/>
                  </a:lnTo>
                  <a:lnTo>
                    <a:pt x="881" y="363"/>
                  </a:lnTo>
                  <a:lnTo>
                    <a:pt x="887" y="369"/>
                  </a:lnTo>
                  <a:lnTo>
                    <a:pt x="893" y="377"/>
                  </a:lnTo>
                  <a:lnTo>
                    <a:pt x="896" y="383"/>
                  </a:lnTo>
                  <a:lnTo>
                    <a:pt x="902" y="390"/>
                  </a:lnTo>
                  <a:lnTo>
                    <a:pt x="907" y="397"/>
                  </a:lnTo>
                  <a:lnTo>
                    <a:pt x="912" y="403"/>
                  </a:lnTo>
                  <a:lnTo>
                    <a:pt x="917" y="411"/>
                  </a:lnTo>
                  <a:lnTo>
                    <a:pt x="921" y="417"/>
                  </a:lnTo>
                  <a:lnTo>
                    <a:pt x="926" y="424"/>
                  </a:lnTo>
                  <a:lnTo>
                    <a:pt x="931" y="430"/>
                  </a:lnTo>
                  <a:lnTo>
                    <a:pt x="937" y="438"/>
                  </a:lnTo>
                  <a:lnTo>
                    <a:pt x="942" y="444"/>
                  </a:lnTo>
                  <a:lnTo>
                    <a:pt x="948" y="451"/>
                  </a:lnTo>
                  <a:lnTo>
                    <a:pt x="952" y="457"/>
                  </a:lnTo>
                  <a:lnTo>
                    <a:pt x="956" y="465"/>
                  </a:lnTo>
                  <a:lnTo>
                    <a:pt x="962" y="471"/>
                  </a:lnTo>
                  <a:lnTo>
                    <a:pt x="967" y="477"/>
                  </a:lnTo>
                  <a:lnTo>
                    <a:pt x="972" y="484"/>
                  </a:lnTo>
                  <a:lnTo>
                    <a:pt x="976" y="490"/>
                  </a:lnTo>
                  <a:lnTo>
                    <a:pt x="982" y="498"/>
                  </a:lnTo>
                  <a:lnTo>
                    <a:pt x="987" y="504"/>
                  </a:lnTo>
                  <a:lnTo>
                    <a:pt x="992" y="510"/>
                  </a:lnTo>
                  <a:lnTo>
                    <a:pt x="998" y="517"/>
                  </a:lnTo>
                  <a:lnTo>
                    <a:pt x="1001" y="523"/>
                  </a:lnTo>
                  <a:lnTo>
                    <a:pt x="1007" y="530"/>
                  </a:lnTo>
                  <a:lnTo>
                    <a:pt x="1013" y="536"/>
                  </a:lnTo>
                  <a:lnTo>
                    <a:pt x="1017" y="543"/>
                  </a:lnTo>
                  <a:lnTo>
                    <a:pt x="1023" y="549"/>
                  </a:lnTo>
                  <a:lnTo>
                    <a:pt x="1027" y="555"/>
                  </a:lnTo>
                  <a:lnTo>
                    <a:pt x="1032" y="561"/>
                  </a:lnTo>
                  <a:lnTo>
                    <a:pt x="1037" y="567"/>
                  </a:lnTo>
                  <a:lnTo>
                    <a:pt x="1043" y="573"/>
                  </a:lnTo>
                  <a:lnTo>
                    <a:pt x="1048" y="579"/>
                  </a:lnTo>
                  <a:lnTo>
                    <a:pt x="1051" y="585"/>
                  </a:lnTo>
                  <a:lnTo>
                    <a:pt x="1057" y="591"/>
                  </a:lnTo>
                  <a:lnTo>
                    <a:pt x="1061" y="597"/>
                  </a:lnTo>
                  <a:lnTo>
                    <a:pt x="1067" y="603"/>
                  </a:lnTo>
                  <a:lnTo>
                    <a:pt x="1073" y="608"/>
                  </a:lnTo>
                  <a:lnTo>
                    <a:pt x="1076" y="614"/>
                  </a:lnTo>
                  <a:lnTo>
                    <a:pt x="1082" y="619"/>
                  </a:lnTo>
                  <a:lnTo>
                    <a:pt x="1087" y="624"/>
                  </a:lnTo>
                  <a:lnTo>
                    <a:pt x="1092" y="630"/>
                  </a:lnTo>
                  <a:lnTo>
                    <a:pt x="1097" y="636"/>
                  </a:lnTo>
                  <a:lnTo>
                    <a:pt x="1103" y="641"/>
                  </a:lnTo>
                  <a:lnTo>
                    <a:pt x="1106" y="646"/>
                  </a:lnTo>
                  <a:lnTo>
                    <a:pt x="1111" y="651"/>
                  </a:lnTo>
                  <a:lnTo>
                    <a:pt x="1117" y="656"/>
                  </a:lnTo>
                  <a:lnTo>
                    <a:pt x="1122" y="662"/>
                  </a:lnTo>
                  <a:lnTo>
                    <a:pt x="1128" y="666"/>
                  </a:lnTo>
                  <a:lnTo>
                    <a:pt x="1133" y="670"/>
                  </a:lnTo>
                  <a:lnTo>
                    <a:pt x="1137" y="675"/>
                  </a:lnTo>
                  <a:lnTo>
                    <a:pt x="1143" y="679"/>
                  </a:lnTo>
                  <a:lnTo>
                    <a:pt x="1147" y="684"/>
                  </a:lnTo>
                  <a:lnTo>
                    <a:pt x="1153" y="689"/>
                  </a:lnTo>
                  <a:lnTo>
                    <a:pt x="1157" y="693"/>
                  </a:lnTo>
                  <a:lnTo>
                    <a:pt x="1163" y="697"/>
                  </a:lnTo>
                  <a:lnTo>
                    <a:pt x="1168" y="702"/>
                  </a:lnTo>
                  <a:lnTo>
                    <a:pt x="1173" y="705"/>
                  </a:lnTo>
                  <a:lnTo>
                    <a:pt x="1179" y="710"/>
                  </a:lnTo>
                  <a:lnTo>
                    <a:pt x="1181" y="714"/>
                  </a:lnTo>
                  <a:lnTo>
                    <a:pt x="1187" y="717"/>
                  </a:lnTo>
                  <a:lnTo>
                    <a:pt x="1193" y="720"/>
                  </a:lnTo>
                  <a:lnTo>
                    <a:pt x="1197" y="724"/>
                  </a:lnTo>
                  <a:lnTo>
                    <a:pt x="1203" y="728"/>
                  </a:lnTo>
                  <a:lnTo>
                    <a:pt x="1207" y="730"/>
                  </a:lnTo>
                  <a:lnTo>
                    <a:pt x="1212" y="735"/>
                  </a:lnTo>
                  <a:lnTo>
                    <a:pt x="1217" y="738"/>
                  </a:lnTo>
                  <a:lnTo>
                    <a:pt x="1223" y="741"/>
                  </a:lnTo>
                  <a:lnTo>
                    <a:pt x="1228" y="744"/>
                  </a:lnTo>
                  <a:lnTo>
                    <a:pt x="1233" y="747"/>
                  </a:lnTo>
                  <a:lnTo>
                    <a:pt x="1237" y="749"/>
                  </a:lnTo>
                  <a:lnTo>
                    <a:pt x="1241" y="751"/>
                  </a:lnTo>
                  <a:lnTo>
                    <a:pt x="1247" y="755"/>
                  </a:lnTo>
                  <a:lnTo>
                    <a:pt x="1253" y="756"/>
                  </a:lnTo>
                  <a:lnTo>
                    <a:pt x="1257" y="759"/>
                  </a:lnTo>
                  <a:lnTo>
                    <a:pt x="1263" y="761"/>
                  </a:lnTo>
                  <a:lnTo>
                    <a:pt x="1267" y="763"/>
                  </a:lnTo>
                  <a:lnTo>
                    <a:pt x="1273" y="765"/>
                  </a:lnTo>
                  <a:lnTo>
                    <a:pt x="1277" y="766"/>
                  </a:lnTo>
                  <a:lnTo>
                    <a:pt x="1283" y="768"/>
                  </a:lnTo>
                  <a:lnTo>
                    <a:pt x="1287" y="770"/>
                  </a:lnTo>
                  <a:lnTo>
                    <a:pt x="1292" y="771"/>
                  </a:lnTo>
                  <a:lnTo>
                    <a:pt x="1298" y="772"/>
                  </a:lnTo>
                  <a:lnTo>
                    <a:pt x="1302" y="774"/>
                  </a:lnTo>
                  <a:lnTo>
                    <a:pt x="1309" y="776"/>
                  </a:lnTo>
                  <a:lnTo>
                    <a:pt x="1313" y="776"/>
                  </a:lnTo>
                  <a:lnTo>
                    <a:pt x="1317" y="777"/>
                  </a:lnTo>
                  <a:lnTo>
                    <a:pt x="1323" y="778"/>
                  </a:lnTo>
                  <a:lnTo>
                    <a:pt x="1328" y="778"/>
                  </a:lnTo>
                  <a:lnTo>
                    <a:pt x="1333" y="778"/>
                  </a:lnTo>
                  <a:lnTo>
                    <a:pt x="1337" y="780"/>
                  </a:lnTo>
                  <a:lnTo>
                    <a:pt x="1342" y="780"/>
                  </a:lnTo>
                  <a:lnTo>
                    <a:pt x="1348" y="780"/>
                  </a:lnTo>
                  <a:lnTo>
                    <a:pt x="1353" y="780"/>
                  </a:lnTo>
                  <a:lnTo>
                    <a:pt x="1359" y="780"/>
                  </a:lnTo>
                  <a:lnTo>
                    <a:pt x="1361" y="780"/>
                  </a:lnTo>
                  <a:lnTo>
                    <a:pt x="1367" y="780"/>
                  </a:lnTo>
                  <a:lnTo>
                    <a:pt x="1372" y="778"/>
                  </a:lnTo>
                  <a:lnTo>
                    <a:pt x="1377" y="778"/>
                  </a:lnTo>
                  <a:lnTo>
                    <a:pt x="1383" y="778"/>
                  </a:lnTo>
                  <a:lnTo>
                    <a:pt x="1388" y="777"/>
                  </a:lnTo>
                  <a:lnTo>
                    <a:pt x="1392" y="776"/>
                  </a:lnTo>
                  <a:lnTo>
                    <a:pt x="1397" y="776"/>
                  </a:lnTo>
                  <a:lnTo>
                    <a:pt x="1403" y="774"/>
                  </a:lnTo>
                  <a:lnTo>
                    <a:pt x="1408" y="772"/>
                  </a:lnTo>
                  <a:lnTo>
                    <a:pt x="1413" y="771"/>
                  </a:lnTo>
                  <a:lnTo>
                    <a:pt x="1418" y="770"/>
                  </a:lnTo>
                  <a:lnTo>
                    <a:pt x="1422" y="768"/>
                  </a:lnTo>
                  <a:lnTo>
                    <a:pt x="1428" y="766"/>
                  </a:lnTo>
                  <a:lnTo>
                    <a:pt x="1433" y="765"/>
                  </a:lnTo>
                  <a:lnTo>
                    <a:pt x="1438" y="763"/>
                  </a:lnTo>
                  <a:lnTo>
                    <a:pt x="1443" y="761"/>
                  </a:lnTo>
                  <a:lnTo>
                    <a:pt x="1448" y="759"/>
                  </a:lnTo>
                  <a:lnTo>
                    <a:pt x="1453" y="756"/>
                  </a:lnTo>
                  <a:lnTo>
                    <a:pt x="1458" y="755"/>
                  </a:lnTo>
                  <a:lnTo>
                    <a:pt x="1464" y="751"/>
                  </a:lnTo>
                  <a:lnTo>
                    <a:pt x="1467" y="749"/>
                  </a:lnTo>
                  <a:lnTo>
                    <a:pt x="1472" y="747"/>
                  </a:lnTo>
                  <a:lnTo>
                    <a:pt x="1478" y="744"/>
                  </a:lnTo>
                  <a:lnTo>
                    <a:pt x="1482" y="741"/>
                  </a:lnTo>
                  <a:lnTo>
                    <a:pt x="1489" y="738"/>
                  </a:lnTo>
                  <a:lnTo>
                    <a:pt x="1492" y="735"/>
                  </a:lnTo>
                  <a:lnTo>
                    <a:pt x="1497" y="730"/>
                  </a:lnTo>
                  <a:lnTo>
                    <a:pt x="1503" y="728"/>
                  </a:lnTo>
                  <a:lnTo>
                    <a:pt x="1508" y="724"/>
                  </a:lnTo>
                  <a:lnTo>
                    <a:pt x="1513" y="720"/>
                  </a:lnTo>
                  <a:lnTo>
                    <a:pt x="1518" y="717"/>
                  </a:lnTo>
                  <a:lnTo>
                    <a:pt x="1522" y="714"/>
                  </a:lnTo>
                  <a:lnTo>
                    <a:pt x="1528" y="710"/>
                  </a:lnTo>
                  <a:lnTo>
                    <a:pt x="1533" y="705"/>
                  </a:lnTo>
                  <a:lnTo>
                    <a:pt x="1539" y="702"/>
                  </a:lnTo>
                  <a:lnTo>
                    <a:pt x="1543" y="697"/>
                  </a:lnTo>
                  <a:lnTo>
                    <a:pt x="1548" y="693"/>
                  </a:lnTo>
                  <a:lnTo>
                    <a:pt x="1553" y="689"/>
                  </a:lnTo>
                  <a:lnTo>
                    <a:pt x="1558" y="684"/>
                  </a:lnTo>
                  <a:lnTo>
                    <a:pt x="1564" y="679"/>
                  </a:lnTo>
                  <a:lnTo>
                    <a:pt x="1569" y="675"/>
                  </a:lnTo>
                  <a:lnTo>
                    <a:pt x="1573" y="670"/>
                  </a:lnTo>
                  <a:lnTo>
                    <a:pt x="1578" y="666"/>
                  </a:lnTo>
                  <a:lnTo>
                    <a:pt x="1584" y="662"/>
                  </a:lnTo>
                  <a:lnTo>
                    <a:pt x="1588" y="656"/>
                  </a:lnTo>
                  <a:lnTo>
                    <a:pt x="1594" y="651"/>
                  </a:lnTo>
                  <a:lnTo>
                    <a:pt x="1598" y="646"/>
                  </a:lnTo>
                  <a:lnTo>
                    <a:pt x="1602" y="641"/>
                  </a:lnTo>
                  <a:lnTo>
                    <a:pt x="1608" y="636"/>
                  </a:lnTo>
                  <a:lnTo>
                    <a:pt x="1613" y="630"/>
                  </a:lnTo>
                  <a:lnTo>
                    <a:pt x="1618" y="624"/>
                  </a:lnTo>
                  <a:lnTo>
                    <a:pt x="1623" y="619"/>
                  </a:lnTo>
                  <a:lnTo>
                    <a:pt x="1628" y="614"/>
                  </a:lnTo>
                  <a:lnTo>
                    <a:pt x="1633" y="608"/>
                  </a:lnTo>
                  <a:lnTo>
                    <a:pt x="1638" y="603"/>
                  </a:lnTo>
                  <a:lnTo>
                    <a:pt x="1644" y="597"/>
                  </a:lnTo>
                  <a:lnTo>
                    <a:pt x="1648" y="591"/>
                  </a:lnTo>
                  <a:lnTo>
                    <a:pt x="1652" y="585"/>
                  </a:lnTo>
                  <a:lnTo>
                    <a:pt x="1658" y="579"/>
                  </a:lnTo>
                  <a:lnTo>
                    <a:pt x="1663" y="573"/>
                  </a:lnTo>
                  <a:lnTo>
                    <a:pt x="1668" y="567"/>
                  </a:lnTo>
                  <a:lnTo>
                    <a:pt x="1674" y="561"/>
                  </a:lnTo>
                  <a:lnTo>
                    <a:pt x="1678" y="555"/>
                  </a:lnTo>
                  <a:lnTo>
                    <a:pt x="1684" y="549"/>
                  </a:lnTo>
                  <a:lnTo>
                    <a:pt x="1689" y="543"/>
                  </a:lnTo>
                  <a:lnTo>
                    <a:pt x="1694" y="536"/>
                  </a:lnTo>
                  <a:lnTo>
                    <a:pt x="1699" y="530"/>
                  </a:lnTo>
                  <a:lnTo>
                    <a:pt x="1703" y="523"/>
                  </a:lnTo>
                  <a:lnTo>
                    <a:pt x="1708" y="517"/>
                  </a:lnTo>
                  <a:lnTo>
                    <a:pt x="1714" y="510"/>
                  </a:lnTo>
                  <a:lnTo>
                    <a:pt x="1720" y="504"/>
                  </a:lnTo>
                  <a:lnTo>
                    <a:pt x="1724" y="498"/>
                  </a:lnTo>
                  <a:lnTo>
                    <a:pt x="1728" y="490"/>
                  </a:lnTo>
                  <a:lnTo>
                    <a:pt x="1733" y="484"/>
                  </a:lnTo>
                  <a:lnTo>
                    <a:pt x="1738" y="477"/>
                  </a:lnTo>
                  <a:lnTo>
                    <a:pt x="1744" y="471"/>
                  </a:lnTo>
                  <a:lnTo>
                    <a:pt x="1749" y="465"/>
                  </a:lnTo>
                  <a:lnTo>
                    <a:pt x="1753" y="457"/>
                  </a:lnTo>
                  <a:lnTo>
                    <a:pt x="1758" y="451"/>
                  </a:lnTo>
                  <a:lnTo>
                    <a:pt x="1764" y="444"/>
                  </a:lnTo>
                  <a:lnTo>
                    <a:pt x="1768" y="438"/>
                  </a:lnTo>
                  <a:lnTo>
                    <a:pt x="1774" y="430"/>
                  </a:lnTo>
                  <a:lnTo>
                    <a:pt x="1778" y="424"/>
                  </a:lnTo>
                  <a:lnTo>
                    <a:pt x="1782" y="417"/>
                  </a:lnTo>
                  <a:lnTo>
                    <a:pt x="1788" y="411"/>
                  </a:lnTo>
                  <a:lnTo>
                    <a:pt x="1793" y="403"/>
                  </a:lnTo>
                  <a:lnTo>
                    <a:pt x="1798" y="397"/>
                  </a:lnTo>
                  <a:lnTo>
                    <a:pt x="1804" y="390"/>
                  </a:lnTo>
                  <a:lnTo>
                    <a:pt x="1809" y="383"/>
                  </a:lnTo>
                  <a:lnTo>
                    <a:pt x="1814" y="377"/>
                  </a:lnTo>
                  <a:lnTo>
                    <a:pt x="1819" y="369"/>
                  </a:lnTo>
                  <a:lnTo>
                    <a:pt x="1825" y="363"/>
                  </a:lnTo>
                  <a:lnTo>
                    <a:pt x="1829" y="356"/>
                  </a:lnTo>
                  <a:lnTo>
                    <a:pt x="1833" y="350"/>
                  </a:lnTo>
                  <a:lnTo>
                    <a:pt x="1839" y="342"/>
                  </a:lnTo>
                  <a:lnTo>
                    <a:pt x="1843" y="336"/>
                  </a:lnTo>
                  <a:lnTo>
                    <a:pt x="1849" y="329"/>
                  </a:lnTo>
                  <a:lnTo>
                    <a:pt x="1854" y="323"/>
                  </a:lnTo>
                  <a:lnTo>
                    <a:pt x="1858" y="315"/>
                  </a:lnTo>
                  <a:lnTo>
                    <a:pt x="1864" y="309"/>
                  </a:lnTo>
                  <a:lnTo>
                    <a:pt x="1869" y="303"/>
                  </a:lnTo>
                  <a:lnTo>
                    <a:pt x="1874" y="296"/>
                  </a:lnTo>
                  <a:lnTo>
                    <a:pt x="1879" y="290"/>
                  </a:lnTo>
                  <a:lnTo>
                    <a:pt x="1883" y="282"/>
                  </a:lnTo>
                  <a:lnTo>
                    <a:pt x="1888" y="276"/>
                  </a:lnTo>
                  <a:lnTo>
                    <a:pt x="1893" y="270"/>
                  </a:lnTo>
                  <a:lnTo>
                    <a:pt x="1900" y="263"/>
                  </a:lnTo>
                  <a:lnTo>
                    <a:pt x="1904" y="257"/>
                  </a:lnTo>
                  <a:lnTo>
                    <a:pt x="1908" y="250"/>
                  </a:lnTo>
                  <a:lnTo>
                    <a:pt x="1913" y="244"/>
                  </a:lnTo>
                  <a:lnTo>
                    <a:pt x="1918" y="237"/>
                  </a:lnTo>
                  <a:lnTo>
                    <a:pt x="1924" y="231"/>
                  </a:lnTo>
                  <a:lnTo>
                    <a:pt x="1929" y="225"/>
                  </a:lnTo>
                  <a:lnTo>
                    <a:pt x="1933" y="219"/>
                  </a:lnTo>
                  <a:lnTo>
                    <a:pt x="1939" y="213"/>
                  </a:lnTo>
                  <a:lnTo>
                    <a:pt x="1944" y="207"/>
                  </a:lnTo>
                  <a:lnTo>
                    <a:pt x="1949" y="201"/>
                  </a:lnTo>
                  <a:lnTo>
                    <a:pt x="1955" y="195"/>
                  </a:lnTo>
                  <a:lnTo>
                    <a:pt x="1960" y="189"/>
                  </a:lnTo>
                  <a:lnTo>
                    <a:pt x="1963" y="183"/>
                  </a:lnTo>
                  <a:lnTo>
                    <a:pt x="1969" y="177"/>
                  </a:lnTo>
                  <a:lnTo>
                    <a:pt x="1974" y="172"/>
                  </a:lnTo>
                  <a:lnTo>
                    <a:pt x="1979" y="166"/>
                  </a:lnTo>
                  <a:lnTo>
                    <a:pt x="1984" y="161"/>
                  </a:lnTo>
                  <a:lnTo>
                    <a:pt x="1989" y="156"/>
                  </a:lnTo>
                  <a:lnTo>
                    <a:pt x="1994" y="150"/>
                  </a:lnTo>
                  <a:lnTo>
                    <a:pt x="1999" y="144"/>
                  </a:lnTo>
                  <a:lnTo>
                    <a:pt x="2005" y="139"/>
                  </a:lnTo>
                  <a:lnTo>
                    <a:pt x="2009" y="134"/>
                  </a:lnTo>
                  <a:lnTo>
                    <a:pt x="2013" y="129"/>
                  </a:lnTo>
                  <a:lnTo>
                    <a:pt x="2019" y="124"/>
                  </a:lnTo>
                  <a:lnTo>
                    <a:pt x="2023" y="118"/>
                  </a:lnTo>
                  <a:lnTo>
                    <a:pt x="2029" y="114"/>
                  </a:lnTo>
                  <a:lnTo>
                    <a:pt x="2034" y="110"/>
                  </a:lnTo>
                  <a:lnTo>
                    <a:pt x="2038" y="105"/>
                  </a:lnTo>
                  <a:lnTo>
                    <a:pt x="2044" y="101"/>
                  </a:lnTo>
                  <a:lnTo>
                    <a:pt x="2049" y="96"/>
                  </a:lnTo>
                  <a:lnTo>
                    <a:pt x="2054" y="91"/>
                  </a:lnTo>
                  <a:lnTo>
                    <a:pt x="2059" y="87"/>
                  </a:lnTo>
                  <a:lnTo>
                    <a:pt x="2064" y="83"/>
                  </a:lnTo>
                  <a:lnTo>
                    <a:pt x="2068" y="78"/>
                  </a:lnTo>
                  <a:lnTo>
                    <a:pt x="2074" y="75"/>
                  </a:lnTo>
                  <a:lnTo>
                    <a:pt x="2080" y="70"/>
                  </a:lnTo>
                  <a:lnTo>
                    <a:pt x="2085" y="66"/>
                  </a:lnTo>
                  <a:lnTo>
                    <a:pt x="2089" y="63"/>
                  </a:lnTo>
                  <a:lnTo>
                    <a:pt x="2094" y="60"/>
                  </a:lnTo>
                  <a:lnTo>
                    <a:pt x="2099" y="56"/>
                  </a:lnTo>
                  <a:lnTo>
                    <a:pt x="2104" y="52"/>
                  </a:lnTo>
                  <a:lnTo>
                    <a:pt x="2110" y="50"/>
                  </a:lnTo>
                  <a:lnTo>
                    <a:pt x="2115" y="45"/>
                  </a:lnTo>
                  <a:lnTo>
                    <a:pt x="2118" y="42"/>
                  </a:lnTo>
                  <a:lnTo>
                    <a:pt x="2125" y="39"/>
                  </a:lnTo>
                  <a:lnTo>
                    <a:pt x="2129" y="36"/>
                  </a:lnTo>
                  <a:lnTo>
                    <a:pt x="2135" y="33"/>
                  </a:lnTo>
                  <a:lnTo>
                    <a:pt x="2140" y="31"/>
                  </a:lnTo>
                  <a:lnTo>
                    <a:pt x="2143" y="29"/>
                  </a:lnTo>
                  <a:lnTo>
                    <a:pt x="2149" y="25"/>
                  </a:lnTo>
                  <a:lnTo>
                    <a:pt x="2154" y="24"/>
                  </a:lnTo>
                  <a:lnTo>
                    <a:pt x="2159" y="21"/>
                  </a:lnTo>
                  <a:lnTo>
                    <a:pt x="2164" y="19"/>
                  </a:lnTo>
                  <a:lnTo>
                    <a:pt x="2169" y="17"/>
                  </a:lnTo>
                  <a:lnTo>
                    <a:pt x="2174" y="15"/>
                  </a:lnTo>
                  <a:lnTo>
                    <a:pt x="2179" y="14"/>
                  </a:lnTo>
                  <a:lnTo>
                    <a:pt x="2185" y="12"/>
                  </a:lnTo>
                  <a:lnTo>
                    <a:pt x="2189" y="10"/>
                  </a:lnTo>
                  <a:lnTo>
                    <a:pt x="2194" y="9"/>
                  </a:lnTo>
                  <a:lnTo>
                    <a:pt x="2200" y="8"/>
                  </a:lnTo>
                  <a:lnTo>
                    <a:pt x="2204" y="6"/>
                  </a:lnTo>
                  <a:lnTo>
                    <a:pt x="2210" y="4"/>
                  </a:lnTo>
                  <a:lnTo>
                    <a:pt x="2215" y="4"/>
                  </a:lnTo>
                  <a:lnTo>
                    <a:pt x="2219" y="3"/>
                  </a:lnTo>
                  <a:lnTo>
                    <a:pt x="2224" y="2"/>
                  </a:lnTo>
                  <a:lnTo>
                    <a:pt x="2230" y="2"/>
                  </a:lnTo>
                  <a:lnTo>
                    <a:pt x="2235" y="2"/>
                  </a:lnTo>
                  <a:lnTo>
                    <a:pt x="2240" y="0"/>
                  </a:lnTo>
                  <a:lnTo>
                    <a:pt x="2246" y="0"/>
                  </a:lnTo>
                  <a:lnTo>
                    <a:pt x="2248" y="0"/>
                  </a:lnTo>
                  <a:lnTo>
                    <a:pt x="2254" y="0"/>
                  </a:lnTo>
                  <a:lnTo>
                    <a:pt x="2259" y="0"/>
                  </a:lnTo>
                  <a:lnTo>
                    <a:pt x="2265" y="0"/>
                  </a:lnTo>
                  <a:lnTo>
                    <a:pt x="2271" y="0"/>
                  </a:lnTo>
                  <a:lnTo>
                    <a:pt x="2274" y="2"/>
                  </a:lnTo>
                  <a:lnTo>
                    <a:pt x="2279" y="2"/>
                  </a:lnTo>
                  <a:lnTo>
                    <a:pt x="2284" y="2"/>
                  </a:lnTo>
                  <a:lnTo>
                    <a:pt x="2290" y="3"/>
                  </a:lnTo>
                  <a:lnTo>
                    <a:pt x="2295" y="4"/>
                  </a:lnTo>
                  <a:lnTo>
                    <a:pt x="2298" y="4"/>
                  </a:lnTo>
                  <a:lnTo>
                    <a:pt x="2305" y="6"/>
                  </a:lnTo>
                  <a:lnTo>
                    <a:pt x="2309" y="8"/>
                  </a:lnTo>
                  <a:lnTo>
                    <a:pt x="2315" y="9"/>
                  </a:lnTo>
                  <a:lnTo>
                    <a:pt x="2320" y="10"/>
                  </a:lnTo>
                  <a:lnTo>
                    <a:pt x="2324" y="12"/>
                  </a:lnTo>
                  <a:lnTo>
                    <a:pt x="2330" y="14"/>
                  </a:lnTo>
                  <a:lnTo>
                    <a:pt x="2334" y="15"/>
                  </a:lnTo>
                  <a:lnTo>
                    <a:pt x="2340" y="17"/>
                  </a:lnTo>
                  <a:lnTo>
                    <a:pt x="2344" y="19"/>
                  </a:lnTo>
                  <a:lnTo>
                    <a:pt x="2350" y="21"/>
                  </a:lnTo>
                  <a:lnTo>
                    <a:pt x="2355" y="24"/>
                  </a:lnTo>
                  <a:lnTo>
                    <a:pt x="2360" y="25"/>
                  </a:lnTo>
                  <a:lnTo>
                    <a:pt x="2366" y="29"/>
                  </a:lnTo>
                  <a:lnTo>
                    <a:pt x="2370" y="31"/>
                  </a:lnTo>
                  <a:lnTo>
                    <a:pt x="2374" y="33"/>
                  </a:lnTo>
                  <a:lnTo>
                    <a:pt x="2379" y="36"/>
                  </a:lnTo>
                  <a:lnTo>
                    <a:pt x="2384" y="39"/>
                  </a:lnTo>
                  <a:lnTo>
                    <a:pt x="2390" y="42"/>
                  </a:lnTo>
                  <a:lnTo>
                    <a:pt x="2395" y="45"/>
                  </a:lnTo>
                  <a:lnTo>
                    <a:pt x="2400" y="50"/>
                  </a:lnTo>
                  <a:lnTo>
                    <a:pt x="2404" y="52"/>
                  </a:lnTo>
                  <a:lnTo>
                    <a:pt x="2410" y="56"/>
                  </a:lnTo>
                  <a:lnTo>
                    <a:pt x="2415" y="60"/>
                  </a:lnTo>
                  <a:lnTo>
                    <a:pt x="2420" y="63"/>
                  </a:lnTo>
                  <a:lnTo>
                    <a:pt x="2426" y="66"/>
                  </a:lnTo>
                  <a:lnTo>
                    <a:pt x="2428" y="70"/>
                  </a:lnTo>
                  <a:lnTo>
                    <a:pt x="2434" y="75"/>
                  </a:lnTo>
                  <a:lnTo>
                    <a:pt x="2439" y="78"/>
                  </a:lnTo>
                  <a:lnTo>
                    <a:pt x="2444" y="83"/>
                  </a:lnTo>
                  <a:lnTo>
                    <a:pt x="2451" y="87"/>
                  </a:lnTo>
                  <a:lnTo>
                    <a:pt x="2454" y="91"/>
                  </a:lnTo>
                  <a:lnTo>
                    <a:pt x="2460" y="96"/>
                  </a:lnTo>
                  <a:lnTo>
                    <a:pt x="2464" y="101"/>
                  </a:lnTo>
                  <a:lnTo>
                    <a:pt x="2470" y="105"/>
                  </a:lnTo>
                  <a:lnTo>
                    <a:pt x="2475" y="110"/>
                  </a:lnTo>
                  <a:lnTo>
                    <a:pt x="2479" y="114"/>
                  </a:lnTo>
                  <a:lnTo>
                    <a:pt x="2485" y="118"/>
                  </a:lnTo>
                  <a:lnTo>
                    <a:pt x="2490" y="124"/>
                  </a:lnTo>
                  <a:lnTo>
                    <a:pt x="2496" y="129"/>
                  </a:lnTo>
                  <a:lnTo>
                    <a:pt x="2501" y="134"/>
                  </a:lnTo>
                  <a:lnTo>
                    <a:pt x="2504" y="139"/>
                  </a:lnTo>
                  <a:lnTo>
                    <a:pt x="2510" y="144"/>
                  </a:lnTo>
                  <a:lnTo>
                    <a:pt x="2515" y="150"/>
                  </a:lnTo>
                  <a:lnTo>
                    <a:pt x="2520" y="156"/>
                  </a:lnTo>
                  <a:lnTo>
                    <a:pt x="2525" y="161"/>
                  </a:lnTo>
                  <a:lnTo>
                    <a:pt x="2531" y="166"/>
                  </a:lnTo>
                  <a:lnTo>
                    <a:pt x="2535" y="172"/>
                  </a:lnTo>
                  <a:lnTo>
                    <a:pt x="2540" y="177"/>
                  </a:lnTo>
                  <a:lnTo>
                    <a:pt x="2546" y="183"/>
                  </a:lnTo>
                  <a:lnTo>
                    <a:pt x="2550" y="189"/>
                  </a:lnTo>
                  <a:lnTo>
                    <a:pt x="2556" y="195"/>
                  </a:lnTo>
                  <a:lnTo>
                    <a:pt x="2559" y="201"/>
                  </a:lnTo>
                  <a:lnTo>
                    <a:pt x="2564" y="207"/>
                  </a:lnTo>
                  <a:lnTo>
                    <a:pt x="2570" y="213"/>
                  </a:lnTo>
                  <a:lnTo>
                    <a:pt x="2575" y="219"/>
                  </a:lnTo>
                  <a:lnTo>
                    <a:pt x="2580" y="225"/>
                  </a:lnTo>
                  <a:lnTo>
                    <a:pt x="2584" y="231"/>
                  </a:lnTo>
                  <a:lnTo>
                    <a:pt x="2590" y="237"/>
                  </a:lnTo>
                  <a:lnTo>
                    <a:pt x="2595" y="244"/>
                  </a:lnTo>
                  <a:lnTo>
                    <a:pt x="2600" y="250"/>
                  </a:lnTo>
                  <a:lnTo>
                    <a:pt x="2606" y="257"/>
                  </a:lnTo>
                  <a:lnTo>
                    <a:pt x="2609" y="263"/>
                  </a:lnTo>
                  <a:lnTo>
                    <a:pt x="2615" y="270"/>
                  </a:lnTo>
                  <a:lnTo>
                    <a:pt x="2620" y="276"/>
                  </a:lnTo>
                  <a:lnTo>
                    <a:pt x="2625" y="282"/>
                  </a:lnTo>
                  <a:lnTo>
                    <a:pt x="2631" y="290"/>
                  </a:lnTo>
                  <a:lnTo>
                    <a:pt x="2635" y="296"/>
                  </a:lnTo>
                  <a:lnTo>
                    <a:pt x="2640" y="303"/>
                  </a:lnTo>
                  <a:lnTo>
                    <a:pt x="2645" y="309"/>
                  </a:lnTo>
                  <a:lnTo>
                    <a:pt x="2651" y="315"/>
                  </a:lnTo>
                  <a:lnTo>
                    <a:pt x="2655" y="323"/>
                  </a:lnTo>
                  <a:lnTo>
                    <a:pt x="2659" y="329"/>
                  </a:lnTo>
                  <a:lnTo>
                    <a:pt x="2665" y="336"/>
                  </a:lnTo>
                  <a:lnTo>
                    <a:pt x="2670" y="342"/>
                  </a:lnTo>
                  <a:lnTo>
                    <a:pt x="2676" y="350"/>
                  </a:lnTo>
                  <a:lnTo>
                    <a:pt x="2681" y="356"/>
                  </a:lnTo>
                  <a:lnTo>
                    <a:pt x="2686" y="363"/>
                  </a:lnTo>
                  <a:lnTo>
                    <a:pt x="2690" y="369"/>
                  </a:lnTo>
                  <a:lnTo>
                    <a:pt x="2695" y="377"/>
                  </a:lnTo>
                  <a:lnTo>
                    <a:pt x="2700" y="383"/>
                  </a:lnTo>
                  <a:lnTo>
                    <a:pt x="2705" y="390"/>
                  </a:lnTo>
                  <a:lnTo>
                    <a:pt x="2711" y="397"/>
                  </a:lnTo>
                  <a:lnTo>
                    <a:pt x="2715" y="403"/>
                  </a:lnTo>
                  <a:lnTo>
                    <a:pt x="2720" y="411"/>
                  </a:lnTo>
                  <a:lnTo>
                    <a:pt x="2726" y="417"/>
                  </a:lnTo>
                  <a:lnTo>
                    <a:pt x="2730" y="424"/>
                  </a:lnTo>
                  <a:lnTo>
                    <a:pt x="2736" y="430"/>
                  </a:lnTo>
                  <a:lnTo>
                    <a:pt x="2740" y="438"/>
                  </a:lnTo>
                  <a:lnTo>
                    <a:pt x="2745" y="444"/>
                  </a:lnTo>
                  <a:lnTo>
                    <a:pt x="2751" y="451"/>
                  </a:lnTo>
                  <a:lnTo>
                    <a:pt x="2756" y="457"/>
                  </a:lnTo>
                  <a:lnTo>
                    <a:pt x="2761" y="465"/>
                  </a:lnTo>
                  <a:lnTo>
                    <a:pt x="2765" y="471"/>
                  </a:lnTo>
                  <a:lnTo>
                    <a:pt x="2771" y="477"/>
                  </a:lnTo>
                  <a:lnTo>
                    <a:pt x="2775" y="484"/>
                  </a:lnTo>
                  <a:lnTo>
                    <a:pt x="2781" y="490"/>
                  </a:lnTo>
                  <a:lnTo>
                    <a:pt x="2787" y="498"/>
                  </a:lnTo>
                  <a:lnTo>
                    <a:pt x="2789" y="504"/>
                  </a:lnTo>
                  <a:lnTo>
                    <a:pt x="2795" y="510"/>
                  </a:lnTo>
                  <a:lnTo>
                    <a:pt x="2800" y="517"/>
                  </a:lnTo>
                  <a:lnTo>
                    <a:pt x="2805" y="523"/>
                  </a:lnTo>
                  <a:lnTo>
                    <a:pt x="2811" y="530"/>
                  </a:lnTo>
                  <a:lnTo>
                    <a:pt x="2817" y="536"/>
                  </a:lnTo>
                  <a:lnTo>
                    <a:pt x="2820" y="543"/>
                  </a:lnTo>
                  <a:lnTo>
                    <a:pt x="2825" y="549"/>
                  </a:lnTo>
                  <a:lnTo>
                    <a:pt x="2831" y="555"/>
                  </a:lnTo>
                  <a:lnTo>
                    <a:pt x="2835" y="561"/>
                  </a:lnTo>
                  <a:lnTo>
                    <a:pt x="2841" y="567"/>
                  </a:lnTo>
                  <a:lnTo>
                    <a:pt x="2845" y="573"/>
                  </a:lnTo>
                  <a:lnTo>
                    <a:pt x="2849" y="579"/>
                  </a:lnTo>
                  <a:lnTo>
                    <a:pt x="2856" y="585"/>
                  </a:lnTo>
                  <a:lnTo>
                    <a:pt x="2861" y="591"/>
                  </a:lnTo>
                  <a:lnTo>
                    <a:pt x="2866" y="597"/>
                  </a:lnTo>
                  <a:lnTo>
                    <a:pt x="2871" y="603"/>
                  </a:lnTo>
                  <a:lnTo>
                    <a:pt x="2876" y="608"/>
                  </a:lnTo>
                  <a:lnTo>
                    <a:pt x="2881" y="614"/>
                  </a:lnTo>
                  <a:lnTo>
                    <a:pt x="2886" y="619"/>
                  </a:lnTo>
                  <a:lnTo>
                    <a:pt x="2892" y="624"/>
                  </a:lnTo>
                  <a:lnTo>
                    <a:pt x="2895" y="630"/>
                  </a:lnTo>
                  <a:lnTo>
                    <a:pt x="2901" y="636"/>
                  </a:lnTo>
                  <a:lnTo>
                    <a:pt x="2907" y="641"/>
                  </a:lnTo>
                  <a:lnTo>
                    <a:pt x="2911" y="646"/>
                  </a:lnTo>
                  <a:lnTo>
                    <a:pt x="2917" y="651"/>
                  </a:lnTo>
                  <a:lnTo>
                    <a:pt x="2920" y="656"/>
                  </a:lnTo>
                  <a:lnTo>
                    <a:pt x="2925" y="662"/>
                  </a:lnTo>
                  <a:lnTo>
                    <a:pt x="2931" y="666"/>
                  </a:lnTo>
                  <a:lnTo>
                    <a:pt x="2936" y="670"/>
                  </a:lnTo>
                  <a:lnTo>
                    <a:pt x="2941" y="675"/>
                  </a:lnTo>
                  <a:lnTo>
                    <a:pt x="2945" y="679"/>
                  </a:lnTo>
                  <a:lnTo>
                    <a:pt x="2951" y="684"/>
                  </a:lnTo>
                  <a:lnTo>
                    <a:pt x="2955" y="689"/>
                  </a:lnTo>
                  <a:lnTo>
                    <a:pt x="2961" y="693"/>
                  </a:lnTo>
                  <a:lnTo>
                    <a:pt x="2967" y="697"/>
                  </a:lnTo>
                  <a:lnTo>
                    <a:pt x="2971" y="702"/>
                  </a:lnTo>
                  <a:lnTo>
                    <a:pt x="2975" y="705"/>
                  </a:lnTo>
                  <a:lnTo>
                    <a:pt x="2980" y="710"/>
                  </a:lnTo>
                  <a:lnTo>
                    <a:pt x="2985" y="714"/>
                  </a:lnTo>
                  <a:lnTo>
                    <a:pt x="2991" y="717"/>
                  </a:lnTo>
                  <a:lnTo>
                    <a:pt x="2997" y="720"/>
                  </a:lnTo>
                  <a:lnTo>
                    <a:pt x="3001" y="724"/>
                  </a:lnTo>
                  <a:lnTo>
                    <a:pt x="3006" y="728"/>
                  </a:lnTo>
                  <a:lnTo>
                    <a:pt x="3011" y="730"/>
                  </a:lnTo>
                  <a:lnTo>
                    <a:pt x="3016" y="735"/>
                  </a:lnTo>
                  <a:lnTo>
                    <a:pt x="3022" y="738"/>
                  </a:lnTo>
                  <a:lnTo>
                    <a:pt x="3026" y="741"/>
                  </a:lnTo>
                  <a:lnTo>
                    <a:pt x="3030" y="744"/>
                  </a:lnTo>
                  <a:lnTo>
                    <a:pt x="3036" y="747"/>
                  </a:lnTo>
                  <a:lnTo>
                    <a:pt x="3042" y="749"/>
                  </a:lnTo>
                  <a:lnTo>
                    <a:pt x="3047" y="751"/>
                  </a:lnTo>
                  <a:lnTo>
                    <a:pt x="3051" y="755"/>
                  </a:lnTo>
                  <a:lnTo>
                    <a:pt x="3056" y="756"/>
                  </a:lnTo>
                  <a:lnTo>
                    <a:pt x="3061" y="759"/>
                  </a:lnTo>
                  <a:lnTo>
                    <a:pt x="3066" y="761"/>
                  </a:lnTo>
                  <a:lnTo>
                    <a:pt x="3072" y="763"/>
                  </a:lnTo>
                  <a:lnTo>
                    <a:pt x="3075" y="765"/>
                  </a:lnTo>
                  <a:lnTo>
                    <a:pt x="3081" y="766"/>
                  </a:lnTo>
                  <a:lnTo>
                    <a:pt x="3087" y="768"/>
                  </a:lnTo>
                  <a:lnTo>
                    <a:pt x="3091" y="770"/>
                  </a:lnTo>
                  <a:lnTo>
                    <a:pt x="3097" y="771"/>
                  </a:lnTo>
                  <a:lnTo>
                    <a:pt x="3100" y="772"/>
                  </a:lnTo>
                  <a:lnTo>
                    <a:pt x="3105" y="774"/>
                  </a:lnTo>
                  <a:lnTo>
                    <a:pt x="3111" y="776"/>
                  </a:lnTo>
                  <a:lnTo>
                    <a:pt x="3116" y="776"/>
                  </a:lnTo>
                  <a:lnTo>
                    <a:pt x="3121" y="777"/>
                  </a:lnTo>
                  <a:lnTo>
                    <a:pt x="3126" y="778"/>
                  </a:lnTo>
                  <a:lnTo>
                    <a:pt x="3131" y="778"/>
                  </a:lnTo>
                  <a:lnTo>
                    <a:pt x="3136" y="778"/>
                  </a:lnTo>
                  <a:lnTo>
                    <a:pt x="3141" y="780"/>
                  </a:lnTo>
                  <a:lnTo>
                    <a:pt x="3147" y="780"/>
                  </a:lnTo>
                  <a:lnTo>
                    <a:pt x="3152" y="780"/>
                  </a:lnTo>
                  <a:lnTo>
                    <a:pt x="3156" y="780"/>
                  </a:lnTo>
                  <a:lnTo>
                    <a:pt x="3161" y="780"/>
                  </a:lnTo>
                  <a:lnTo>
                    <a:pt x="3166" y="780"/>
                  </a:lnTo>
                  <a:lnTo>
                    <a:pt x="3171" y="780"/>
                  </a:lnTo>
                  <a:lnTo>
                    <a:pt x="3177" y="778"/>
                  </a:lnTo>
                  <a:lnTo>
                    <a:pt x="3181" y="778"/>
                  </a:lnTo>
                  <a:lnTo>
                    <a:pt x="3186" y="778"/>
                  </a:lnTo>
                  <a:lnTo>
                    <a:pt x="3192" y="777"/>
                  </a:lnTo>
                  <a:lnTo>
                    <a:pt x="3196" y="776"/>
                  </a:lnTo>
                  <a:lnTo>
                    <a:pt x="3202" y="776"/>
                  </a:lnTo>
                  <a:lnTo>
                    <a:pt x="3206" y="774"/>
                  </a:lnTo>
                  <a:lnTo>
                    <a:pt x="3210" y="772"/>
                  </a:lnTo>
                  <a:lnTo>
                    <a:pt x="3216" y="771"/>
                  </a:lnTo>
                  <a:lnTo>
                    <a:pt x="3222" y="770"/>
                  </a:lnTo>
                  <a:lnTo>
                    <a:pt x="3227" y="768"/>
                  </a:lnTo>
                  <a:lnTo>
                    <a:pt x="3230" y="766"/>
                  </a:lnTo>
                  <a:lnTo>
                    <a:pt x="3236" y="765"/>
                  </a:lnTo>
                  <a:lnTo>
                    <a:pt x="3241" y="763"/>
                  </a:lnTo>
                  <a:lnTo>
                    <a:pt x="3246" y="761"/>
                  </a:lnTo>
                  <a:lnTo>
                    <a:pt x="3252" y="759"/>
                  </a:lnTo>
                  <a:lnTo>
                    <a:pt x="3256" y="756"/>
                  </a:lnTo>
                  <a:lnTo>
                    <a:pt x="3261" y="755"/>
                  </a:lnTo>
                  <a:lnTo>
                    <a:pt x="3266" y="751"/>
                  </a:lnTo>
                  <a:lnTo>
                    <a:pt x="3271" y="749"/>
                  </a:lnTo>
                  <a:lnTo>
                    <a:pt x="3277" y="747"/>
                  </a:lnTo>
                  <a:lnTo>
                    <a:pt x="3282" y="744"/>
                  </a:lnTo>
                  <a:lnTo>
                    <a:pt x="3286" y="741"/>
                  </a:lnTo>
                  <a:lnTo>
                    <a:pt x="3291" y="738"/>
                  </a:lnTo>
                  <a:lnTo>
                    <a:pt x="3297" y="735"/>
                  </a:lnTo>
                  <a:lnTo>
                    <a:pt x="3302" y="730"/>
                  </a:lnTo>
                  <a:lnTo>
                    <a:pt x="3307" y="728"/>
                  </a:lnTo>
                  <a:lnTo>
                    <a:pt x="3312" y="724"/>
                  </a:lnTo>
                  <a:lnTo>
                    <a:pt x="3316" y="720"/>
                  </a:lnTo>
                  <a:lnTo>
                    <a:pt x="3322" y="717"/>
                  </a:lnTo>
                  <a:lnTo>
                    <a:pt x="3327" y="714"/>
                  </a:lnTo>
                  <a:lnTo>
                    <a:pt x="3332" y="710"/>
                  </a:lnTo>
                  <a:lnTo>
                    <a:pt x="3336" y="705"/>
                  </a:lnTo>
                  <a:lnTo>
                    <a:pt x="3341" y="702"/>
                  </a:lnTo>
                  <a:lnTo>
                    <a:pt x="3346" y="697"/>
                  </a:lnTo>
                  <a:lnTo>
                    <a:pt x="3351" y="693"/>
                  </a:lnTo>
                  <a:lnTo>
                    <a:pt x="3357" y="689"/>
                  </a:lnTo>
                  <a:lnTo>
                    <a:pt x="3361" y="684"/>
                  </a:lnTo>
                  <a:lnTo>
                    <a:pt x="3366" y="679"/>
                  </a:lnTo>
                  <a:lnTo>
                    <a:pt x="3372" y="675"/>
                  </a:lnTo>
                  <a:lnTo>
                    <a:pt x="3376" y="670"/>
                  </a:lnTo>
                  <a:lnTo>
                    <a:pt x="3382" y="666"/>
                  </a:lnTo>
                  <a:lnTo>
                    <a:pt x="3386" y="662"/>
                  </a:lnTo>
                  <a:lnTo>
                    <a:pt x="3391" y="656"/>
                  </a:lnTo>
                  <a:lnTo>
                    <a:pt x="3397" y="651"/>
                  </a:lnTo>
                  <a:lnTo>
                    <a:pt x="3401" y="646"/>
                  </a:lnTo>
                  <a:lnTo>
                    <a:pt x="3407" y="641"/>
                  </a:lnTo>
                  <a:lnTo>
                    <a:pt x="3412" y="636"/>
                  </a:lnTo>
                  <a:lnTo>
                    <a:pt x="3417" y="630"/>
                  </a:lnTo>
                  <a:lnTo>
                    <a:pt x="3422" y="624"/>
                  </a:lnTo>
                  <a:lnTo>
                    <a:pt x="3427" y="619"/>
                  </a:lnTo>
                  <a:lnTo>
                    <a:pt x="3433" y="614"/>
                  </a:lnTo>
                  <a:lnTo>
                    <a:pt x="3437" y="608"/>
                  </a:lnTo>
                  <a:lnTo>
                    <a:pt x="3441" y="603"/>
                  </a:lnTo>
                  <a:lnTo>
                    <a:pt x="3447" y="597"/>
                  </a:lnTo>
                  <a:lnTo>
                    <a:pt x="3452" y="591"/>
                  </a:lnTo>
                  <a:lnTo>
                    <a:pt x="3458" y="585"/>
                  </a:lnTo>
                  <a:lnTo>
                    <a:pt x="3463" y="579"/>
                  </a:lnTo>
                  <a:lnTo>
                    <a:pt x="3466" y="573"/>
                  </a:lnTo>
                  <a:lnTo>
                    <a:pt x="3471" y="567"/>
                  </a:lnTo>
                  <a:lnTo>
                    <a:pt x="3477" y="561"/>
                  </a:lnTo>
                  <a:lnTo>
                    <a:pt x="3482" y="555"/>
                  </a:lnTo>
                  <a:lnTo>
                    <a:pt x="3487" y="549"/>
                  </a:lnTo>
                  <a:lnTo>
                    <a:pt x="3492" y="543"/>
                  </a:lnTo>
                  <a:lnTo>
                    <a:pt x="3496" y="536"/>
                  </a:lnTo>
                  <a:lnTo>
                    <a:pt x="3502" y="530"/>
                  </a:lnTo>
                  <a:lnTo>
                    <a:pt x="3507" y="523"/>
                  </a:lnTo>
                  <a:lnTo>
                    <a:pt x="3512" y="517"/>
                  </a:lnTo>
                  <a:lnTo>
                    <a:pt x="3516" y="510"/>
                  </a:lnTo>
                  <a:lnTo>
                    <a:pt x="3521" y="504"/>
                  </a:lnTo>
                  <a:lnTo>
                    <a:pt x="3527" y="498"/>
                  </a:lnTo>
                  <a:lnTo>
                    <a:pt x="3531" y="490"/>
                  </a:lnTo>
                  <a:lnTo>
                    <a:pt x="3537" y="484"/>
                  </a:lnTo>
                  <a:lnTo>
                    <a:pt x="3542" y="477"/>
                  </a:lnTo>
                  <a:lnTo>
                    <a:pt x="3547" y="471"/>
                  </a:lnTo>
                  <a:lnTo>
                    <a:pt x="3553" y="465"/>
                  </a:lnTo>
                  <a:lnTo>
                    <a:pt x="3557" y="457"/>
                  </a:lnTo>
                  <a:lnTo>
                    <a:pt x="3563" y="451"/>
                  </a:lnTo>
                  <a:lnTo>
                    <a:pt x="3568" y="444"/>
                  </a:lnTo>
                  <a:lnTo>
                    <a:pt x="3571" y="438"/>
                  </a:lnTo>
                  <a:lnTo>
                    <a:pt x="3577" y="430"/>
                  </a:lnTo>
                  <a:lnTo>
                    <a:pt x="3582" y="424"/>
                  </a:lnTo>
                  <a:lnTo>
                    <a:pt x="3588" y="417"/>
                  </a:lnTo>
                  <a:lnTo>
                    <a:pt x="3593" y="411"/>
                  </a:lnTo>
                  <a:lnTo>
                    <a:pt x="3597" y="403"/>
                  </a:lnTo>
                  <a:lnTo>
                    <a:pt x="3602" y="397"/>
                  </a:lnTo>
                  <a:lnTo>
                    <a:pt x="3607" y="390"/>
                  </a:lnTo>
                </a:path>
              </a:pathLst>
            </a:custGeom>
            <a:noFill/>
            <a:ln cap="rnd" w="25560">
              <a:solidFill>
                <a:srgbClr val="618ffd"/>
              </a:solidFill>
              <a:custDash>
                <a:ds d="100000" sp="1000"/>
              </a:custDash>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7" name="Rectangle 42"/>
            <p:cNvSpPr/>
            <p:nvPr/>
          </p:nvSpPr>
          <p:spPr>
            <a:xfrm>
              <a:off x="3940200" y="4406760"/>
              <a:ext cx="3160800" cy="725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8" name="Freeform 43"/>
            <p:cNvSpPr/>
            <p:nvPr/>
          </p:nvSpPr>
          <p:spPr>
            <a:xfrm>
              <a:off x="1449360" y="2919240"/>
              <a:ext cx="6562800" cy="3017880"/>
            </a:xfrm>
            <a:custGeom>
              <a:avLst/>
              <a:gdLst>
                <a:gd name="textAreaLeft" fmla="*/ 0 w 6562800"/>
                <a:gd name="textAreaRight" fmla="*/ 6563160 w 6562800"/>
                <a:gd name="textAreaTop" fmla="*/ 0 h 3017880"/>
                <a:gd name="textAreaBottom" fmla="*/ 3018240 h 3017880"/>
              </a:gdLst>
              <a:ahLst/>
              <a:rect l="textAreaLeft" t="textAreaTop" r="textAreaRight" b="textAreaBottom"/>
              <a:pathLst>
                <a:path w="3613" h="2305">
                  <a:moveTo>
                    <a:pt x="0" y="404"/>
                  </a:moveTo>
                  <a:lnTo>
                    <a:pt x="6" y="397"/>
                  </a:lnTo>
                  <a:lnTo>
                    <a:pt x="11" y="390"/>
                  </a:lnTo>
                  <a:lnTo>
                    <a:pt x="15" y="382"/>
                  </a:lnTo>
                  <a:lnTo>
                    <a:pt x="20" y="376"/>
                  </a:lnTo>
                  <a:lnTo>
                    <a:pt x="25" y="369"/>
                  </a:lnTo>
                  <a:lnTo>
                    <a:pt x="30" y="362"/>
                  </a:lnTo>
                  <a:lnTo>
                    <a:pt x="36" y="354"/>
                  </a:lnTo>
                  <a:lnTo>
                    <a:pt x="40" y="348"/>
                  </a:lnTo>
                  <a:lnTo>
                    <a:pt x="45" y="341"/>
                  </a:lnTo>
                  <a:lnTo>
                    <a:pt x="51" y="334"/>
                  </a:lnTo>
                  <a:lnTo>
                    <a:pt x="55" y="326"/>
                  </a:lnTo>
                  <a:lnTo>
                    <a:pt x="60" y="320"/>
                  </a:lnTo>
                  <a:lnTo>
                    <a:pt x="65" y="314"/>
                  </a:lnTo>
                  <a:lnTo>
                    <a:pt x="69" y="306"/>
                  </a:lnTo>
                  <a:lnTo>
                    <a:pt x="75" y="300"/>
                  </a:lnTo>
                  <a:lnTo>
                    <a:pt x="80" y="292"/>
                  </a:lnTo>
                  <a:lnTo>
                    <a:pt x="86" y="286"/>
                  </a:lnTo>
                  <a:lnTo>
                    <a:pt x="90" y="279"/>
                  </a:lnTo>
                  <a:lnTo>
                    <a:pt x="95" y="272"/>
                  </a:lnTo>
                  <a:lnTo>
                    <a:pt x="100" y="266"/>
                  </a:lnTo>
                  <a:lnTo>
                    <a:pt x="105" y="260"/>
                  </a:lnTo>
                  <a:lnTo>
                    <a:pt x="111" y="253"/>
                  </a:lnTo>
                  <a:lnTo>
                    <a:pt x="116" y="246"/>
                  </a:lnTo>
                  <a:lnTo>
                    <a:pt x="120" y="240"/>
                  </a:lnTo>
                  <a:lnTo>
                    <a:pt x="126" y="233"/>
                  </a:lnTo>
                  <a:lnTo>
                    <a:pt x="130" y="227"/>
                  </a:lnTo>
                  <a:lnTo>
                    <a:pt x="136" y="221"/>
                  </a:lnTo>
                  <a:lnTo>
                    <a:pt x="141" y="215"/>
                  </a:lnTo>
                  <a:lnTo>
                    <a:pt x="145" y="208"/>
                  </a:lnTo>
                  <a:lnTo>
                    <a:pt x="150" y="202"/>
                  </a:lnTo>
                  <a:lnTo>
                    <a:pt x="156" y="196"/>
                  </a:lnTo>
                  <a:lnTo>
                    <a:pt x="162" y="189"/>
                  </a:lnTo>
                  <a:lnTo>
                    <a:pt x="166" y="184"/>
                  </a:lnTo>
                  <a:lnTo>
                    <a:pt x="170" y="178"/>
                  </a:lnTo>
                  <a:lnTo>
                    <a:pt x="175" y="172"/>
                  </a:lnTo>
                  <a:lnTo>
                    <a:pt x="180" y="167"/>
                  </a:lnTo>
                  <a:lnTo>
                    <a:pt x="186" y="161"/>
                  </a:lnTo>
                  <a:lnTo>
                    <a:pt x="191" y="155"/>
                  </a:lnTo>
                  <a:lnTo>
                    <a:pt x="195" y="150"/>
                  </a:lnTo>
                  <a:lnTo>
                    <a:pt x="200" y="144"/>
                  </a:lnTo>
                  <a:lnTo>
                    <a:pt x="206" y="138"/>
                  </a:lnTo>
                  <a:lnTo>
                    <a:pt x="210" y="133"/>
                  </a:lnTo>
                  <a:lnTo>
                    <a:pt x="216" y="129"/>
                  </a:lnTo>
                  <a:lnTo>
                    <a:pt x="222" y="123"/>
                  </a:lnTo>
                  <a:lnTo>
                    <a:pt x="225" y="118"/>
                  </a:lnTo>
                  <a:lnTo>
                    <a:pt x="231" y="114"/>
                  </a:lnTo>
                  <a:lnTo>
                    <a:pt x="236" y="109"/>
                  </a:lnTo>
                  <a:lnTo>
                    <a:pt x="241" y="105"/>
                  </a:lnTo>
                  <a:lnTo>
                    <a:pt x="246" y="99"/>
                  </a:lnTo>
                  <a:lnTo>
                    <a:pt x="250" y="95"/>
                  </a:lnTo>
                  <a:lnTo>
                    <a:pt x="256" y="90"/>
                  </a:lnTo>
                  <a:lnTo>
                    <a:pt x="261" y="86"/>
                  </a:lnTo>
                  <a:lnTo>
                    <a:pt x="267" y="81"/>
                  </a:lnTo>
                  <a:lnTo>
                    <a:pt x="271" y="78"/>
                  </a:lnTo>
                  <a:lnTo>
                    <a:pt x="276" y="73"/>
                  </a:lnTo>
                  <a:lnTo>
                    <a:pt x="281" y="69"/>
                  </a:lnTo>
                  <a:lnTo>
                    <a:pt x="285" y="65"/>
                  </a:lnTo>
                  <a:lnTo>
                    <a:pt x="291" y="62"/>
                  </a:lnTo>
                  <a:lnTo>
                    <a:pt x="296" y="58"/>
                  </a:lnTo>
                  <a:lnTo>
                    <a:pt x="300" y="54"/>
                  </a:lnTo>
                  <a:lnTo>
                    <a:pt x="306" y="51"/>
                  </a:lnTo>
                  <a:lnTo>
                    <a:pt x="311" y="47"/>
                  </a:lnTo>
                  <a:lnTo>
                    <a:pt x="316" y="43"/>
                  </a:lnTo>
                  <a:lnTo>
                    <a:pt x="321" y="41"/>
                  </a:lnTo>
                  <a:lnTo>
                    <a:pt x="325" y="37"/>
                  </a:lnTo>
                  <a:lnTo>
                    <a:pt x="330" y="34"/>
                  </a:lnTo>
                  <a:lnTo>
                    <a:pt x="336" y="32"/>
                  </a:lnTo>
                  <a:lnTo>
                    <a:pt x="342" y="30"/>
                  </a:lnTo>
                  <a:lnTo>
                    <a:pt x="347" y="26"/>
                  </a:lnTo>
                  <a:lnTo>
                    <a:pt x="351" y="25"/>
                  </a:lnTo>
                  <a:lnTo>
                    <a:pt x="356" y="22"/>
                  </a:lnTo>
                  <a:lnTo>
                    <a:pt x="361" y="20"/>
                  </a:lnTo>
                  <a:lnTo>
                    <a:pt x="366" y="17"/>
                  </a:lnTo>
                  <a:lnTo>
                    <a:pt x="372" y="15"/>
                  </a:lnTo>
                  <a:lnTo>
                    <a:pt x="378" y="14"/>
                  </a:lnTo>
                  <a:lnTo>
                    <a:pt x="381" y="13"/>
                  </a:lnTo>
                  <a:lnTo>
                    <a:pt x="387" y="11"/>
                  </a:lnTo>
                  <a:lnTo>
                    <a:pt x="391" y="9"/>
                  </a:lnTo>
                  <a:lnTo>
                    <a:pt x="396" y="8"/>
                  </a:lnTo>
                  <a:lnTo>
                    <a:pt x="402" y="6"/>
                  </a:lnTo>
                  <a:lnTo>
                    <a:pt x="405" y="5"/>
                  </a:lnTo>
                  <a:lnTo>
                    <a:pt x="411" y="5"/>
                  </a:lnTo>
                  <a:lnTo>
                    <a:pt x="416" y="3"/>
                  </a:lnTo>
                  <a:lnTo>
                    <a:pt x="422" y="2"/>
                  </a:lnTo>
                  <a:lnTo>
                    <a:pt x="426" y="2"/>
                  </a:lnTo>
                  <a:lnTo>
                    <a:pt x="431" y="2"/>
                  </a:lnTo>
                  <a:lnTo>
                    <a:pt x="436" y="0"/>
                  </a:lnTo>
                  <a:lnTo>
                    <a:pt x="441" y="0"/>
                  </a:lnTo>
                  <a:lnTo>
                    <a:pt x="447" y="0"/>
                  </a:lnTo>
                  <a:lnTo>
                    <a:pt x="452" y="0"/>
                  </a:lnTo>
                  <a:lnTo>
                    <a:pt x="456" y="0"/>
                  </a:lnTo>
                  <a:lnTo>
                    <a:pt x="462" y="0"/>
                  </a:lnTo>
                  <a:lnTo>
                    <a:pt x="466" y="0"/>
                  </a:lnTo>
                  <a:lnTo>
                    <a:pt x="472" y="2"/>
                  </a:lnTo>
                  <a:lnTo>
                    <a:pt x="477" y="2"/>
                  </a:lnTo>
                  <a:lnTo>
                    <a:pt x="481" y="2"/>
                  </a:lnTo>
                  <a:lnTo>
                    <a:pt x="486" y="3"/>
                  </a:lnTo>
                  <a:lnTo>
                    <a:pt x="492" y="5"/>
                  </a:lnTo>
                  <a:lnTo>
                    <a:pt x="498" y="5"/>
                  </a:lnTo>
                  <a:lnTo>
                    <a:pt x="502" y="6"/>
                  </a:lnTo>
                  <a:lnTo>
                    <a:pt x="507" y="8"/>
                  </a:lnTo>
                  <a:lnTo>
                    <a:pt x="511" y="9"/>
                  </a:lnTo>
                  <a:lnTo>
                    <a:pt x="516" y="11"/>
                  </a:lnTo>
                  <a:lnTo>
                    <a:pt x="522" y="13"/>
                  </a:lnTo>
                  <a:lnTo>
                    <a:pt x="527" y="14"/>
                  </a:lnTo>
                  <a:lnTo>
                    <a:pt x="533" y="15"/>
                  </a:lnTo>
                  <a:lnTo>
                    <a:pt x="536" y="17"/>
                  </a:lnTo>
                  <a:lnTo>
                    <a:pt x="542" y="20"/>
                  </a:lnTo>
                  <a:lnTo>
                    <a:pt x="546" y="22"/>
                  </a:lnTo>
                  <a:lnTo>
                    <a:pt x="552" y="25"/>
                  </a:lnTo>
                  <a:lnTo>
                    <a:pt x="558" y="26"/>
                  </a:lnTo>
                  <a:lnTo>
                    <a:pt x="561" y="30"/>
                  </a:lnTo>
                  <a:lnTo>
                    <a:pt x="567" y="32"/>
                  </a:lnTo>
                  <a:lnTo>
                    <a:pt x="572" y="34"/>
                  </a:lnTo>
                  <a:lnTo>
                    <a:pt x="577" y="37"/>
                  </a:lnTo>
                  <a:lnTo>
                    <a:pt x="582" y="41"/>
                  </a:lnTo>
                  <a:lnTo>
                    <a:pt x="586" y="43"/>
                  </a:lnTo>
                  <a:lnTo>
                    <a:pt x="592" y="47"/>
                  </a:lnTo>
                  <a:lnTo>
                    <a:pt x="597" y="51"/>
                  </a:lnTo>
                  <a:lnTo>
                    <a:pt x="603" y="54"/>
                  </a:lnTo>
                  <a:lnTo>
                    <a:pt x="608" y="58"/>
                  </a:lnTo>
                  <a:lnTo>
                    <a:pt x="612" y="62"/>
                  </a:lnTo>
                  <a:lnTo>
                    <a:pt x="617" y="65"/>
                  </a:lnTo>
                  <a:lnTo>
                    <a:pt x="622" y="69"/>
                  </a:lnTo>
                  <a:lnTo>
                    <a:pt x="627" y="73"/>
                  </a:lnTo>
                  <a:lnTo>
                    <a:pt x="632" y="78"/>
                  </a:lnTo>
                  <a:lnTo>
                    <a:pt x="636" y="81"/>
                  </a:lnTo>
                  <a:lnTo>
                    <a:pt x="642" y="86"/>
                  </a:lnTo>
                  <a:lnTo>
                    <a:pt x="647" y="90"/>
                  </a:lnTo>
                  <a:lnTo>
                    <a:pt x="652" y="95"/>
                  </a:lnTo>
                  <a:lnTo>
                    <a:pt x="657" y="99"/>
                  </a:lnTo>
                  <a:lnTo>
                    <a:pt x="663" y="105"/>
                  </a:lnTo>
                  <a:lnTo>
                    <a:pt x="666" y="109"/>
                  </a:lnTo>
                  <a:lnTo>
                    <a:pt x="672" y="114"/>
                  </a:lnTo>
                  <a:lnTo>
                    <a:pt x="678" y="118"/>
                  </a:lnTo>
                  <a:lnTo>
                    <a:pt x="683" y="123"/>
                  </a:lnTo>
                  <a:lnTo>
                    <a:pt x="688" y="129"/>
                  </a:lnTo>
                  <a:lnTo>
                    <a:pt x="692" y="133"/>
                  </a:lnTo>
                  <a:lnTo>
                    <a:pt x="697" y="138"/>
                  </a:lnTo>
                  <a:lnTo>
                    <a:pt x="702" y="144"/>
                  </a:lnTo>
                  <a:lnTo>
                    <a:pt x="708" y="150"/>
                  </a:lnTo>
                  <a:lnTo>
                    <a:pt x="714" y="155"/>
                  </a:lnTo>
                  <a:lnTo>
                    <a:pt x="717" y="161"/>
                  </a:lnTo>
                  <a:lnTo>
                    <a:pt x="723" y="167"/>
                  </a:lnTo>
                  <a:lnTo>
                    <a:pt x="727" y="172"/>
                  </a:lnTo>
                  <a:lnTo>
                    <a:pt x="732" y="178"/>
                  </a:lnTo>
                  <a:lnTo>
                    <a:pt x="738" y="184"/>
                  </a:lnTo>
                  <a:lnTo>
                    <a:pt x="742" y="189"/>
                  </a:lnTo>
                  <a:lnTo>
                    <a:pt x="747" y="196"/>
                  </a:lnTo>
                  <a:lnTo>
                    <a:pt x="752" y="202"/>
                  </a:lnTo>
                  <a:lnTo>
                    <a:pt x="758" y="208"/>
                  </a:lnTo>
                  <a:lnTo>
                    <a:pt x="762" y="215"/>
                  </a:lnTo>
                  <a:lnTo>
                    <a:pt x="767" y="221"/>
                  </a:lnTo>
                  <a:lnTo>
                    <a:pt x="772" y="227"/>
                  </a:lnTo>
                  <a:lnTo>
                    <a:pt x="777" y="233"/>
                  </a:lnTo>
                  <a:lnTo>
                    <a:pt x="783" y="240"/>
                  </a:lnTo>
                  <a:lnTo>
                    <a:pt x="788" y="246"/>
                  </a:lnTo>
                  <a:lnTo>
                    <a:pt x="792" y="253"/>
                  </a:lnTo>
                  <a:lnTo>
                    <a:pt x="798" y="260"/>
                  </a:lnTo>
                  <a:lnTo>
                    <a:pt x="802" y="266"/>
                  </a:lnTo>
                  <a:lnTo>
                    <a:pt x="808" y="272"/>
                  </a:lnTo>
                  <a:lnTo>
                    <a:pt x="813" y="279"/>
                  </a:lnTo>
                  <a:lnTo>
                    <a:pt x="819" y="286"/>
                  </a:lnTo>
                  <a:lnTo>
                    <a:pt x="822" y="292"/>
                  </a:lnTo>
                  <a:lnTo>
                    <a:pt x="828" y="300"/>
                  </a:lnTo>
                  <a:lnTo>
                    <a:pt x="834" y="306"/>
                  </a:lnTo>
                  <a:lnTo>
                    <a:pt x="838" y="314"/>
                  </a:lnTo>
                  <a:lnTo>
                    <a:pt x="843" y="320"/>
                  </a:lnTo>
                  <a:lnTo>
                    <a:pt x="847" y="326"/>
                  </a:lnTo>
                  <a:lnTo>
                    <a:pt x="852" y="334"/>
                  </a:lnTo>
                  <a:lnTo>
                    <a:pt x="858" y="341"/>
                  </a:lnTo>
                  <a:lnTo>
                    <a:pt x="863" y="348"/>
                  </a:lnTo>
                  <a:lnTo>
                    <a:pt x="869" y="354"/>
                  </a:lnTo>
                  <a:lnTo>
                    <a:pt x="872" y="362"/>
                  </a:lnTo>
                  <a:lnTo>
                    <a:pt x="878" y="369"/>
                  </a:lnTo>
                  <a:lnTo>
                    <a:pt x="882" y="376"/>
                  </a:lnTo>
                  <a:lnTo>
                    <a:pt x="888" y="382"/>
                  </a:lnTo>
                  <a:lnTo>
                    <a:pt x="894" y="390"/>
                  </a:lnTo>
                  <a:lnTo>
                    <a:pt x="897" y="397"/>
                  </a:lnTo>
                  <a:lnTo>
                    <a:pt x="903" y="404"/>
                  </a:lnTo>
                  <a:lnTo>
                    <a:pt x="908" y="415"/>
                  </a:lnTo>
                  <a:lnTo>
                    <a:pt x="913" y="426"/>
                  </a:lnTo>
                  <a:lnTo>
                    <a:pt x="918" y="435"/>
                  </a:lnTo>
                  <a:lnTo>
                    <a:pt x="922" y="446"/>
                  </a:lnTo>
                  <a:lnTo>
                    <a:pt x="928" y="457"/>
                  </a:lnTo>
                  <a:lnTo>
                    <a:pt x="933" y="468"/>
                  </a:lnTo>
                  <a:lnTo>
                    <a:pt x="939" y="479"/>
                  </a:lnTo>
                  <a:lnTo>
                    <a:pt x="944" y="489"/>
                  </a:lnTo>
                  <a:lnTo>
                    <a:pt x="948" y="499"/>
                  </a:lnTo>
                  <a:lnTo>
                    <a:pt x="953" y="510"/>
                  </a:lnTo>
                  <a:lnTo>
                    <a:pt x="958" y="521"/>
                  </a:lnTo>
                  <a:lnTo>
                    <a:pt x="963" y="532"/>
                  </a:lnTo>
                  <a:lnTo>
                    <a:pt x="968" y="541"/>
                  </a:lnTo>
                  <a:lnTo>
                    <a:pt x="974" y="552"/>
                  </a:lnTo>
                  <a:lnTo>
                    <a:pt x="978" y="562"/>
                  </a:lnTo>
                  <a:lnTo>
                    <a:pt x="983" y="573"/>
                  </a:lnTo>
                  <a:lnTo>
                    <a:pt x="988" y="583"/>
                  </a:lnTo>
                  <a:lnTo>
                    <a:pt x="993" y="594"/>
                  </a:lnTo>
                  <a:lnTo>
                    <a:pt x="999" y="605"/>
                  </a:lnTo>
                  <a:lnTo>
                    <a:pt x="1002" y="614"/>
                  </a:lnTo>
                  <a:lnTo>
                    <a:pt x="1008" y="625"/>
                  </a:lnTo>
                  <a:lnTo>
                    <a:pt x="1014" y="635"/>
                  </a:lnTo>
                  <a:lnTo>
                    <a:pt x="1019" y="646"/>
                  </a:lnTo>
                  <a:lnTo>
                    <a:pt x="1024" y="656"/>
                  </a:lnTo>
                  <a:lnTo>
                    <a:pt x="1028" y="667"/>
                  </a:lnTo>
                  <a:lnTo>
                    <a:pt x="1033" y="676"/>
                  </a:lnTo>
                  <a:lnTo>
                    <a:pt x="1038" y="687"/>
                  </a:lnTo>
                  <a:lnTo>
                    <a:pt x="1044" y="698"/>
                  </a:lnTo>
                  <a:lnTo>
                    <a:pt x="1050" y="708"/>
                  </a:lnTo>
                  <a:lnTo>
                    <a:pt x="1053" y="718"/>
                  </a:lnTo>
                  <a:lnTo>
                    <a:pt x="1059" y="727"/>
                  </a:lnTo>
                  <a:lnTo>
                    <a:pt x="1063" y="738"/>
                  </a:lnTo>
                  <a:lnTo>
                    <a:pt x="1069" y="749"/>
                  </a:lnTo>
                  <a:lnTo>
                    <a:pt x="1074" y="759"/>
                  </a:lnTo>
                  <a:lnTo>
                    <a:pt x="1078" y="770"/>
                  </a:lnTo>
                  <a:lnTo>
                    <a:pt x="1083" y="779"/>
                  </a:lnTo>
                  <a:lnTo>
                    <a:pt x="1088" y="788"/>
                  </a:lnTo>
                  <a:lnTo>
                    <a:pt x="1094" y="799"/>
                  </a:lnTo>
                  <a:lnTo>
                    <a:pt x="1098" y="809"/>
                  </a:lnTo>
                  <a:lnTo>
                    <a:pt x="1104" y="819"/>
                  </a:lnTo>
                  <a:lnTo>
                    <a:pt x="1108" y="828"/>
                  </a:lnTo>
                  <a:lnTo>
                    <a:pt x="1113" y="839"/>
                  </a:lnTo>
                  <a:lnTo>
                    <a:pt x="1119" y="849"/>
                  </a:lnTo>
                  <a:lnTo>
                    <a:pt x="1124" y="858"/>
                  </a:lnTo>
                  <a:lnTo>
                    <a:pt x="1130" y="867"/>
                  </a:lnTo>
                  <a:lnTo>
                    <a:pt x="1134" y="878"/>
                  </a:lnTo>
                  <a:lnTo>
                    <a:pt x="1138" y="888"/>
                  </a:lnTo>
                  <a:lnTo>
                    <a:pt x="1144" y="897"/>
                  </a:lnTo>
                  <a:lnTo>
                    <a:pt x="1149" y="906"/>
                  </a:lnTo>
                  <a:lnTo>
                    <a:pt x="1155" y="918"/>
                  </a:lnTo>
                  <a:lnTo>
                    <a:pt x="1158" y="927"/>
                  </a:lnTo>
                  <a:lnTo>
                    <a:pt x="1164" y="936"/>
                  </a:lnTo>
                  <a:lnTo>
                    <a:pt x="1170" y="946"/>
                  </a:lnTo>
                  <a:lnTo>
                    <a:pt x="1174" y="955"/>
                  </a:lnTo>
                  <a:lnTo>
                    <a:pt x="1179" y="964"/>
                  </a:lnTo>
                  <a:lnTo>
                    <a:pt x="1183" y="974"/>
                  </a:lnTo>
                  <a:lnTo>
                    <a:pt x="1189" y="983"/>
                  </a:lnTo>
                  <a:lnTo>
                    <a:pt x="1194" y="992"/>
                  </a:lnTo>
                  <a:lnTo>
                    <a:pt x="1199" y="1001"/>
                  </a:lnTo>
                  <a:lnTo>
                    <a:pt x="1205" y="1010"/>
                  </a:lnTo>
                  <a:lnTo>
                    <a:pt x="1208" y="1019"/>
                  </a:lnTo>
                  <a:lnTo>
                    <a:pt x="1214" y="1029"/>
                  </a:lnTo>
                  <a:lnTo>
                    <a:pt x="1218" y="1038"/>
                  </a:lnTo>
                  <a:lnTo>
                    <a:pt x="1224" y="1047"/>
                  </a:lnTo>
                  <a:lnTo>
                    <a:pt x="1230" y="1056"/>
                  </a:lnTo>
                  <a:lnTo>
                    <a:pt x="1235" y="1065"/>
                  </a:lnTo>
                  <a:lnTo>
                    <a:pt x="1239" y="1074"/>
                  </a:lnTo>
                  <a:lnTo>
                    <a:pt x="1244" y="1082"/>
                  </a:lnTo>
                  <a:lnTo>
                    <a:pt x="1249" y="1092"/>
                  </a:lnTo>
                  <a:lnTo>
                    <a:pt x="1254" y="1099"/>
                  </a:lnTo>
                  <a:lnTo>
                    <a:pt x="1260" y="1109"/>
                  </a:lnTo>
                  <a:lnTo>
                    <a:pt x="1264" y="1116"/>
                  </a:lnTo>
                  <a:lnTo>
                    <a:pt x="1269" y="1126"/>
                  </a:lnTo>
                  <a:lnTo>
                    <a:pt x="1275" y="1133"/>
                  </a:lnTo>
                  <a:lnTo>
                    <a:pt x="1280" y="1143"/>
                  </a:lnTo>
                  <a:lnTo>
                    <a:pt x="1285" y="1150"/>
                  </a:lnTo>
                  <a:lnTo>
                    <a:pt x="1289" y="1160"/>
                  </a:lnTo>
                  <a:lnTo>
                    <a:pt x="1294" y="1167"/>
                  </a:lnTo>
                  <a:lnTo>
                    <a:pt x="1299" y="1175"/>
                  </a:lnTo>
                  <a:lnTo>
                    <a:pt x="1304" y="1183"/>
                  </a:lnTo>
                  <a:lnTo>
                    <a:pt x="1310" y="1193"/>
                  </a:lnTo>
                  <a:lnTo>
                    <a:pt x="1314" y="1200"/>
                  </a:lnTo>
                  <a:lnTo>
                    <a:pt x="1319" y="1208"/>
                  </a:lnTo>
                  <a:lnTo>
                    <a:pt x="1324" y="1216"/>
                  </a:lnTo>
                  <a:lnTo>
                    <a:pt x="1329" y="1223"/>
                  </a:lnTo>
                  <a:lnTo>
                    <a:pt x="1335" y="1231"/>
                  </a:lnTo>
                  <a:lnTo>
                    <a:pt x="1338" y="1239"/>
                  </a:lnTo>
                  <a:lnTo>
                    <a:pt x="1344" y="1247"/>
                  </a:lnTo>
                  <a:lnTo>
                    <a:pt x="1350" y="1255"/>
                  </a:lnTo>
                  <a:lnTo>
                    <a:pt x="1355" y="1262"/>
                  </a:lnTo>
                  <a:lnTo>
                    <a:pt x="1360" y="1268"/>
                  </a:lnTo>
                  <a:lnTo>
                    <a:pt x="1364" y="1276"/>
                  </a:lnTo>
                  <a:lnTo>
                    <a:pt x="1369" y="1285"/>
                  </a:lnTo>
                  <a:lnTo>
                    <a:pt x="1374" y="1290"/>
                  </a:lnTo>
                  <a:lnTo>
                    <a:pt x="1380" y="1298"/>
                  </a:lnTo>
                  <a:lnTo>
                    <a:pt x="1386" y="1306"/>
                  </a:lnTo>
                  <a:lnTo>
                    <a:pt x="1390" y="1312"/>
                  </a:lnTo>
                  <a:lnTo>
                    <a:pt x="1395" y="1320"/>
                  </a:lnTo>
                  <a:lnTo>
                    <a:pt x="1399" y="1326"/>
                  </a:lnTo>
                  <a:lnTo>
                    <a:pt x="1405" y="1334"/>
                  </a:lnTo>
                  <a:lnTo>
                    <a:pt x="1410" y="1340"/>
                  </a:lnTo>
                  <a:lnTo>
                    <a:pt x="1415" y="1347"/>
                  </a:lnTo>
                  <a:lnTo>
                    <a:pt x="1420" y="1352"/>
                  </a:lnTo>
                  <a:lnTo>
                    <a:pt x="1424" y="1360"/>
                  </a:lnTo>
                  <a:lnTo>
                    <a:pt x="1430" y="1367"/>
                  </a:lnTo>
                  <a:lnTo>
                    <a:pt x="1434" y="1373"/>
                  </a:lnTo>
                  <a:lnTo>
                    <a:pt x="1440" y="1379"/>
                  </a:lnTo>
                  <a:lnTo>
                    <a:pt x="1444" y="1385"/>
                  </a:lnTo>
                  <a:lnTo>
                    <a:pt x="1449" y="1392"/>
                  </a:lnTo>
                  <a:lnTo>
                    <a:pt x="1455" y="1398"/>
                  </a:lnTo>
                  <a:lnTo>
                    <a:pt x="1460" y="1403"/>
                  </a:lnTo>
                  <a:lnTo>
                    <a:pt x="1466" y="1410"/>
                  </a:lnTo>
                  <a:lnTo>
                    <a:pt x="1470" y="1414"/>
                  </a:lnTo>
                  <a:lnTo>
                    <a:pt x="1474" y="1421"/>
                  </a:lnTo>
                  <a:lnTo>
                    <a:pt x="1480" y="1427"/>
                  </a:lnTo>
                  <a:lnTo>
                    <a:pt x="1485" y="1431"/>
                  </a:lnTo>
                  <a:lnTo>
                    <a:pt x="1491" y="1438"/>
                  </a:lnTo>
                  <a:lnTo>
                    <a:pt x="1494" y="1444"/>
                  </a:lnTo>
                  <a:lnTo>
                    <a:pt x="1500" y="1449"/>
                  </a:lnTo>
                  <a:lnTo>
                    <a:pt x="1506" y="1454"/>
                  </a:lnTo>
                  <a:lnTo>
                    <a:pt x="1510" y="1459"/>
                  </a:lnTo>
                  <a:lnTo>
                    <a:pt x="1515" y="1465"/>
                  </a:lnTo>
                  <a:lnTo>
                    <a:pt x="1520" y="1469"/>
                  </a:lnTo>
                  <a:lnTo>
                    <a:pt x="1525" y="1476"/>
                  </a:lnTo>
                  <a:lnTo>
                    <a:pt x="1530" y="1480"/>
                  </a:lnTo>
                  <a:lnTo>
                    <a:pt x="1535" y="1485"/>
                  </a:lnTo>
                  <a:lnTo>
                    <a:pt x="1541" y="1489"/>
                  </a:lnTo>
                  <a:lnTo>
                    <a:pt x="1545" y="1494"/>
                  </a:lnTo>
                  <a:lnTo>
                    <a:pt x="1550" y="1499"/>
                  </a:lnTo>
                  <a:lnTo>
                    <a:pt x="1554" y="1504"/>
                  </a:lnTo>
                  <a:lnTo>
                    <a:pt x="1560" y="1508"/>
                  </a:lnTo>
                  <a:lnTo>
                    <a:pt x="1566" y="1513"/>
                  </a:lnTo>
                  <a:lnTo>
                    <a:pt x="1571" y="1516"/>
                  </a:lnTo>
                  <a:lnTo>
                    <a:pt x="1575" y="1521"/>
                  </a:lnTo>
                  <a:lnTo>
                    <a:pt x="1580" y="1525"/>
                  </a:lnTo>
                  <a:lnTo>
                    <a:pt x="1585" y="1528"/>
                  </a:lnTo>
                  <a:lnTo>
                    <a:pt x="1590" y="1533"/>
                  </a:lnTo>
                  <a:lnTo>
                    <a:pt x="1596" y="1536"/>
                  </a:lnTo>
                  <a:lnTo>
                    <a:pt x="1600" y="1541"/>
                  </a:lnTo>
                  <a:lnTo>
                    <a:pt x="1605" y="1544"/>
                  </a:lnTo>
                  <a:lnTo>
                    <a:pt x="1611" y="1547"/>
                  </a:lnTo>
                  <a:lnTo>
                    <a:pt x="1616" y="1551"/>
                  </a:lnTo>
                  <a:lnTo>
                    <a:pt x="1621" y="1555"/>
                  </a:lnTo>
                  <a:lnTo>
                    <a:pt x="1625" y="1558"/>
                  </a:lnTo>
                  <a:lnTo>
                    <a:pt x="1630" y="1561"/>
                  </a:lnTo>
                  <a:lnTo>
                    <a:pt x="1636" y="1564"/>
                  </a:lnTo>
                  <a:lnTo>
                    <a:pt x="1640" y="1567"/>
                  </a:lnTo>
                  <a:lnTo>
                    <a:pt x="1646" y="1570"/>
                  </a:lnTo>
                  <a:lnTo>
                    <a:pt x="1650" y="1573"/>
                  </a:lnTo>
                  <a:lnTo>
                    <a:pt x="1655" y="1575"/>
                  </a:lnTo>
                  <a:lnTo>
                    <a:pt x="1660" y="1578"/>
                  </a:lnTo>
                  <a:lnTo>
                    <a:pt x="1665" y="1581"/>
                  </a:lnTo>
                  <a:lnTo>
                    <a:pt x="1671" y="1583"/>
                  </a:lnTo>
                  <a:lnTo>
                    <a:pt x="1676" y="1586"/>
                  </a:lnTo>
                  <a:lnTo>
                    <a:pt x="1680" y="1589"/>
                  </a:lnTo>
                  <a:lnTo>
                    <a:pt x="1686" y="1590"/>
                  </a:lnTo>
                  <a:lnTo>
                    <a:pt x="1691" y="1592"/>
                  </a:lnTo>
                  <a:lnTo>
                    <a:pt x="1696" y="1595"/>
                  </a:lnTo>
                  <a:lnTo>
                    <a:pt x="1701" y="1596"/>
                  </a:lnTo>
                  <a:lnTo>
                    <a:pt x="1705" y="1598"/>
                  </a:lnTo>
                  <a:lnTo>
                    <a:pt x="1710" y="1600"/>
                  </a:lnTo>
                  <a:lnTo>
                    <a:pt x="1716" y="1601"/>
                  </a:lnTo>
                  <a:lnTo>
                    <a:pt x="1722" y="1603"/>
                  </a:lnTo>
                  <a:lnTo>
                    <a:pt x="1726" y="1605"/>
                  </a:lnTo>
                  <a:lnTo>
                    <a:pt x="1731" y="1606"/>
                  </a:lnTo>
                  <a:lnTo>
                    <a:pt x="1735" y="1607"/>
                  </a:lnTo>
                  <a:lnTo>
                    <a:pt x="1741" y="1609"/>
                  </a:lnTo>
                  <a:lnTo>
                    <a:pt x="1746" y="1611"/>
                  </a:lnTo>
                  <a:lnTo>
                    <a:pt x="1751" y="1611"/>
                  </a:lnTo>
                  <a:lnTo>
                    <a:pt x="1756" y="1613"/>
                  </a:lnTo>
                  <a:lnTo>
                    <a:pt x="1760" y="1614"/>
                  </a:lnTo>
                  <a:lnTo>
                    <a:pt x="1766" y="1614"/>
                  </a:lnTo>
                  <a:lnTo>
                    <a:pt x="1770" y="1615"/>
                  </a:lnTo>
                  <a:lnTo>
                    <a:pt x="1776" y="1615"/>
                  </a:lnTo>
                  <a:lnTo>
                    <a:pt x="1780" y="1615"/>
                  </a:lnTo>
                  <a:lnTo>
                    <a:pt x="1785" y="1617"/>
                  </a:lnTo>
                  <a:lnTo>
                    <a:pt x="1791" y="1617"/>
                  </a:lnTo>
                  <a:lnTo>
                    <a:pt x="1796" y="1617"/>
                  </a:lnTo>
                  <a:lnTo>
                    <a:pt x="1802" y="1617"/>
                  </a:lnTo>
                  <a:lnTo>
                    <a:pt x="1806" y="1617"/>
                  </a:lnTo>
                  <a:lnTo>
                    <a:pt x="1810" y="1860"/>
                  </a:lnTo>
                  <a:lnTo>
                    <a:pt x="1816" y="1861"/>
                  </a:lnTo>
                  <a:lnTo>
                    <a:pt x="1821" y="1862"/>
                  </a:lnTo>
                  <a:lnTo>
                    <a:pt x="1827" y="1862"/>
                  </a:lnTo>
                  <a:lnTo>
                    <a:pt x="1832" y="1864"/>
                  </a:lnTo>
                  <a:lnTo>
                    <a:pt x="1836" y="1864"/>
                  </a:lnTo>
                  <a:lnTo>
                    <a:pt x="1842" y="1866"/>
                  </a:lnTo>
                  <a:lnTo>
                    <a:pt x="1846" y="1867"/>
                  </a:lnTo>
                  <a:lnTo>
                    <a:pt x="1852" y="1867"/>
                  </a:lnTo>
                  <a:lnTo>
                    <a:pt x="1856" y="1869"/>
                  </a:lnTo>
                  <a:lnTo>
                    <a:pt x="1861" y="1869"/>
                  </a:lnTo>
                  <a:lnTo>
                    <a:pt x="1867" y="1870"/>
                  </a:lnTo>
                  <a:lnTo>
                    <a:pt x="1871" y="1872"/>
                  </a:lnTo>
                  <a:lnTo>
                    <a:pt x="1877" y="1872"/>
                  </a:lnTo>
                  <a:lnTo>
                    <a:pt x="1881" y="1873"/>
                  </a:lnTo>
                  <a:lnTo>
                    <a:pt x="1886" y="1873"/>
                  </a:lnTo>
                  <a:lnTo>
                    <a:pt x="1891" y="1875"/>
                  </a:lnTo>
                  <a:lnTo>
                    <a:pt x="1896" y="1875"/>
                  </a:lnTo>
                  <a:lnTo>
                    <a:pt x="1902" y="1877"/>
                  </a:lnTo>
                  <a:lnTo>
                    <a:pt x="1907" y="1878"/>
                  </a:lnTo>
                  <a:lnTo>
                    <a:pt x="1911" y="1878"/>
                  </a:lnTo>
                  <a:lnTo>
                    <a:pt x="1916" y="1879"/>
                  </a:lnTo>
                  <a:lnTo>
                    <a:pt x="1921" y="1879"/>
                  </a:lnTo>
                  <a:lnTo>
                    <a:pt x="1927" y="1881"/>
                  </a:lnTo>
                  <a:lnTo>
                    <a:pt x="1932" y="1881"/>
                  </a:lnTo>
                  <a:lnTo>
                    <a:pt x="1936" y="1883"/>
                  </a:lnTo>
                  <a:lnTo>
                    <a:pt x="1941" y="1884"/>
                  </a:lnTo>
                  <a:lnTo>
                    <a:pt x="1947" y="1884"/>
                  </a:lnTo>
                  <a:lnTo>
                    <a:pt x="1952" y="1886"/>
                  </a:lnTo>
                  <a:lnTo>
                    <a:pt x="1957" y="1886"/>
                  </a:lnTo>
                  <a:lnTo>
                    <a:pt x="1962" y="1888"/>
                  </a:lnTo>
                  <a:lnTo>
                    <a:pt x="1966" y="1888"/>
                  </a:lnTo>
                  <a:lnTo>
                    <a:pt x="1972" y="1889"/>
                  </a:lnTo>
                  <a:lnTo>
                    <a:pt x="1976" y="1890"/>
                  </a:lnTo>
                  <a:lnTo>
                    <a:pt x="1982" y="1890"/>
                  </a:lnTo>
                  <a:lnTo>
                    <a:pt x="1987" y="1892"/>
                  </a:lnTo>
                  <a:lnTo>
                    <a:pt x="1991" y="1892"/>
                  </a:lnTo>
                  <a:lnTo>
                    <a:pt x="1996" y="1894"/>
                  </a:lnTo>
                  <a:lnTo>
                    <a:pt x="2001" y="1895"/>
                  </a:lnTo>
                  <a:lnTo>
                    <a:pt x="2007" y="1895"/>
                  </a:lnTo>
                  <a:lnTo>
                    <a:pt x="2012" y="1897"/>
                  </a:lnTo>
                  <a:lnTo>
                    <a:pt x="2016" y="1897"/>
                  </a:lnTo>
                  <a:lnTo>
                    <a:pt x="2022" y="1898"/>
                  </a:lnTo>
                  <a:lnTo>
                    <a:pt x="2027" y="1898"/>
                  </a:lnTo>
                  <a:lnTo>
                    <a:pt x="2032" y="1900"/>
                  </a:lnTo>
                  <a:lnTo>
                    <a:pt x="2037" y="1901"/>
                  </a:lnTo>
                  <a:lnTo>
                    <a:pt x="2041" y="1901"/>
                  </a:lnTo>
                  <a:lnTo>
                    <a:pt x="2047" y="1903"/>
                  </a:lnTo>
                  <a:lnTo>
                    <a:pt x="2052" y="1903"/>
                  </a:lnTo>
                  <a:lnTo>
                    <a:pt x="2058" y="1905"/>
                  </a:lnTo>
                  <a:lnTo>
                    <a:pt x="2062" y="1905"/>
                  </a:lnTo>
                  <a:lnTo>
                    <a:pt x="2067" y="1906"/>
                  </a:lnTo>
                  <a:lnTo>
                    <a:pt x="2071" y="1907"/>
                  </a:lnTo>
                  <a:lnTo>
                    <a:pt x="2077" y="1907"/>
                  </a:lnTo>
                  <a:lnTo>
                    <a:pt x="2083" y="1909"/>
                  </a:lnTo>
                  <a:lnTo>
                    <a:pt x="2087" y="1909"/>
                  </a:lnTo>
                  <a:lnTo>
                    <a:pt x="2092" y="1911"/>
                  </a:lnTo>
                  <a:lnTo>
                    <a:pt x="2097" y="1912"/>
                  </a:lnTo>
                  <a:lnTo>
                    <a:pt x="2102" y="1912"/>
                  </a:lnTo>
                  <a:lnTo>
                    <a:pt x="2107" y="1914"/>
                  </a:lnTo>
                  <a:lnTo>
                    <a:pt x="2112" y="1914"/>
                  </a:lnTo>
                  <a:lnTo>
                    <a:pt x="2118" y="1915"/>
                  </a:lnTo>
                  <a:lnTo>
                    <a:pt x="2121" y="1915"/>
                  </a:lnTo>
                  <a:lnTo>
                    <a:pt x="2127" y="1917"/>
                  </a:lnTo>
                  <a:lnTo>
                    <a:pt x="2132" y="1918"/>
                  </a:lnTo>
                  <a:lnTo>
                    <a:pt x="2138" y="1918"/>
                  </a:lnTo>
                  <a:lnTo>
                    <a:pt x="2143" y="1920"/>
                  </a:lnTo>
                  <a:lnTo>
                    <a:pt x="2146" y="1920"/>
                  </a:lnTo>
                  <a:lnTo>
                    <a:pt x="2152" y="1922"/>
                  </a:lnTo>
                  <a:lnTo>
                    <a:pt x="2157" y="1922"/>
                  </a:lnTo>
                  <a:lnTo>
                    <a:pt x="2163" y="1923"/>
                  </a:lnTo>
                  <a:lnTo>
                    <a:pt x="2168" y="1925"/>
                  </a:lnTo>
                  <a:lnTo>
                    <a:pt x="2172" y="1925"/>
                  </a:lnTo>
                  <a:lnTo>
                    <a:pt x="2178" y="1926"/>
                  </a:lnTo>
                  <a:lnTo>
                    <a:pt x="2182" y="1926"/>
                  </a:lnTo>
                  <a:lnTo>
                    <a:pt x="2188" y="1928"/>
                  </a:lnTo>
                  <a:lnTo>
                    <a:pt x="2192" y="1928"/>
                  </a:lnTo>
                  <a:lnTo>
                    <a:pt x="2197" y="1929"/>
                  </a:lnTo>
                  <a:lnTo>
                    <a:pt x="2203" y="1931"/>
                  </a:lnTo>
                  <a:lnTo>
                    <a:pt x="2207" y="1931"/>
                  </a:lnTo>
                  <a:lnTo>
                    <a:pt x="2213" y="1933"/>
                  </a:lnTo>
                  <a:lnTo>
                    <a:pt x="2217" y="1933"/>
                  </a:lnTo>
                  <a:lnTo>
                    <a:pt x="2222" y="1934"/>
                  </a:lnTo>
                  <a:lnTo>
                    <a:pt x="2227" y="1935"/>
                  </a:lnTo>
                  <a:lnTo>
                    <a:pt x="2232" y="1935"/>
                  </a:lnTo>
                  <a:lnTo>
                    <a:pt x="2238" y="1937"/>
                  </a:lnTo>
                  <a:lnTo>
                    <a:pt x="2243" y="1937"/>
                  </a:lnTo>
                  <a:lnTo>
                    <a:pt x="2248" y="1939"/>
                  </a:lnTo>
                  <a:lnTo>
                    <a:pt x="2252" y="1939"/>
                  </a:lnTo>
                  <a:lnTo>
                    <a:pt x="2257" y="1940"/>
                  </a:lnTo>
                  <a:lnTo>
                    <a:pt x="2263" y="1942"/>
                  </a:lnTo>
                  <a:lnTo>
                    <a:pt x="2268" y="1942"/>
                  </a:lnTo>
                  <a:lnTo>
                    <a:pt x="2274" y="1943"/>
                  </a:lnTo>
                  <a:lnTo>
                    <a:pt x="2277" y="1943"/>
                  </a:lnTo>
                  <a:lnTo>
                    <a:pt x="2283" y="1945"/>
                  </a:lnTo>
                  <a:lnTo>
                    <a:pt x="2288" y="1945"/>
                  </a:lnTo>
                  <a:lnTo>
                    <a:pt x="2293" y="1946"/>
                  </a:lnTo>
                  <a:lnTo>
                    <a:pt x="2299" y="1948"/>
                  </a:lnTo>
                  <a:lnTo>
                    <a:pt x="2302" y="1948"/>
                  </a:lnTo>
                  <a:lnTo>
                    <a:pt x="2308" y="1950"/>
                  </a:lnTo>
                  <a:lnTo>
                    <a:pt x="2313" y="1950"/>
                  </a:lnTo>
                  <a:lnTo>
                    <a:pt x="2318" y="1951"/>
                  </a:lnTo>
                  <a:lnTo>
                    <a:pt x="2323" y="1952"/>
                  </a:lnTo>
                  <a:lnTo>
                    <a:pt x="2327" y="1952"/>
                  </a:lnTo>
                  <a:lnTo>
                    <a:pt x="2332" y="1954"/>
                  </a:lnTo>
                  <a:lnTo>
                    <a:pt x="2337" y="1954"/>
                  </a:lnTo>
                  <a:lnTo>
                    <a:pt x="2343" y="1956"/>
                  </a:lnTo>
                  <a:lnTo>
                    <a:pt x="2348" y="1956"/>
                  </a:lnTo>
                  <a:lnTo>
                    <a:pt x="2352" y="1957"/>
                  </a:lnTo>
                  <a:lnTo>
                    <a:pt x="2358" y="1959"/>
                  </a:lnTo>
                  <a:lnTo>
                    <a:pt x="2363" y="1959"/>
                  </a:lnTo>
                  <a:lnTo>
                    <a:pt x="2368" y="1961"/>
                  </a:lnTo>
                  <a:lnTo>
                    <a:pt x="2373" y="1961"/>
                  </a:lnTo>
                  <a:lnTo>
                    <a:pt x="2377" y="1962"/>
                  </a:lnTo>
                  <a:lnTo>
                    <a:pt x="2383" y="1962"/>
                  </a:lnTo>
                  <a:lnTo>
                    <a:pt x="2388" y="1963"/>
                  </a:lnTo>
                  <a:lnTo>
                    <a:pt x="2394" y="1965"/>
                  </a:lnTo>
                  <a:lnTo>
                    <a:pt x="2398" y="1965"/>
                  </a:lnTo>
                  <a:lnTo>
                    <a:pt x="2404" y="1967"/>
                  </a:lnTo>
                  <a:lnTo>
                    <a:pt x="2407" y="1967"/>
                  </a:lnTo>
                  <a:lnTo>
                    <a:pt x="2413" y="1968"/>
                  </a:lnTo>
                  <a:lnTo>
                    <a:pt x="2419" y="1968"/>
                  </a:lnTo>
                  <a:lnTo>
                    <a:pt x="2423" y="1970"/>
                  </a:lnTo>
                  <a:lnTo>
                    <a:pt x="2429" y="1971"/>
                  </a:lnTo>
                  <a:lnTo>
                    <a:pt x="2433" y="1971"/>
                  </a:lnTo>
                  <a:lnTo>
                    <a:pt x="2438" y="1973"/>
                  </a:lnTo>
                  <a:lnTo>
                    <a:pt x="2443" y="1973"/>
                  </a:lnTo>
                  <a:lnTo>
                    <a:pt x="2448" y="1974"/>
                  </a:lnTo>
                  <a:lnTo>
                    <a:pt x="2454" y="1976"/>
                  </a:lnTo>
                  <a:lnTo>
                    <a:pt x="2457" y="1976"/>
                  </a:lnTo>
                  <a:lnTo>
                    <a:pt x="2463" y="1978"/>
                  </a:lnTo>
                  <a:lnTo>
                    <a:pt x="2468" y="1978"/>
                  </a:lnTo>
                  <a:lnTo>
                    <a:pt x="2474" y="1979"/>
                  </a:lnTo>
                  <a:lnTo>
                    <a:pt x="2479" y="1979"/>
                  </a:lnTo>
                  <a:lnTo>
                    <a:pt x="2482" y="1980"/>
                  </a:lnTo>
                  <a:lnTo>
                    <a:pt x="2488" y="1982"/>
                  </a:lnTo>
                  <a:lnTo>
                    <a:pt x="2493" y="1982"/>
                  </a:lnTo>
                  <a:lnTo>
                    <a:pt x="2499" y="1984"/>
                  </a:lnTo>
                  <a:lnTo>
                    <a:pt x="2504" y="1984"/>
                  </a:lnTo>
                  <a:lnTo>
                    <a:pt x="2508" y="1985"/>
                  </a:lnTo>
                  <a:lnTo>
                    <a:pt x="2514" y="1985"/>
                  </a:lnTo>
                  <a:lnTo>
                    <a:pt x="2518" y="1987"/>
                  </a:lnTo>
                  <a:lnTo>
                    <a:pt x="2524" y="1989"/>
                  </a:lnTo>
                  <a:lnTo>
                    <a:pt x="2529" y="1989"/>
                  </a:lnTo>
                  <a:lnTo>
                    <a:pt x="2534" y="1990"/>
                  </a:lnTo>
                  <a:lnTo>
                    <a:pt x="2539" y="1990"/>
                  </a:lnTo>
                  <a:lnTo>
                    <a:pt x="2543" y="1991"/>
                  </a:lnTo>
                  <a:lnTo>
                    <a:pt x="2549" y="1993"/>
                  </a:lnTo>
                  <a:lnTo>
                    <a:pt x="2553" y="1993"/>
                  </a:lnTo>
                  <a:lnTo>
                    <a:pt x="2559" y="1995"/>
                  </a:lnTo>
                  <a:lnTo>
                    <a:pt x="2563" y="1995"/>
                  </a:lnTo>
                  <a:lnTo>
                    <a:pt x="2568" y="1997"/>
                  </a:lnTo>
                  <a:lnTo>
                    <a:pt x="2574" y="1997"/>
                  </a:lnTo>
                  <a:lnTo>
                    <a:pt x="2579" y="1998"/>
                  </a:lnTo>
                  <a:lnTo>
                    <a:pt x="2584" y="1999"/>
                  </a:lnTo>
                  <a:lnTo>
                    <a:pt x="2588" y="1999"/>
                  </a:lnTo>
                  <a:lnTo>
                    <a:pt x="2593" y="2001"/>
                  </a:lnTo>
                  <a:lnTo>
                    <a:pt x="2599" y="2001"/>
                  </a:lnTo>
                  <a:lnTo>
                    <a:pt x="2604" y="2002"/>
                  </a:lnTo>
                  <a:lnTo>
                    <a:pt x="2610" y="2002"/>
                  </a:lnTo>
                  <a:lnTo>
                    <a:pt x="2613" y="2004"/>
                  </a:lnTo>
                  <a:lnTo>
                    <a:pt x="2619" y="2006"/>
                  </a:lnTo>
                  <a:lnTo>
                    <a:pt x="2624" y="2006"/>
                  </a:lnTo>
                  <a:lnTo>
                    <a:pt x="2629" y="2007"/>
                  </a:lnTo>
                  <a:lnTo>
                    <a:pt x="2635" y="2007"/>
                  </a:lnTo>
                  <a:lnTo>
                    <a:pt x="2638" y="2008"/>
                  </a:lnTo>
                  <a:lnTo>
                    <a:pt x="2644" y="2008"/>
                  </a:lnTo>
                  <a:lnTo>
                    <a:pt x="2649" y="2010"/>
                  </a:lnTo>
                  <a:lnTo>
                    <a:pt x="2654" y="2012"/>
                  </a:lnTo>
                  <a:lnTo>
                    <a:pt x="2659" y="2012"/>
                  </a:lnTo>
                  <a:lnTo>
                    <a:pt x="2664" y="2013"/>
                  </a:lnTo>
                  <a:lnTo>
                    <a:pt x="2668" y="2013"/>
                  </a:lnTo>
                  <a:lnTo>
                    <a:pt x="2673" y="2015"/>
                  </a:lnTo>
                  <a:lnTo>
                    <a:pt x="2679" y="2016"/>
                  </a:lnTo>
                  <a:lnTo>
                    <a:pt x="2684" y="2016"/>
                  </a:lnTo>
                  <a:lnTo>
                    <a:pt x="2690" y="2018"/>
                  </a:lnTo>
                  <a:lnTo>
                    <a:pt x="2694" y="2018"/>
                  </a:lnTo>
                  <a:lnTo>
                    <a:pt x="2699" y="2019"/>
                  </a:lnTo>
                  <a:lnTo>
                    <a:pt x="2704" y="2019"/>
                  </a:lnTo>
                  <a:lnTo>
                    <a:pt x="2709" y="2021"/>
                  </a:lnTo>
                  <a:lnTo>
                    <a:pt x="2715" y="2223"/>
                  </a:lnTo>
                  <a:lnTo>
                    <a:pt x="2719" y="2225"/>
                  </a:lnTo>
                  <a:lnTo>
                    <a:pt x="2724" y="2225"/>
                  </a:lnTo>
                  <a:lnTo>
                    <a:pt x="2730" y="2225"/>
                  </a:lnTo>
                  <a:lnTo>
                    <a:pt x="2734" y="2225"/>
                  </a:lnTo>
                  <a:lnTo>
                    <a:pt x="2740" y="2226"/>
                  </a:lnTo>
                  <a:lnTo>
                    <a:pt x="2743" y="2226"/>
                  </a:lnTo>
                  <a:lnTo>
                    <a:pt x="2749" y="2226"/>
                  </a:lnTo>
                  <a:lnTo>
                    <a:pt x="2755" y="2227"/>
                  </a:lnTo>
                  <a:lnTo>
                    <a:pt x="2760" y="2227"/>
                  </a:lnTo>
                  <a:lnTo>
                    <a:pt x="2765" y="2227"/>
                  </a:lnTo>
                  <a:lnTo>
                    <a:pt x="2769" y="2227"/>
                  </a:lnTo>
                  <a:lnTo>
                    <a:pt x="2774" y="2229"/>
                  </a:lnTo>
                  <a:lnTo>
                    <a:pt x="2779" y="2229"/>
                  </a:lnTo>
                  <a:lnTo>
                    <a:pt x="2784" y="2229"/>
                  </a:lnTo>
                  <a:lnTo>
                    <a:pt x="2790" y="2231"/>
                  </a:lnTo>
                  <a:lnTo>
                    <a:pt x="2793" y="2231"/>
                  </a:lnTo>
                  <a:lnTo>
                    <a:pt x="2799" y="2231"/>
                  </a:lnTo>
                  <a:lnTo>
                    <a:pt x="2804" y="2231"/>
                  </a:lnTo>
                  <a:lnTo>
                    <a:pt x="2810" y="2233"/>
                  </a:lnTo>
                  <a:lnTo>
                    <a:pt x="2815" y="2233"/>
                  </a:lnTo>
                  <a:lnTo>
                    <a:pt x="2820" y="2233"/>
                  </a:lnTo>
                  <a:lnTo>
                    <a:pt x="2824" y="2234"/>
                  </a:lnTo>
                  <a:lnTo>
                    <a:pt x="2829" y="2234"/>
                  </a:lnTo>
                  <a:lnTo>
                    <a:pt x="2835" y="2234"/>
                  </a:lnTo>
                  <a:lnTo>
                    <a:pt x="2840" y="2235"/>
                  </a:lnTo>
                  <a:lnTo>
                    <a:pt x="2845" y="2235"/>
                  </a:lnTo>
                  <a:lnTo>
                    <a:pt x="2850" y="2235"/>
                  </a:lnTo>
                  <a:lnTo>
                    <a:pt x="2854" y="2235"/>
                  </a:lnTo>
                  <a:lnTo>
                    <a:pt x="2860" y="2237"/>
                  </a:lnTo>
                  <a:lnTo>
                    <a:pt x="2865" y="2237"/>
                  </a:lnTo>
                  <a:lnTo>
                    <a:pt x="2870" y="2237"/>
                  </a:lnTo>
                  <a:lnTo>
                    <a:pt x="2875" y="2239"/>
                  </a:lnTo>
                  <a:lnTo>
                    <a:pt x="2880" y="2239"/>
                  </a:lnTo>
                  <a:lnTo>
                    <a:pt x="2885" y="2239"/>
                  </a:lnTo>
                  <a:lnTo>
                    <a:pt x="2889" y="2239"/>
                  </a:lnTo>
                  <a:lnTo>
                    <a:pt x="2895" y="2240"/>
                  </a:lnTo>
                  <a:lnTo>
                    <a:pt x="2899" y="2240"/>
                  </a:lnTo>
                  <a:lnTo>
                    <a:pt x="2904" y="2240"/>
                  </a:lnTo>
                  <a:lnTo>
                    <a:pt x="2910" y="2242"/>
                  </a:lnTo>
                  <a:lnTo>
                    <a:pt x="2915" y="2242"/>
                  </a:lnTo>
                  <a:lnTo>
                    <a:pt x="2920" y="2242"/>
                  </a:lnTo>
                  <a:lnTo>
                    <a:pt x="2924" y="2242"/>
                  </a:lnTo>
                  <a:lnTo>
                    <a:pt x="2929" y="2244"/>
                  </a:lnTo>
                  <a:lnTo>
                    <a:pt x="2935" y="2244"/>
                  </a:lnTo>
                  <a:lnTo>
                    <a:pt x="2940" y="2244"/>
                  </a:lnTo>
                  <a:lnTo>
                    <a:pt x="2946" y="2245"/>
                  </a:lnTo>
                  <a:lnTo>
                    <a:pt x="2949" y="2245"/>
                  </a:lnTo>
                  <a:lnTo>
                    <a:pt x="2955" y="2245"/>
                  </a:lnTo>
                  <a:lnTo>
                    <a:pt x="2960" y="2245"/>
                  </a:lnTo>
                  <a:lnTo>
                    <a:pt x="2965" y="2246"/>
                  </a:lnTo>
                  <a:lnTo>
                    <a:pt x="2971" y="2246"/>
                  </a:lnTo>
                  <a:lnTo>
                    <a:pt x="2976" y="2246"/>
                  </a:lnTo>
                  <a:lnTo>
                    <a:pt x="2980" y="2248"/>
                  </a:lnTo>
                  <a:lnTo>
                    <a:pt x="2985" y="2248"/>
                  </a:lnTo>
                  <a:lnTo>
                    <a:pt x="2990" y="2248"/>
                  </a:lnTo>
                  <a:lnTo>
                    <a:pt x="2995" y="2248"/>
                  </a:lnTo>
                  <a:lnTo>
                    <a:pt x="3000" y="2250"/>
                  </a:lnTo>
                  <a:lnTo>
                    <a:pt x="3004" y="2250"/>
                  </a:lnTo>
                  <a:lnTo>
                    <a:pt x="3009" y="2250"/>
                  </a:lnTo>
                  <a:lnTo>
                    <a:pt x="3015" y="2251"/>
                  </a:lnTo>
                  <a:lnTo>
                    <a:pt x="3020" y="2251"/>
                  </a:lnTo>
                  <a:lnTo>
                    <a:pt x="3026" y="2251"/>
                  </a:lnTo>
                  <a:lnTo>
                    <a:pt x="3030" y="2251"/>
                  </a:lnTo>
                  <a:lnTo>
                    <a:pt x="3035" y="2253"/>
                  </a:lnTo>
                  <a:lnTo>
                    <a:pt x="3040" y="2253"/>
                  </a:lnTo>
                  <a:lnTo>
                    <a:pt x="3045" y="2253"/>
                  </a:lnTo>
                  <a:lnTo>
                    <a:pt x="3051" y="2254"/>
                  </a:lnTo>
                  <a:lnTo>
                    <a:pt x="3055" y="2254"/>
                  </a:lnTo>
                  <a:lnTo>
                    <a:pt x="3060" y="2254"/>
                  </a:lnTo>
                  <a:lnTo>
                    <a:pt x="3066" y="2256"/>
                  </a:lnTo>
                  <a:lnTo>
                    <a:pt x="3070" y="2256"/>
                  </a:lnTo>
                  <a:lnTo>
                    <a:pt x="3076" y="2256"/>
                  </a:lnTo>
                  <a:lnTo>
                    <a:pt x="3079" y="2256"/>
                  </a:lnTo>
                  <a:lnTo>
                    <a:pt x="3085" y="2257"/>
                  </a:lnTo>
                  <a:lnTo>
                    <a:pt x="3091" y="2257"/>
                  </a:lnTo>
                  <a:lnTo>
                    <a:pt x="3096" y="2257"/>
                  </a:lnTo>
                  <a:lnTo>
                    <a:pt x="3101" y="2259"/>
                  </a:lnTo>
                  <a:lnTo>
                    <a:pt x="3105" y="2259"/>
                  </a:lnTo>
                  <a:lnTo>
                    <a:pt x="3110" y="2259"/>
                  </a:lnTo>
                  <a:lnTo>
                    <a:pt x="3115" y="2259"/>
                  </a:lnTo>
                  <a:lnTo>
                    <a:pt x="3120" y="2261"/>
                  </a:lnTo>
                  <a:lnTo>
                    <a:pt x="3126" y="2261"/>
                  </a:lnTo>
                  <a:lnTo>
                    <a:pt x="3131" y="2261"/>
                  </a:lnTo>
                  <a:lnTo>
                    <a:pt x="3135" y="2262"/>
                  </a:lnTo>
                  <a:lnTo>
                    <a:pt x="3140" y="2262"/>
                  </a:lnTo>
                  <a:lnTo>
                    <a:pt x="3146" y="2262"/>
                  </a:lnTo>
                  <a:lnTo>
                    <a:pt x="3151" y="2262"/>
                  </a:lnTo>
                  <a:lnTo>
                    <a:pt x="3156" y="2263"/>
                  </a:lnTo>
                  <a:lnTo>
                    <a:pt x="3160" y="2263"/>
                  </a:lnTo>
                  <a:lnTo>
                    <a:pt x="3165" y="2263"/>
                  </a:lnTo>
                  <a:lnTo>
                    <a:pt x="3171" y="2265"/>
                  </a:lnTo>
                  <a:lnTo>
                    <a:pt x="3176" y="2265"/>
                  </a:lnTo>
                  <a:lnTo>
                    <a:pt x="3181" y="2265"/>
                  </a:lnTo>
                  <a:lnTo>
                    <a:pt x="3186" y="2265"/>
                  </a:lnTo>
                  <a:lnTo>
                    <a:pt x="3190" y="2267"/>
                  </a:lnTo>
                  <a:lnTo>
                    <a:pt x="3196" y="2267"/>
                  </a:lnTo>
                  <a:lnTo>
                    <a:pt x="3201" y="2267"/>
                  </a:lnTo>
                  <a:lnTo>
                    <a:pt x="3207" y="2268"/>
                  </a:lnTo>
                  <a:lnTo>
                    <a:pt x="3211" y="2268"/>
                  </a:lnTo>
                  <a:lnTo>
                    <a:pt x="3216" y="2268"/>
                  </a:lnTo>
                  <a:lnTo>
                    <a:pt x="3221" y="2268"/>
                  </a:lnTo>
                  <a:lnTo>
                    <a:pt x="3225" y="2270"/>
                  </a:lnTo>
                  <a:lnTo>
                    <a:pt x="3231" y="2270"/>
                  </a:lnTo>
                  <a:lnTo>
                    <a:pt x="3235" y="2270"/>
                  </a:lnTo>
                  <a:lnTo>
                    <a:pt x="3240" y="2272"/>
                  </a:lnTo>
                  <a:lnTo>
                    <a:pt x="3246" y="2272"/>
                  </a:lnTo>
                  <a:lnTo>
                    <a:pt x="3251" y="2272"/>
                  </a:lnTo>
                  <a:lnTo>
                    <a:pt x="3256" y="2272"/>
                  </a:lnTo>
                  <a:lnTo>
                    <a:pt x="3261" y="2273"/>
                  </a:lnTo>
                  <a:lnTo>
                    <a:pt x="3265" y="2273"/>
                  </a:lnTo>
                  <a:lnTo>
                    <a:pt x="3271" y="2273"/>
                  </a:lnTo>
                  <a:lnTo>
                    <a:pt x="3276" y="2274"/>
                  </a:lnTo>
                  <a:lnTo>
                    <a:pt x="3282" y="2274"/>
                  </a:lnTo>
                  <a:lnTo>
                    <a:pt x="3287" y="2274"/>
                  </a:lnTo>
                  <a:lnTo>
                    <a:pt x="3291" y="2276"/>
                  </a:lnTo>
                  <a:lnTo>
                    <a:pt x="3296" y="2276"/>
                  </a:lnTo>
                  <a:lnTo>
                    <a:pt x="3301" y="2276"/>
                  </a:lnTo>
                  <a:lnTo>
                    <a:pt x="3307" y="2276"/>
                  </a:lnTo>
                  <a:lnTo>
                    <a:pt x="3312" y="2278"/>
                  </a:lnTo>
                  <a:lnTo>
                    <a:pt x="3316" y="2278"/>
                  </a:lnTo>
                  <a:lnTo>
                    <a:pt x="3321" y="2278"/>
                  </a:lnTo>
                  <a:lnTo>
                    <a:pt x="3327" y="2279"/>
                  </a:lnTo>
                  <a:lnTo>
                    <a:pt x="3331" y="2279"/>
                  </a:lnTo>
                  <a:lnTo>
                    <a:pt x="3336" y="2279"/>
                  </a:lnTo>
                  <a:lnTo>
                    <a:pt x="3341" y="2279"/>
                  </a:lnTo>
                  <a:lnTo>
                    <a:pt x="3345" y="2281"/>
                  </a:lnTo>
                  <a:lnTo>
                    <a:pt x="3351" y="2281"/>
                  </a:lnTo>
                  <a:lnTo>
                    <a:pt x="3356" y="2281"/>
                  </a:lnTo>
                  <a:lnTo>
                    <a:pt x="3362" y="2282"/>
                  </a:lnTo>
                  <a:lnTo>
                    <a:pt x="3366" y="2282"/>
                  </a:lnTo>
                  <a:lnTo>
                    <a:pt x="3371" y="2282"/>
                  </a:lnTo>
                  <a:lnTo>
                    <a:pt x="3376" y="2282"/>
                  </a:lnTo>
                  <a:lnTo>
                    <a:pt x="3381" y="2284"/>
                  </a:lnTo>
                  <a:lnTo>
                    <a:pt x="3387" y="2284"/>
                  </a:lnTo>
                  <a:lnTo>
                    <a:pt x="3391" y="2284"/>
                  </a:lnTo>
                  <a:lnTo>
                    <a:pt x="3396" y="2285"/>
                  </a:lnTo>
                  <a:lnTo>
                    <a:pt x="3402" y="2285"/>
                  </a:lnTo>
                  <a:lnTo>
                    <a:pt x="3406" y="2285"/>
                  </a:lnTo>
                  <a:lnTo>
                    <a:pt x="3412" y="2285"/>
                  </a:lnTo>
                  <a:lnTo>
                    <a:pt x="3417" y="2287"/>
                  </a:lnTo>
                  <a:lnTo>
                    <a:pt x="3421" y="2287"/>
                  </a:lnTo>
                  <a:lnTo>
                    <a:pt x="3427" y="2287"/>
                  </a:lnTo>
                  <a:lnTo>
                    <a:pt x="3432" y="2289"/>
                  </a:lnTo>
                  <a:lnTo>
                    <a:pt x="3437" y="2289"/>
                  </a:lnTo>
                  <a:lnTo>
                    <a:pt x="3442" y="2289"/>
                  </a:lnTo>
                  <a:lnTo>
                    <a:pt x="3446" y="2289"/>
                  </a:lnTo>
                  <a:lnTo>
                    <a:pt x="3451" y="2290"/>
                  </a:lnTo>
                  <a:lnTo>
                    <a:pt x="3456" y="2290"/>
                  </a:lnTo>
                  <a:lnTo>
                    <a:pt x="3462" y="2290"/>
                  </a:lnTo>
                  <a:lnTo>
                    <a:pt x="3467" y="2291"/>
                  </a:lnTo>
                  <a:lnTo>
                    <a:pt x="3471" y="2291"/>
                  </a:lnTo>
                  <a:lnTo>
                    <a:pt x="3476" y="2291"/>
                  </a:lnTo>
                  <a:lnTo>
                    <a:pt x="3482" y="2291"/>
                  </a:lnTo>
                  <a:lnTo>
                    <a:pt x="3487" y="2293"/>
                  </a:lnTo>
                  <a:lnTo>
                    <a:pt x="3492" y="2293"/>
                  </a:lnTo>
                  <a:lnTo>
                    <a:pt x="3496" y="2293"/>
                  </a:lnTo>
                  <a:lnTo>
                    <a:pt x="3501" y="2295"/>
                  </a:lnTo>
                  <a:lnTo>
                    <a:pt x="3507" y="2295"/>
                  </a:lnTo>
                  <a:lnTo>
                    <a:pt x="3512" y="2295"/>
                  </a:lnTo>
                  <a:lnTo>
                    <a:pt x="3517" y="2296"/>
                  </a:lnTo>
                  <a:lnTo>
                    <a:pt x="3522" y="2296"/>
                  </a:lnTo>
                  <a:lnTo>
                    <a:pt x="3526" y="2296"/>
                  </a:lnTo>
                  <a:lnTo>
                    <a:pt x="3532" y="2296"/>
                  </a:lnTo>
                  <a:lnTo>
                    <a:pt x="3537" y="2298"/>
                  </a:lnTo>
                  <a:lnTo>
                    <a:pt x="3543" y="2298"/>
                  </a:lnTo>
                  <a:lnTo>
                    <a:pt x="3547" y="2298"/>
                  </a:lnTo>
                  <a:lnTo>
                    <a:pt x="3552" y="2299"/>
                  </a:lnTo>
                  <a:lnTo>
                    <a:pt x="3557" y="2299"/>
                  </a:lnTo>
                  <a:lnTo>
                    <a:pt x="3561" y="2299"/>
                  </a:lnTo>
                  <a:lnTo>
                    <a:pt x="3567" y="2299"/>
                  </a:lnTo>
                  <a:lnTo>
                    <a:pt x="3572" y="2301"/>
                  </a:lnTo>
                  <a:lnTo>
                    <a:pt x="3576" y="2301"/>
                  </a:lnTo>
                  <a:lnTo>
                    <a:pt x="3582" y="2301"/>
                  </a:lnTo>
                  <a:lnTo>
                    <a:pt x="3587" y="2302"/>
                  </a:lnTo>
                  <a:lnTo>
                    <a:pt x="3592" y="2302"/>
                  </a:lnTo>
                  <a:lnTo>
                    <a:pt x="3597" y="2302"/>
                  </a:lnTo>
                  <a:lnTo>
                    <a:pt x="3601" y="2302"/>
                  </a:lnTo>
                  <a:lnTo>
                    <a:pt x="3607" y="2304"/>
                  </a:lnTo>
                  <a:lnTo>
                    <a:pt x="3612" y="2304"/>
                  </a:lnTo>
                </a:path>
              </a:pathLst>
            </a:custGeom>
            <a:noFill/>
            <a:ln cap="rnd" w="38160">
              <a:solidFill>
                <a:srgbClr val="3365fb"/>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189" name="Group 44"/>
            <p:cNvGrpSpPr/>
            <p:nvPr/>
          </p:nvGrpSpPr>
          <p:grpSpPr>
            <a:xfrm>
              <a:off x="3201840" y="2741760"/>
              <a:ext cx="2189160" cy="1387080"/>
              <a:chOff x="3201840" y="2741760"/>
              <a:chExt cx="2189160" cy="1387080"/>
            </a:xfrm>
          </p:grpSpPr>
          <p:grpSp>
            <p:nvGrpSpPr>
              <p:cNvPr id="190" name="Group 45"/>
              <p:cNvGrpSpPr/>
              <p:nvPr/>
            </p:nvGrpSpPr>
            <p:grpSpPr>
              <a:xfrm>
                <a:off x="3302280" y="3487320"/>
                <a:ext cx="640440" cy="641520"/>
                <a:chOff x="3302280" y="3487320"/>
                <a:chExt cx="640440" cy="641520"/>
              </a:xfrm>
            </p:grpSpPr>
            <p:grpSp>
              <p:nvGrpSpPr>
                <p:cNvPr id="191" name="Group 46"/>
                <p:cNvGrpSpPr/>
                <p:nvPr/>
              </p:nvGrpSpPr>
              <p:grpSpPr>
                <a:xfrm>
                  <a:off x="3559680" y="3645720"/>
                  <a:ext cx="383040" cy="340920"/>
                  <a:chOff x="3559680" y="3645720"/>
                  <a:chExt cx="383040" cy="340920"/>
                </a:xfrm>
              </p:grpSpPr>
              <p:sp>
                <p:nvSpPr>
                  <p:cNvPr id="192" name="AutoShape 47"/>
                  <p:cNvSpPr/>
                  <p:nvPr/>
                </p:nvSpPr>
                <p:spPr>
                  <a:xfrm rot="3396600">
                    <a:off x="3591000" y="3755160"/>
                    <a:ext cx="207000" cy="1868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Oval 48"/>
                  <p:cNvSpPr/>
                  <p:nvPr/>
                </p:nvSpPr>
                <p:spPr>
                  <a:xfrm rot="3396600">
                    <a:off x="3751920" y="3681000"/>
                    <a:ext cx="165600" cy="149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194" name="Group 49"/>
                <p:cNvGrpSpPr/>
                <p:nvPr/>
              </p:nvGrpSpPr>
              <p:grpSpPr>
                <a:xfrm>
                  <a:off x="3458880" y="3497760"/>
                  <a:ext cx="383040" cy="340920"/>
                  <a:chOff x="3458880" y="3497760"/>
                  <a:chExt cx="383040" cy="340920"/>
                </a:xfrm>
              </p:grpSpPr>
              <p:sp>
                <p:nvSpPr>
                  <p:cNvPr id="195" name="AutoShape 50"/>
                  <p:cNvSpPr/>
                  <p:nvPr/>
                </p:nvSpPr>
                <p:spPr>
                  <a:xfrm rot="3396600">
                    <a:off x="3490200" y="3607200"/>
                    <a:ext cx="207000" cy="18684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6" name="Oval 51"/>
                  <p:cNvSpPr/>
                  <p:nvPr/>
                </p:nvSpPr>
                <p:spPr>
                  <a:xfrm rot="3396600">
                    <a:off x="3651120" y="3533040"/>
                    <a:ext cx="165600" cy="149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197" name="AutoShape 52"/>
                <p:cNvSpPr/>
                <p:nvPr/>
              </p:nvSpPr>
              <p:spPr>
                <a:xfrm rot="3318600">
                  <a:off x="3238200" y="3714840"/>
                  <a:ext cx="651240" cy="186120"/>
                </a:xfrm>
                <a:custGeom>
                  <a:avLst/>
                  <a:gdLst>
                    <a:gd name="textAreaLeft" fmla="*/ 135720 w 651240"/>
                    <a:gd name="textAreaRight" fmla="*/ 515520 w 651240"/>
                    <a:gd name="textAreaTop" fmla="*/ 39240 h 186120"/>
                    <a:gd name="textAreaBottom" fmla="*/ 146880 h 1861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Oval 53"/>
                <p:cNvSpPr/>
                <p:nvPr/>
              </p:nvSpPr>
              <p:spPr>
                <a:xfrm>
                  <a:off x="3332160" y="3717720"/>
                  <a:ext cx="15588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Oval 54"/>
                <p:cNvSpPr/>
                <p:nvPr/>
              </p:nvSpPr>
              <p:spPr>
                <a:xfrm>
                  <a:off x="3488040" y="3911400"/>
                  <a:ext cx="155520" cy="1641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00" name="AutoShape 55"/>
              <p:cNvSpPr/>
              <p:nvPr/>
            </p:nvSpPr>
            <p:spPr>
              <a:xfrm>
                <a:off x="3201840" y="2741760"/>
                <a:ext cx="2189160" cy="547920"/>
              </a:xfrm>
              <a:prstGeom prst="wedgeRoundRectCallout">
                <a:avLst>
                  <a:gd name="adj1" fmla="val -20703"/>
                  <a:gd name="adj2" fmla="val 108333"/>
                  <a:gd name="adj3" fmla="val 1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itial savings </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ustained</a:t>
                </a:r>
                <a:endParaRPr b="1" lang="en-US" sz="1800" spc="-1" strike="noStrike">
                  <a:solidFill>
                    <a:srgbClr val="ffffff"/>
                  </a:solidFill>
                  <a:latin typeface="Arial"/>
                </a:endParaRPr>
              </a:p>
            </p:txBody>
          </p:sp>
        </p:grpSp>
        <p:grpSp>
          <p:nvGrpSpPr>
            <p:cNvPr id="201" name="Group 56"/>
            <p:cNvGrpSpPr/>
            <p:nvPr/>
          </p:nvGrpSpPr>
          <p:grpSpPr>
            <a:xfrm>
              <a:off x="4741920" y="3808440"/>
              <a:ext cx="3646440" cy="1599480"/>
              <a:chOff x="4741920" y="3808440"/>
              <a:chExt cx="3646440" cy="1599480"/>
            </a:xfrm>
          </p:grpSpPr>
          <p:grpSp>
            <p:nvGrpSpPr>
              <p:cNvPr id="202" name="Group 57"/>
              <p:cNvGrpSpPr/>
              <p:nvPr/>
            </p:nvGrpSpPr>
            <p:grpSpPr>
              <a:xfrm>
                <a:off x="4835880" y="4889880"/>
                <a:ext cx="824400" cy="518040"/>
                <a:chOff x="4835880" y="4889880"/>
                <a:chExt cx="824400" cy="518040"/>
              </a:xfrm>
            </p:grpSpPr>
            <p:grpSp>
              <p:nvGrpSpPr>
                <p:cNvPr id="203" name="Group 58"/>
                <p:cNvGrpSpPr/>
                <p:nvPr/>
              </p:nvGrpSpPr>
              <p:grpSpPr>
                <a:xfrm>
                  <a:off x="5301720" y="4889880"/>
                  <a:ext cx="235440" cy="296280"/>
                  <a:chOff x="5301720" y="4889880"/>
                  <a:chExt cx="235440" cy="296280"/>
                </a:xfrm>
              </p:grpSpPr>
              <p:sp>
                <p:nvSpPr>
                  <p:cNvPr id="204" name="AutoShape 59"/>
                  <p:cNvSpPr/>
                  <p:nvPr/>
                </p:nvSpPr>
                <p:spPr>
                  <a:xfrm>
                    <a:off x="5301720" y="5021640"/>
                    <a:ext cx="235440" cy="16452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5" name="Oval 60"/>
                  <p:cNvSpPr/>
                  <p:nvPr/>
                </p:nvSpPr>
                <p:spPr>
                  <a:xfrm>
                    <a:off x="5325120" y="4889880"/>
                    <a:ext cx="188280" cy="1317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206" name="Group 61"/>
                <p:cNvGrpSpPr/>
                <p:nvPr/>
              </p:nvGrpSpPr>
              <p:grpSpPr>
                <a:xfrm>
                  <a:off x="5065920" y="4889880"/>
                  <a:ext cx="235440" cy="296280"/>
                  <a:chOff x="5065920" y="4889880"/>
                  <a:chExt cx="235440" cy="296280"/>
                </a:xfrm>
              </p:grpSpPr>
              <p:sp>
                <p:nvSpPr>
                  <p:cNvPr id="207" name="AutoShape 62"/>
                  <p:cNvSpPr/>
                  <p:nvPr/>
                </p:nvSpPr>
                <p:spPr>
                  <a:xfrm>
                    <a:off x="5065920" y="5021640"/>
                    <a:ext cx="235440" cy="16452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8" name="Oval 63"/>
                  <p:cNvSpPr/>
                  <p:nvPr/>
                </p:nvSpPr>
                <p:spPr>
                  <a:xfrm>
                    <a:off x="5089320" y="4889880"/>
                    <a:ext cx="188280" cy="13176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09" name="Line 64"/>
                <p:cNvSpPr/>
                <p:nvPr/>
              </p:nvSpPr>
              <p:spPr>
                <a:xfrm>
                  <a:off x="4835880" y="5343120"/>
                  <a:ext cx="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AutoShape 65"/>
                <p:cNvSpPr/>
                <p:nvPr/>
              </p:nvSpPr>
              <p:spPr>
                <a:xfrm rot="279600">
                  <a:off x="4914360" y="5105520"/>
                  <a:ext cx="740520" cy="164160"/>
                </a:xfrm>
                <a:custGeom>
                  <a:avLst/>
                  <a:gdLst>
                    <a:gd name="textAreaLeft" fmla="*/ 154080 w 740520"/>
                    <a:gd name="textAreaRight" fmla="*/ 586440 w 740520"/>
                    <a:gd name="textAreaTop" fmla="*/ 34560 h 164160"/>
                    <a:gd name="textAreaBottom" fmla="*/ 129600 h 16416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1" name="Oval 66"/>
                <p:cNvSpPr/>
                <p:nvPr/>
              </p:nvSpPr>
              <p:spPr>
                <a:xfrm>
                  <a:off x="5069880" y="5229360"/>
                  <a:ext cx="155880" cy="16416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2" name="Oval 67"/>
                <p:cNvSpPr/>
                <p:nvPr/>
              </p:nvSpPr>
              <p:spPr>
                <a:xfrm>
                  <a:off x="5343480" y="5244120"/>
                  <a:ext cx="17244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13" name="AutoShape 68"/>
              <p:cNvSpPr/>
              <p:nvPr/>
            </p:nvSpPr>
            <p:spPr>
              <a:xfrm>
                <a:off x="4837320" y="3808440"/>
                <a:ext cx="3351600" cy="729720"/>
              </a:xfrm>
              <a:prstGeom prst="wedgeRoundRectCallout">
                <a:avLst>
                  <a:gd name="adj1" fmla="val -30736"/>
                  <a:gd name="adj2" fmla="val 98731"/>
                  <a:gd name="adj3" fmla="val 1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4" name="Rectangle 69"/>
              <p:cNvSpPr/>
              <p:nvPr/>
            </p:nvSpPr>
            <p:spPr>
              <a:xfrm>
                <a:off x="4741920" y="3837960"/>
                <a:ext cx="3646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ousekeeping first – then investment</a:t>
                </a:r>
                <a:endParaRPr b="1" lang="en-US" sz="1800" spc="-1" strike="noStrike">
                  <a:solidFill>
                    <a:srgbClr val="ffffff"/>
                  </a:solidFill>
                  <a:latin typeface="Arial"/>
                </a:endParaRPr>
              </a:p>
            </p:txBody>
          </p:sp>
        </p:grpSp>
        <p:grpSp>
          <p:nvGrpSpPr>
            <p:cNvPr id="215" name="Group 70"/>
            <p:cNvGrpSpPr/>
            <p:nvPr/>
          </p:nvGrpSpPr>
          <p:grpSpPr>
            <a:xfrm>
              <a:off x="5837400" y="4519440"/>
              <a:ext cx="2550960" cy="1333080"/>
              <a:chOff x="5837400" y="4519440"/>
              <a:chExt cx="2550960" cy="1333080"/>
            </a:xfrm>
          </p:grpSpPr>
          <p:grpSp>
            <p:nvGrpSpPr>
              <p:cNvPr id="216" name="Group 71"/>
              <p:cNvGrpSpPr/>
              <p:nvPr/>
            </p:nvGrpSpPr>
            <p:grpSpPr>
              <a:xfrm>
                <a:off x="5861160" y="4519440"/>
                <a:ext cx="2420280" cy="1333080"/>
                <a:chOff x="5861160" y="4519440"/>
                <a:chExt cx="2420280" cy="1333080"/>
              </a:xfrm>
            </p:grpSpPr>
            <p:grpSp>
              <p:nvGrpSpPr>
                <p:cNvPr id="217" name="Group 72"/>
                <p:cNvGrpSpPr/>
                <p:nvPr/>
              </p:nvGrpSpPr>
              <p:grpSpPr>
                <a:xfrm>
                  <a:off x="6356160" y="5349240"/>
                  <a:ext cx="819000" cy="503280"/>
                  <a:chOff x="6356160" y="5349240"/>
                  <a:chExt cx="819000" cy="503280"/>
                </a:xfrm>
              </p:grpSpPr>
              <p:grpSp>
                <p:nvGrpSpPr>
                  <p:cNvPr id="218" name="Group 73"/>
                  <p:cNvGrpSpPr/>
                  <p:nvPr/>
                </p:nvGrpSpPr>
                <p:grpSpPr>
                  <a:xfrm>
                    <a:off x="6822000" y="5349240"/>
                    <a:ext cx="235440" cy="295560"/>
                    <a:chOff x="6822000" y="5349240"/>
                    <a:chExt cx="235440" cy="295560"/>
                  </a:xfrm>
                </p:grpSpPr>
                <p:sp>
                  <p:nvSpPr>
                    <p:cNvPr id="219" name="AutoShape 74"/>
                    <p:cNvSpPr/>
                    <p:nvPr/>
                  </p:nvSpPr>
                  <p:spPr>
                    <a:xfrm>
                      <a:off x="6822000" y="5480640"/>
                      <a:ext cx="235440" cy="164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Oval 75"/>
                    <p:cNvSpPr/>
                    <p:nvPr/>
                  </p:nvSpPr>
                  <p:spPr>
                    <a:xfrm>
                      <a:off x="6845400" y="5349240"/>
                      <a:ext cx="188280" cy="131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grpSp>
                <p:nvGrpSpPr>
                  <p:cNvPr id="221" name="Group 76"/>
                  <p:cNvGrpSpPr/>
                  <p:nvPr/>
                </p:nvGrpSpPr>
                <p:grpSpPr>
                  <a:xfrm>
                    <a:off x="6586200" y="5349240"/>
                    <a:ext cx="235440" cy="295560"/>
                    <a:chOff x="6586200" y="5349240"/>
                    <a:chExt cx="235440" cy="295560"/>
                  </a:xfrm>
                </p:grpSpPr>
                <p:sp>
                  <p:nvSpPr>
                    <p:cNvPr id="222" name="AutoShape 77"/>
                    <p:cNvSpPr/>
                    <p:nvPr/>
                  </p:nvSpPr>
                  <p:spPr>
                    <a:xfrm>
                      <a:off x="6586200" y="5480640"/>
                      <a:ext cx="235440" cy="164160"/>
                    </a:xfrm>
                    <a:prstGeom prst="roundRect">
                      <a:avLst>
                        <a:gd name="adj" fmla="val 16667"/>
                      </a:avLst>
                    </a:pr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Oval 78"/>
                    <p:cNvSpPr/>
                    <p:nvPr/>
                  </p:nvSpPr>
                  <p:spPr>
                    <a:xfrm>
                      <a:off x="6609600" y="5349240"/>
                      <a:ext cx="188280" cy="131400"/>
                    </a:xfrm>
                    <a:prstGeom prst="ellipse">
                      <a:avLst/>
                    </a:prstGeom>
                    <a:solidFill>
                      <a:srgbClr val="3366cc"/>
                    </a:solidFill>
                    <a:ln w="9360">
                      <a:solidFill>
                        <a:srgbClr val="ffffff"/>
                      </a:solidFill>
                      <a:miter/>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24" name="Line 79"/>
                  <p:cNvSpPr/>
                  <p:nvPr/>
                </p:nvSpPr>
                <p:spPr>
                  <a:xfrm>
                    <a:off x="6356160" y="5802120"/>
                    <a:ext cx="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5" name="AutoShape 80"/>
                  <p:cNvSpPr/>
                  <p:nvPr/>
                </p:nvSpPr>
                <p:spPr>
                  <a:xfrm>
                    <a:off x="6434640" y="5565240"/>
                    <a:ext cx="740520" cy="163800"/>
                  </a:xfrm>
                  <a:custGeom>
                    <a:avLst/>
                    <a:gdLst>
                      <a:gd name="textAreaLeft" fmla="*/ 154080 w 740520"/>
                      <a:gd name="textAreaRight" fmla="*/ 586440 w 740520"/>
                      <a:gd name="textAreaTop" fmla="*/ 34200 h 163800"/>
                      <a:gd name="textAreaBottom" fmla="*/ 129600 h 1638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366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6" name="Oval 81"/>
                  <p:cNvSpPr/>
                  <p:nvPr/>
                </p:nvSpPr>
                <p:spPr>
                  <a:xfrm>
                    <a:off x="6590160" y="5688720"/>
                    <a:ext cx="15588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Oval 82"/>
                  <p:cNvSpPr/>
                  <p:nvPr/>
                </p:nvSpPr>
                <p:spPr>
                  <a:xfrm>
                    <a:off x="6863760" y="5688720"/>
                    <a:ext cx="155880" cy="16380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28" name="AutoShape 83"/>
                <p:cNvSpPr/>
                <p:nvPr/>
              </p:nvSpPr>
              <p:spPr>
                <a:xfrm>
                  <a:off x="5861160" y="4519440"/>
                  <a:ext cx="2420280" cy="592560"/>
                </a:xfrm>
                <a:prstGeom prst="wedgeRoundRectCallout">
                  <a:avLst>
                    <a:gd name="adj1" fmla="val -13652"/>
                    <a:gd name="adj2" fmla="val 80000"/>
                    <a:gd name="adj3" fmla="val 16667"/>
                  </a:avLst>
                </a:prstGeom>
                <a:solidFill>
                  <a:srgbClr val="00808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
            <p:nvSpPr>
              <p:cNvPr id="229" name="Rectangle 84"/>
              <p:cNvSpPr/>
              <p:nvPr/>
            </p:nvSpPr>
            <p:spPr>
              <a:xfrm>
                <a:off x="5837400" y="4535280"/>
                <a:ext cx="25509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ecomes company culture  </a:t>
                </a:r>
                <a:endParaRPr b="1" lang="en-US" sz="1800" spc="-1" strike="noStrike">
                  <a:solidFill>
                    <a:srgbClr val="ffffff"/>
                  </a:solidFill>
                  <a:latin typeface="Arial"/>
                </a:endParaRPr>
              </a:p>
            </p:txBody>
          </p:sp>
        </p:grpSp>
        <p:sp>
          <p:nvSpPr>
            <p:cNvPr id="230" name="Line 85"/>
            <p:cNvSpPr/>
            <p:nvPr/>
          </p:nvSpPr>
          <p:spPr>
            <a:xfrm>
              <a:off x="3770280" y="5730840"/>
              <a:ext cx="2360520" cy="3240"/>
            </a:xfrm>
            <a:prstGeom prst="line">
              <a:avLst/>
            </a:prstGeom>
            <a:ln w="28440">
              <a:solidFill>
                <a:srgbClr val="666633"/>
              </a:solidFill>
              <a:miter/>
              <a:tailEnd len="med" type="oval" w="med"/>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Line 86"/>
            <p:cNvSpPr/>
            <p:nvPr/>
          </p:nvSpPr>
          <p:spPr>
            <a:xfrm flipV="1">
              <a:off x="3240000" y="5275080"/>
              <a:ext cx="1274760" cy="301320"/>
            </a:xfrm>
            <a:prstGeom prst="line">
              <a:avLst/>
            </a:prstGeom>
            <a:ln w="28440">
              <a:solidFill>
                <a:srgbClr val="666633"/>
              </a:solidFill>
              <a:miter/>
              <a:tailEnd len="med" type="oval"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0240"/>
            <a:ext cx="9144000" cy="812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787878"/>
                </a:solidFill>
                <a:latin typeface="Arial"/>
              </a:rPr>
              <a:t>Overview</a:t>
            </a:r>
            <a:endParaRPr b="1" lang="en-US" sz="3200" spc="-1" strike="noStrike">
              <a:solidFill>
                <a:srgbClr val="787878"/>
              </a:solidFill>
              <a:latin typeface="Arial"/>
            </a:endParaRPr>
          </a:p>
        </p:txBody>
      </p:sp>
      <p:sp>
        <p:nvSpPr>
          <p:cNvPr id="52" name="Rectangle 82"/>
          <p:cNvSpPr/>
          <p:nvPr/>
        </p:nvSpPr>
        <p:spPr>
          <a:xfrm>
            <a:off x="271440" y="3684600"/>
            <a:ext cx="4264200" cy="29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MetaBook-Roman"/>
              </a:rPr>
              <a:t>	</a:t>
            </a:r>
            <a:endParaRPr b="1" lang="en-US" sz="2000" spc="-1" strike="noStrike">
              <a:solidFill>
                <a:srgbClr val="ffffff"/>
              </a:solidFill>
              <a:latin typeface="Arial"/>
            </a:endParaRPr>
          </a:p>
        </p:txBody>
      </p:sp>
      <p:pic>
        <p:nvPicPr>
          <p:cNvPr id="53" name="Content Placeholder 9" descr=""/>
          <p:cNvPicPr/>
          <p:nvPr/>
        </p:nvPicPr>
        <p:blipFill>
          <a:blip r:embed="rId1"/>
          <a:stretch/>
        </p:blipFill>
        <p:spPr>
          <a:xfrm>
            <a:off x="225360" y="1663560"/>
            <a:ext cx="8564760" cy="4743720"/>
          </a:xfrm>
          <a:prstGeom prst="rect">
            <a:avLst/>
          </a:prstGeom>
          <a:ln w="0">
            <a:noFill/>
          </a:ln>
        </p:spPr>
      </p:pic>
      <p:sp>
        <p:nvSpPr>
          <p:cNvPr id="54" name="Rounded Rectangle 5"/>
          <p:cNvSpPr/>
          <p:nvPr/>
        </p:nvSpPr>
        <p:spPr>
          <a:xfrm>
            <a:off x="1455840" y="1741320"/>
            <a:ext cx="7315200" cy="959040"/>
          </a:xfrm>
          <a:prstGeom prst="roundRect">
            <a:avLst>
              <a:gd name="adj" fmla="val 16667"/>
            </a:avLst>
          </a:prstGeom>
          <a:noFill/>
          <a:ln w="73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3"/>
          <p:cNvSpPr/>
          <p:nvPr/>
        </p:nvSpPr>
        <p:spPr>
          <a:xfrm>
            <a:off x="6248520" y="6553080"/>
            <a:ext cx="2895480" cy="304920"/>
          </a:xfrm>
          <a:prstGeom prst="rect">
            <a:avLst/>
          </a:prstGeom>
          <a:noFill/>
          <a:ln w="0">
            <a:noFill/>
          </a:ln>
          <a:effectLst>
            <a:outerShdw dist="20364"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0899-159B-4603-AB79-9CCCB33841A8}" type="slidenum">
              <a:rPr b="1" i="1" lang="en-US" sz="1600" spc="-1" strike="noStrike">
                <a:solidFill>
                  <a:srgbClr val="0099cc"/>
                </a:solidFill>
                <a:latin typeface="Arial"/>
                <a:ea typeface="Arial"/>
              </a:rPr>
              <a:t>&lt;number&gt;</a:t>
            </a:fld>
            <a:endParaRPr b="1" lang="en-US" sz="1600" spc="-1" strike="noStrike">
              <a:solidFill>
                <a:srgbClr val="ffffff"/>
              </a:solidFill>
              <a:latin typeface="Arial"/>
            </a:endParaRPr>
          </a:p>
        </p:txBody>
      </p:sp>
      <p:sp>
        <p:nvSpPr>
          <p:cNvPr id="233" name="PlaceHolder 1"/>
          <p:cNvSpPr>
            <a:spLocks noGrp="1"/>
          </p:cNvSpPr>
          <p:nvPr>
            <p:ph type="title"/>
          </p:nvPr>
        </p:nvSpPr>
        <p:spPr>
          <a:xfrm>
            <a:off x="2282400" y="1017720"/>
            <a:ext cx="4165560" cy="8539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Business Benefits</a:t>
            </a:r>
            <a:endParaRPr b="1" lang="en-US" sz="3200" spc="-1" strike="noStrike">
              <a:solidFill>
                <a:srgbClr val="787878"/>
              </a:solidFill>
              <a:latin typeface="Arial"/>
            </a:endParaRPr>
          </a:p>
        </p:txBody>
      </p:sp>
      <p:sp>
        <p:nvSpPr>
          <p:cNvPr id="234" name="PlaceHolder 2"/>
          <p:cNvSpPr>
            <a:spLocks noGrp="1"/>
          </p:cNvSpPr>
          <p:nvPr>
            <p:ph/>
          </p:nvPr>
        </p:nvSpPr>
        <p:spPr>
          <a:xfrm>
            <a:off x="732960" y="1854360"/>
            <a:ext cx="8045640" cy="4279680"/>
          </a:xfrm>
          <a:prstGeom prst="rect">
            <a:avLst/>
          </a:prstGeom>
          <a:noFill/>
          <a:ln w="0">
            <a:noFill/>
          </a:ln>
        </p:spPr>
        <p:txBody>
          <a:bodyPr anchor="t">
            <a:normAutofit/>
          </a:bodyPr>
          <a:p>
            <a:pPr marL="355680" indent="0">
              <a:lnSpc>
                <a:spcPct val="100000"/>
              </a:lnSpc>
              <a:spcBef>
                <a:spcPts val="9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ementation of an energy management system assists</a:t>
            </a:r>
            <a:endParaRPr b="0" lang="en-US" sz="2200" spc="-1" strike="noStrike">
              <a:solidFill>
                <a:srgbClr val="000000"/>
              </a:solidFill>
              <a:latin typeface="Arial Unicode MS"/>
            </a:endParaRPr>
          </a:p>
          <a:p>
            <a:pPr marL="355680" indent="0">
              <a:lnSpc>
                <a:spcPct val="100000"/>
              </a:lnSpc>
              <a:spcBef>
                <a:spcPts val="13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company to:</a:t>
            </a:r>
            <a:endParaRPr b="0" lang="en-US" sz="2200" spc="-1" strike="noStrike">
              <a:solidFill>
                <a:srgbClr val="000000"/>
              </a:solidFill>
              <a:latin typeface="Arial Unicode MS"/>
            </a:endParaRPr>
          </a:p>
          <a:p>
            <a:pPr marL="355680" indent="-355680">
              <a:lnSpc>
                <a:spcPct val="95000"/>
              </a:lnSpc>
              <a:spcBef>
                <a:spcPts val="1312"/>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ctively managing energy use and costs, reducing exposure to rising energy costs</a:t>
            </a:r>
            <a:endParaRPr b="0" lang="en-US" sz="2100" spc="-1" strike="noStrike">
              <a:solidFill>
                <a:srgbClr val="000000"/>
              </a:solidFill>
              <a:latin typeface="Arial Unicode MS"/>
            </a:endParaRPr>
          </a:p>
          <a:p>
            <a:pPr marL="355680" indent="-355680">
              <a:lnSpc>
                <a:spcPct val="95000"/>
              </a:lnSpc>
              <a:spcBef>
                <a:spcPts val="1312"/>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duce emissions without negative effect on operations </a:t>
            </a:r>
            <a:endParaRPr b="0" lang="en-US" sz="2100" spc="-1" strike="noStrike">
              <a:solidFill>
                <a:srgbClr val="000000"/>
              </a:solidFill>
              <a:latin typeface="Arial Unicode MS"/>
            </a:endParaRPr>
          </a:p>
          <a:p>
            <a:pPr marL="355680" indent="-355680">
              <a:lnSpc>
                <a:spcPct val="95000"/>
              </a:lnSpc>
              <a:spcBef>
                <a:spcPts val="1312"/>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tinual improvement of energy intensity (energy use/ product)</a:t>
            </a:r>
            <a:endParaRPr b="0" lang="en-US" sz="2100" spc="-1" strike="noStrike">
              <a:solidFill>
                <a:srgbClr val="000000"/>
              </a:solidFill>
              <a:latin typeface="Arial Unicode MS"/>
            </a:endParaRPr>
          </a:p>
          <a:p>
            <a:pPr marL="355680" indent="-355680">
              <a:lnSpc>
                <a:spcPct val="95000"/>
              </a:lnSpc>
              <a:spcBef>
                <a:spcPts val="1312"/>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ument savings for internal and external use (e.g. emission credits)</a:t>
            </a:r>
            <a:endParaRPr b="0" lang="en-US" sz="2100" spc="-1" strike="noStrike">
              <a:solidFill>
                <a:srgbClr val="000000"/>
              </a:solidFill>
              <a:latin typeface="Arial Unicode MS"/>
            </a:endParaRPr>
          </a:p>
          <a:p>
            <a:pPr marL="355680" indent="-355680">
              <a:lnSpc>
                <a:spcPct val="95000"/>
              </a:lnSpc>
              <a:spcBef>
                <a:spcPts val="1312"/>
              </a:spcBef>
              <a:buClr>
                <a:srgbClr val="00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tilize company personnel and resources wisely</a:t>
            </a:r>
            <a:endParaRPr b="0" lang="en-US" sz="2100" spc="-1" strike="noStrike">
              <a:solidFill>
                <a:srgbClr val="000000"/>
              </a:solidFill>
              <a:latin typeface="Arial Unicode MS"/>
            </a:endParaRPr>
          </a:p>
        </p:txBody>
      </p:sp>
      <p:sp>
        <p:nvSpPr>
          <p:cNvPr id="235" name="Footer Placeholder 3"/>
          <p:cNvSpPr/>
          <p:nvPr/>
        </p:nvSpPr>
        <p:spPr>
          <a:xfrm>
            <a:off x="66600" y="6477120"/>
            <a:ext cx="4886280" cy="304560"/>
          </a:xfrm>
          <a:prstGeom prst="rect">
            <a:avLst/>
          </a:prstGeom>
          <a:noFill/>
          <a:ln w="0">
            <a:noFill/>
          </a:ln>
          <a:effectLst>
            <a:outerShdw dist="20364" dir="2700000" blurRad="0" rotWithShape="0">
              <a:srgbClr val="80808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99cc"/>
                </a:solidFill>
                <a:latin typeface="Arial Unicode MS"/>
              </a:rPr>
              <a:t>ANSI Accredited U.S. TAG to ISO/PC 242 </a:t>
            </a:r>
            <a:endParaRPr b="1"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0" y="103644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What can an EnMS achieve?</a:t>
            </a:r>
            <a:endParaRPr b="1" lang="en-US" sz="3200" spc="-1" strike="noStrike">
              <a:solidFill>
                <a:srgbClr val="787878"/>
              </a:solidFill>
              <a:latin typeface="Arial"/>
            </a:endParaRPr>
          </a:p>
        </p:txBody>
      </p:sp>
      <p:sp>
        <p:nvSpPr>
          <p:cNvPr id="237" name="PlaceHolder 2"/>
          <p:cNvSpPr>
            <a:spLocks noGrp="1"/>
          </p:cNvSpPr>
          <p:nvPr>
            <p:ph/>
          </p:nvPr>
        </p:nvSpPr>
        <p:spPr>
          <a:xfrm>
            <a:off x="406080" y="1854360"/>
            <a:ext cx="8559720" cy="2844720"/>
          </a:xfrm>
          <a:prstGeom prst="rect">
            <a:avLst/>
          </a:prstGeom>
          <a:noFill/>
          <a:ln w="0">
            <a:noFill/>
          </a:ln>
        </p:spPr>
        <p:txBody>
          <a:bodyPr anchor="t">
            <a:normAutofit/>
          </a:bodyPr>
          <a:p>
            <a:pPr marL="343080" indent="-343080">
              <a:lnSpc>
                <a:spcPct val="90000"/>
              </a:lnSpc>
              <a:spcBef>
                <a:spcPts val="178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MS Mincho"/>
              </a:rPr>
              <a:t>Management focus</a:t>
            </a:r>
            <a:endParaRPr b="0" lang="en-US" sz="2600" spc="-1" strike="noStrike">
              <a:solidFill>
                <a:srgbClr val="000000"/>
              </a:solidFill>
              <a:latin typeface="Arial Unicode MS"/>
            </a:endParaRPr>
          </a:p>
          <a:p>
            <a:pPr marL="343080" indent="-343080">
              <a:lnSpc>
                <a:spcPct val="90000"/>
              </a:lnSpc>
              <a:spcBef>
                <a:spcPts val="178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MS Mincho"/>
              </a:rPr>
              <a:t>Systematic activity</a:t>
            </a:r>
            <a:endParaRPr b="0" lang="en-US" sz="2600" spc="-1" strike="noStrike">
              <a:solidFill>
                <a:srgbClr val="000000"/>
              </a:solidFill>
              <a:latin typeface="Arial Unicode MS"/>
            </a:endParaRPr>
          </a:p>
          <a:p>
            <a:pPr marL="343080" indent="-343080">
              <a:lnSpc>
                <a:spcPct val="90000"/>
              </a:lnSpc>
              <a:spcBef>
                <a:spcPts val="178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MS Mincho"/>
              </a:rPr>
              <a:t>Obligation to train and raise awareness</a:t>
            </a:r>
            <a:endParaRPr b="0" lang="en-US" sz="2600" spc="-1" strike="noStrike">
              <a:solidFill>
                <a:srgbClr val="000000"/>
              </a:solidFill>
              <a:latin typeface="Arial Unicode MS"/>
            </a:endParaRPr>
          </a:p>
          <a:p>
            <a:pPr marL="343080" indent="-343080">
              <a:lnSpc>
                <a:spcPct val="90000"/>
              </a:lnSpc>
              <a:spcBef>
                <a:spcPts val="178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MS Mincho"/>
              </a:rPr>
              <a:t>Obligation to provide resources</a:t>
            </a:r>
            <a:endParaRPr b="0" lang="en-US" sz="2600" spc="-1" strike="noStrike">
              <a:solidFill>
                <a:srgbClr val="000000"/>
              </a:solidFill>
              <a:latin typeface="Arial Unicode MS"/>
            </a:endParaRPr>
          </a:p>
          <a:p>
            <a:pPr marL="343080" indent="-343080">
              <a:lnSpc>
                <a:spcPct val="90000"/>
              </a:lnSpc>
              <a:spcBef>
                <a:spcPts val="1789"/>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MS Mincho"/>
              </a:rPr>
              <a:t>Continuity through changes of personnel</a:t>
            </a:r>
            <a:endParaRPr b="0" lang="en-US" sz="2600" spc="-1" strike="noStrike">
              <a:solidFill>
                <a:srgbClr val="000000"/>
              </a:solidFill>
              <a:latin typeface="Arial Unicode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101088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What can an EnMS achieve?</a:t>
            </a:r>
            <a:endParaRPr b="1" lang="en-US" sz="3200" spc="-1" strike="noStrike">
              <a:solidFill>
                <a:srgbClr val="787878"/>
              </a:solidFill>
              <a:latin typeface="Arial"/>
            </a:endParaRPr>
          </a:p>
        </p:txBody>
      </p:sp>
      <p:sp>
        <p:nvSpPr>
          <p:cNvPr id="239" name="PlaceHolder 2"/>
          <p:cNvSpPr>
            <a:spLocks noGrp="1"/>
          </p:cNvSpPr>
          <p:nvPr>
            <p:ph/>
          </p:nvPr>
        </p:nvSpPr>
        <p:spPr>
          <a:xfrm>
            <a:off x="406080" y="1536480"/>
            <a:ext cx="8534520" cy="4521240"/>
          </a:xfrm>
          <a:prstGeom prst="rect">
            <a:avLst/>
          </a:prstGeom>
          <a:noFill/>
          <a:ln w="0">
            <a:noFill/>
          </a:ln>
        </p:spPr>
        <p:txBody>
          <a:bodyPr anchor="t">
            <a:normAutofit fontScale="93000"/>
          </a:bodyPr>
          <a:p>
            <a:pPr marL="318960" indent="0">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marL="318960" indent="-318960">
              <a:lnSpc>
                <a:spcPct val="100000"/>
              </a:lnSpc>
              <a:spcBef>
                <a:spcPts val="19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ndustrial enterprises that have implemented EnMS achieved average </a:t>
            </a:r>
            <a:r>
              <a:rPr b="1" lang="en-US" sz="2400" spc="-1" strike="noStrike">
                <a:solidFill>
                  <a:srgbClr val="000000"/>
                </a:solidFill>
                <a:latin typeface="Arial"/>
              </a:rPr>
              <a:t>annual energy intensity</a:t>
            </a:r>
            <a:r>
              <a:rPr b="0" lang="en-US" sz="2400" spc="-1" strike="noStrike">
                <a:solidFill>
                  <a:srgbClr val="000000"/>
                </a:solidFill>
                <a:latin typeface="Arial"/>
              </a:rPr>
              <a:t> </a:t>
            </a:r>
            <a:r>
              <a:rPr b="1" lang="en-US" sz="2400" spc="-1" strike="noStrike">
                <a:solidFill>
                  <a:srgbClr val="000000"/>
                </a:solidFill>
                <a:latin typeface="Arial"/>
              </a:rPr>
              <a:t>reductions</a:t>
            </a:r>
            <a:r>
              <a:rPr b="0" lang="en-US" sz="2400" spc="-1" strike="noStrike">
                <a:solidFill>
                  <a:srgbClr val="000000"/>
                </a:solidFill>
                <a:latin typeface="Arial"/>
              </a:rPr>
              <a:t> </a:t>
            </a:r>
            <a:r>
              <a:rPr b="1" lang="en-US" sz="2400" spc="-1" strike="noStrike">
                <a:solidFill>
                  <a:srgbClr val="000000"/>
                </a:solidFill>
                <a:latin typeface="Arial"/>
              </a:rPr>
              <a:t>of 2.0-3.0%</a:t>
            </a:r>
            <a:r>
              <a:rPr b="0" lang="en-US" sz="2400" spc="-1" strike="noStrike">
                <a:solidFill>
                  <a:srgbClr val="000000"/>
                </a:solidFill>
                <a:latin typeface="Arial"/>
              </a:rPr>
              <a:t> against the 1.0% reduction of business as usual (Ireland, Netherlands, Denmark, USA)</a:t>
            </a:r>
            <a:endParaRPr b="0" lang="en-US" sz="2400" spc="-1" strike="noStrike">
              <a:solidFill>
                <a:srgbClr val="000000"/>
              </a:solidFill>
              <a:latin typeface="Arial Unicode MS"/>
            </a:endParaRPr>
          </a:p>
          <a:p>
            <a:pPr marL="318960" indent="-318960">
              <a:lnSpc>
                <a:spcPct val="100000"/>
              </a:lnSpc>
              <a:spcBef>
                <a:spcPts val="19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for companies new to energy management, savings during the first 2 years are </a:t>
            </a:r>
            <a:r>
              <a:rPr b="1" lang="en-US" sz="2400" spc="-1" strike="noStrike">
                <a:solidFill>
                  <a:srgbClr val="000000"/>
                </a:solidFill>
                <a:latin typeface="Arial"/>
              </a:rPr>
              <a:t>10-20%</a:t>
            </a:r>
            <a:endParaRPr b="0" lang="en-US" sz="2400" spc="-1" strike="noStrike">
              <a:solidFill>
                <a:srgbClr val="000000"/>
              </a:solidFill>
              <a:latin typeface="Arial Unicode MS"/>
            </a:endParaRPr>
          </a:p>
          <a:p>
            <a:pPr marL="318960" indent="-318960">
              <a:lnSpc>
                <a:spcPct val="100000"/>
              </a:lnSpc>
              <a:spcBef>
                <a:spcPts val="19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MS accelerate adoption of EE best-practices and technology upgrade, enhancing productivity and competitiveness</a:t>
            </a:r>
            <a:endParaRPr b="0" lang="en-US" sz="2400" spc="-1" strike="noStrike">
              <a:solidFill>
                <a:srgbClr val="000000"/>
              </a:solidFill>
              <a:latin typeface="Arial Unicode MS"/>
            </a:endParaRPr>
          </a:p>
          <a:p>
            <a:pPr marL="318960" indent="-318960">
              <a:lnSpc>
                <a:spcPct val="100000"/>
              </a:lnSpc>
              <a:spcBef>
                <a:spcPts val="19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enterprises’ bottom line</a:t>
            </a:r>
            <a:endParaRPr b="0" lang="en-US" sz="2400" spc="-1" strike="noStrike">
              <a:solidFill>
                <a:srgbClr val="000000"/>
              </a:solidFill>
              <a:latin typeface="Arial Unicode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Energy Management Systems Standards</a:t>
            </a:r>
            <a:endParaRPr b="1" lang="en-US" sz="3200" spc="-1" strike="noStrike">
              <a:solidFill>
                <a:srgbClr val="787878"/>
              </a:solidFill>
              <a:latin typeface="Arial"/>
            </a:endParaRPr>
          </a:p>
        </p:txBody>
      </p:sp>
      <p:sp>
        <p:nvSpPr>
          <p:cNvPr id="241" name="PlaceHolder 2"/>
          <p:cNvSpPr>
            <a:spLocks noGrp="1"/>
          </p:cNvSpPr>
          <p:nvPr>
            <p:ph/>
          </p:nvPr>
        </p:nvSpPr>
        <p:spPr>
          <a:xfrm>
            <a:off x="406080" y="1663200"/>
            <a:ext cx="8559720" cy="4248360"/>
          </a:xfrm>
          <a:prstGeom prst="rect">
            <a:avLst/>
          </a:prstGeom>
          <a:noFill/>
          <a:ln w="0">
            <a:noFill/>
          </a:ln>
        </p:spPr>
        <p:txBody>
          <a:bodyPr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MS Mincho"/>
              </a:rPr>
              <a:t>Energy Management Systems Standards provide</a:t>
            </a:r>
            <a:r>
              <a:rPr b="0" lang="en-US" sz="2200" spc="-1" strike="noStrike">
                <a:solidFill>
                  <a:srgbClr val="000000"/>
                </a:solidFill>
                <a:latin typeface="Arial"/>
                <a:ea typeface="MS Mincho"/>
              </a:rPr>
              <a:t> policy as well </a:t>
            </a:r>
            <a:endParaRPr b="0" lang="en-US" sz="2200" spc="-1" strike="noStrike">
              <a:solidFill>
                <a:srgbClr val="000000"/>
              </a:solidFill>
              <a:latin typeface="Arial Unicode MS"/>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as market-driven tools and mechanisms to disseminate energy </a:t>
            </a:r>
            <a:endParaRPr b="0" lang="en-US" sz="2200" spc="-1" strike="noStrike">
              <a:solidFill>
                <a:srgbClr val="000000"/>
              </a:solidFill>
              <a:latin typeface="Arial Unicode MS"/>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management best-practices and support implementation</a:t>
            </a:r>
            <a:endParaRPr b="0" lang="en-US" sz="2200" spc="-1" strike="noStrike">
              <a:solidFill>
                <a:srgbClr val="000000"/>
              </a:solidFill>
              <a:latin typeface="Arial Unicode MS"/>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MS Mincho"/>
              </a:rPr>
              <a:t>Existing standards</a:t>
            </a:r>
            <a:endParaRPr b="0" lang="en-US" sz="2200" spc="-1" strike="noStrike">
              <a:solidFill>
                <a:srgbClr val="000000"/>
              </a:solidFill>
              <a:latin typeface="Arial Unicode MS"/>
            </a:endParaRPr>
          </a:p>
          <a:p>
            <a:pPr marL="343080" indent="-343080">
              <a:lnSpc>
                <a:spcPct val="100000"/>
              </a:lnSpc>
              <a:spcBef>
                <a:spcPts val="1375"/>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Nationals: USA, Denmark, Sweden, Ireland, South Korea, Spain, Thailand, South Africa, The Netherlands*</a:t>
            </a:r>
            <a:endParaRPr b="0" lang="en-US" sz="2000" spc="-1" strike="noStrike">
              <a:solidFill>
                <a:srgbClr val="000000"/>
              </a:solidFill>
              <a:latin typeface="Arial Unicode MS"/>
            </a:endParaRPr>
          </a:p>
          <a:p>
            <a:pPr marL="343080" indent="-343080">
              <a:lnSpc>
                <a:spcPct val="100000"/>
              </a:lnSpc>
              <a:spcBef>
                <a:spcPts val="1375"/>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Regional: EN 16001 – European Energy Management Standard</a:t>
            </a:r>
            <a:endParaRPr b="0" lang="en-US" sz="2000" spc="-1" strike="noStrike">
              <a:solidFill>
                <a:srgbClr val="000000"/>
              </a:solidFill>
              <a:latin typeface="Arial Unicode MS"/>
            </a:endParaRPr>
          </a:p>
          <a:p>
            <a:pPr marL="343080" indent="-343080">
              <a:lnSpc>
                <a:spcPct val="100000"/>
              </a:lnSpc>
              <a:spcBef>
                <a:spcPts val="2251"/>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MS Mincho"/>
              </a:rPr>
              <a:t>International: ISO 50001 – Energy Management Systems</a:t>
            </a:r>
            <a:r>
              <a:rPr b="1" lang="en-US" sz="2000" spc="-1" strike="noStrike">
                <a:solidFill>
                  <a:srgbClr val="000000"/>
                </a:solidFill>
                <a:latin typeface="Arial"/>
                <a:ea typeface="MS Mincho"/>
              </a:rPr>
              <a:t>  </a:t>
            </a:r>
            <a:endParaRPr b="0" lang="en-US" sz="2000" spc="-1" strike="noStrike">
              <a:solidFill>
                <a:srgbClr val="000000"/>
              </a:solidFill>
              <a:latin typeface="Arial Unicode MS"/>
            </a:endParaRPr>
          </a:p>
        </p:txBody>
      </p:sp>
      <p:sp>
        <p:nvSpPr>
          <p:cNvPr id="242" name="Text Box 5"/>
          <p:cNvSpPr/>
          <p:nvPr/>
        </p:nvSpPr>
        <p:spPr>
          <a:xfrm>
            <a:off x="1511280" y="5910120"/>
            <a:ext cx="5931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xpected publication date: July 2011</a:t>
            </a:r>
            <a:r>
              <a:rPr b="1" lang="en-US" sz="2000" spc="-1" strike="noStrike">
                <a:solidFill>
                  <a:srgbClr val="003366"/>
                </a:solidFill>
                <a:latin typeface="Arial"/>
              </a:rPr>
              <a:t> </a:t>
            </a:r>
            <a:endParaRPr b="1" lang="en-US" sz="2000" spc="-1" strike="noStrike">
              <a:solidFill>
                <a:srgbClr val="ffffff"/>
              </a:solidFill>
              <a:latin typeface="Arial"/>
            </a:endParaRPr>
          </a:p>
        </p:txBody>
      </p:sp>
      <p:sp>
        <p:nvSpPr>
          <p:cNvPr id="243" name=""/>
          <p:cNvSpPr/>
          <p:nvPr/>
        </p:nvSpPr>
        <p:spPr>
          <a:xfrm>
            <a:off x="3808440" y="5356080"/>
            <a:ext cx="928800" cy="532080"/>
          </a:xfrm>
          <a:prstGeom prst="downArrow">
            <a:avLst>
              <a:gd name="adj1" fmla="val 50000"/>
              <a:gd name="adj2" fmla="val 25000"/>
            </a:avLst>
          </a:prstGeom>
          <a:solidFill>
            <a:srgbClr val="3366cc">
              <a:alpha val="50000"/>
            </a:srgbClr>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ISO 50001 and Trade</a:t>
            </a:r>
            <a:endParaRPr b="1" lang="en-US" sz="3200" spc="-1" strike="noStrike">
              <a:solidFill>
                <a:srgbClr val="787878"/>
              </a:solidFill>
              <a:latin typeface="Arial"/>
            </a:endParaRPr>
          </a:p>
        </p:txBody>
      </p:sp>
      <p:pic>
        <p:nvPicPr>
          <p:cNvPr id="245" name="Picture 3" descr=""/>
          <p:cNvPicPr/>
          <p:nvPr/>
        </p:nvPicPr>
        <p:blipFill>
          <a:blip r:embed="rId1"/>
          <a:srcRect l="0" t="9228" r="16851" b="0"/>
          <a:stretch/>
        </p:blipFill>
        <p:spPr>
          <a:xfrm>
            <a:off x="835200" y="1743120"/>
            <a:ext cx="5967360" cy="4846680"/>
          </a:xfrm>
          <a:prstGeom prst="rect">
            <a:avLst/>
          </a:prstGeom>
          <a:ln w="0">
            <a:noFill/>
          </a:ln>
        </p:spPr>
      </p:pic>
      <p:sp>
        <p:nvSpPr>
          <p:cNvPr id="246" name="Rectangle 4"/>
          <p:cNvSpPr/>
          <p:nvPr/>
        </p:nvSpPr>
        <p:spPr>
          <a:xfrm>
            <a:off x="1460520" y="1460520"/>
            <a:ext cx="5587920" cy="29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7" name="PlaceHolder 2"/>
          <p:cNvSpPr>
            <a:spLocks noGrp="1"/>
          </p:cNvSpPr>
          <p:nvPr>
            <p:ph/>
          </p:nvPr>
        </p:nvSpPr>
        <p:spPr>
          <a:xfrm>
            <a:off x="926640" y="1510920"/>
            <a:ext cx="6464520" cy="368280"/>
          </a:xfrm>
          <a:prstGeom prst="rect">
            <a:avLst/>
          </a:prstGeom>
          <a:noFill/>
          <a:ln w="0">
            <a:noFill/>
          </a:ln>
        </p:spPr>
        <p:txBody>
          <a:bodyPr anchor="t">
            <a:normAutofit/>
          </a:bodyPr>
          <a:p>
            <a:pPr marL="343080" indent="0" algn="ctr">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MS Mincho"/>
              </a:rPr>
              <a:t>Adoption of ISO 9001/2/3:1994 and 9001:2000</a:t>
            </a:r>
            <a:endParaRPr b="0" lang="en-US" sz="2000" spc="-1" strike="noStrike">
              <a:solidFill>
                <a:srgbClr val="000000"/>
              </a:solidFill>
              <a:latin typeface="Arial Unicode MS"/>
            </a:endParaRPr>
          </a:p>
        </p:txBody>
      </p:sp>
      <p:sp>
        <p:nvSpPr>
          <p:cNvPr id="248" name="Rectangle 6"/>
          <p:cNvSpPr/>
          <p:nvPr/>
        </p:nvSpPr>
        <p:spPr>
          <a:xfrm>
            <a:off x="6946920" y="5727600"/>
            <a:ext cx="2133720" cy="635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ource:  McKane, A. and </a:t>
            </a:r>
            <a:endParaRPr b="1" lang="en-US" sz="1200" spc="-1" strike="noStrike">
              <a:solidFill>
                <a:srgbClr val="ffffff"/>
              </a:solidFill>
              <a:latin typeface="Arial"/>
            </a:endParaRPr>
          </a:p>
          <a:p>
            <a:pPr marL="343080" indent="-34308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lsen D., LBNL 2009 based</a:t>
            </a:r>
            <a:endParaRPr b="1" lang="en-US" sz="1200" spc="-1" strike="noStrike">
              <a:solidFill>
                <a:srgbClr val="ffffff"/>
              </a:solidFill>
              <a:latin typeface="Arial"/>
            </a:endParaRPr>
          </a:p>
          <a:p>
            <a:pPr marL="343080" indent="-343080">
              <a:lnSpc>
                <a:spcPct val="9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on ISO Survey data</a:t>
            </a:r>
            <a:endParaRPr b="1" lang="en-US" sz="1200" spc="-1" strike="noStrike">
              <a:solidFill>
                <a:srgbClr val="ffffff"/>
              </a:solidFill>
              <a:latin typeface="Arial"/>
            </a:endParaRPr>
          </a:p>
        </p:txBody>
      </p:sp>
      <p:pic>
        <p:nvPicPr>
          <p:cNvPr id="249" name="Picture 7" descr=""/>
          <p:cNvPicPr/>
          <p:nvPr/>
        </p:nvPicPr>
        <p:blipFill>
          <a:blip r:embed="rId2"/>
          <a:srcRect l="83277" t="23129" r="0" b="18499"/>
          <a:stretch/>
        </p:blipFill>
        <p:spPr>
          <a:xfrm>
            <a:off x="7162920" y="1846440"/>
            <a:ext cx="1644480" cy="4263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988560"/>
            <a:ext cx="8424720" cy="5684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ISO 9001 and Export Markets</a:t>
            </a:r>
            <a:endParaRPr b="1" lang="en-US" sz="3200" spc="-1" strike="noStrike">
              <a:solidFill>
                <a:srgbClr val="787878"/>
              </a:solidFill>
              <a:latin typeface="Arial"/>
            </a:endParaRPr>
          </a:p>
        </p:txBody>
      </p:sp>
      <p:sp>
        <p:nvSpPr>
          <p:cNvPr id="251" name="Text Box 5"/>
          <p:cNvSpPr/>
          <p:nvPr/>
        </p:nvSpPr>
        <p:spPr>
          <a:xfrm>
            <a:off x="50760" y="5784840"/>
            <a:ext cx="1481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Source: McKane, A. and Olsen, D., LBNL 2009</a:t>
            </a:r>
            <a:endParaRPr b="1" lang="en-US" sz="1200" spc="-1" strike="noStrike">
              <a:solidFill>
                <a:srgbClr val="ffffff"/>
              </a:solidFill>
              <a:latin typeface="Arial"/>
            </a:endParaRPr>
          </a:p>
        </p:txBody>
      </p:sp>
      <p:sp>
        <p:nvSpPr>
          <p:cNvPr id="252" name=""/>
          <p:cNvSpPr/>
          <p:nvPr/>
        </p:nvSpPr>
        <p:spPr>
          <a:xfrm>
            <a:off x="1657440" y="1963800"/>
            <a:ext cx="5619600" cy="364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3" name=""/>
          <p:cNvSpPr/>
          <p:nvPr/>
        </p:nvSpPr>
        <p:spPr>
          <a:xfrm>
            <a:off x="1657440" y="508644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4" name=""/>
          <p:cNvSpPr/>
          <p:nvPr/>
        </p:nvSpPr>
        <p:spPr>
          <a:xfrm>
            <a:off x="1657440" y="456408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5" name=""/>
          <p:cNvSpPr/>
          <p:nvPr/>
        </p:nvSpPr>
        <p:spPr>
          <a:xfrm>
            <a:off x="1657440" y="404172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
          <p:cNvSpPr/>
          <p:nvPr/>
        </p:nvSpPr>
        <p:spPr>
          <a:xfrm>
            <a:off x="1657440" y="351936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
          <p:cNvSpPr/>
          <p:nvPr/>
        </p:nvSpPr>
        <p:spPr>
          <a:xfrm>
            <a:off x="1657440" y="300816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8" name=""/>
          <p:cNvSpPr/>
          <p:nvPr/>
        </p:nvSpPr>
        <p:spPr>
          <a:xfrm>
            <a:off x="1657440" y="248616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9" name=""/>
          <p:cNvSpPr/>
          <p:nvPr/>
        </p:nvSpPr>
        <p:spPr>
          <a:xfrm>
            <a:off x="1657440" y="196380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0" name=""/>
          <p:cNvSpPr/>
          <p:nvPr/>
        </p:nvSpPr>
        <p:spPr>
          <a:xfrm>
            <a:off x="1657440" y="1963800"/>
            <a:ext cx="5619600" cy="36432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
          <p:cNvSpPr/>
          <p:nvPr/>
        </p:nvSpPr>
        <p:spPr>
          <a:xfrm>
            <a:off x="1657440" y="1963800"/>
            <a:ext cx="0" cy="364320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2" name=""/>
          <p:cNvSpPr/>
          <p:nvPr/>
        </p:nvSpPr>
        <p:spPr>
          <a:xfrm>
            <a:off x="1630440" y="560700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3" name=""/>
          <p:cNvSpPr/>
          <p:nvPr/>
        </p:nvSpPr>
        <p:spPr>
          <a:xfrm>
            <a:off x="1630440" y="508644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4" name=""/>
          <p:cNvSpPr/>
          <p:nvPr/>
        </p:nvSpPr>
        <p:spPr>
          <a:xfrm>
            <a:off x="1630440" y="456408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
          <p:cNvSpPr/>
          <p:nvPr/>
        </p:nvSpPr>
        <p:spPr>
          <a:xfrm>
            <a:off x="1630440" y="404172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6" name=""/>
          <p:cNvSpPr/>
          <p:nvPr/>
        </p:nvSpPr>
        <p:spPr>
          <a:xfrm>
            <a:off x="1630440" y="351936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7" name=""/>
          <p:cNvSpPr/>
          <p:nvPr/>
        </p:nvSpPr>
        <p:spPr>
          <a:xfrm>
            <a:off x="1630440" y="300816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
          <p:cNvSpPr/>
          <p:nvPr/>
        </p:nvSpPr>
        <p:spPr>
          <a:xfrm>
            <a:off x="1630440" y="248616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9" name=""/>
          <p:cNvSpPr/>
          <p:nvPr/>
        </p:nvSpPr>
        <p:spPr>
          <a:xfrm>
            <a:off x="1630440" y="1963800"/>
            <a:ext cx="63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0" name=""/>
          <p:cNvSpPr/>
          <p:nvPr/>
        </p:nvSpPr>
        <p:spPr>
          <a:xfrm>
            <a:off x="1657440" y="5607000"/>
            <a:ext cx="56196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
          <p:cNvSpPr/>
          <p:nvPr/>
        </p:nvSpPr>
        <p:spPr>
          <a:xfrm flipV="1">
            <a:off x="165744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
          <p:cNvSpPr/>
          <p:nvPr/>
        </p:nvSpPr>
        <p:spPr>
          <a:xfrm flipV="1">
            <a:off x="203364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
          <p:cNvSpPr/>
          <p:nvPr/>
        </p:nvSpPr>
        <p:spPr>
          <a:xfrm flipV="1">
            <a:off x="240840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4" name=""/>
          <p:cNvSpPr/>
          <p:nvPr/>
        </p:nvSpPr>
        <p:spPr>
          <a:xfrm flipV="1">
            <a:off x="278460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5" name=""/>
          <p:cNvSpPr/>
          <p:nvPr/>
        </p:nvSpPr>
        <p:spPr>
          <a:xfrm flipV="1">
            <a:off x="315900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
          <p:cNvSpPr/>
          <p:nvPr/>
        </p:nvSpPr>
        <p:spPr>
          <a:xfrm flipV="1">
            <a:off x="353376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
          <p:cNvSpPr/>
          <p:nvPr/>
        </p:nvSpPr>
        <p:spPr>
          <a:xfrm flipV="1">
            <a:off x="390996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
          <p:cNvSpPr/>
          <p:nvPr/>
        </p:nvSpPr>
        <p:spPr>
          <a:xfrm flipV="1">
            <a:off x="428472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
          <p:cNvSpPr/>
          <p:nvPr/>
        </p:nvSpPr>
        <p:spPr>
          <a:xfrm flipV="1">
            <a:off x="465948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0" name=""/>
          <p:cNvSpPr/>
          <p:nvPr/>
        </p:nvSpPr>
        <p:spPr>
          <a:xfrm flipV="1">
            <a:off x="503568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1" name=""/>
          <p:cNvSpPr/>
          <p:nvPr/>
        </p:nvSpPr>
        <p:spPr>
          <a:xfrm flipV="1">
            <a:off x="541008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2" name=""/>
          <p:cNvSpPr/>
          <p:nvPr/>
        </p:nvSpPr>
        <p:spPr>
          <a:xfrm flipV="1">
            <a:off x="578628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3" name=""/>
          <p:cNvSpPr/>
          <p:nvPr/>
        </p:nvSpPr>
        <p:spPr>
          <a:xfrm flipV="1">
            <a:off x="616104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4" name=""/>
          <p:cNvSpPr/>
          <p:nvPr/>
        </p:nvSpPr>
        <p:spPr>
          <a:xfrm flipV="1">
            <a:off x="653580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5" name=""/>
          <p:cNvSpPr/>
          <p:nvPr/>
        </p:nvSpPr>
        <p:spPr>
          <a:xfrm flipV="1">
            <a:off x="691200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6" name=""/>
          <p:cNvSpPr/>
          <p:nvPr/>
        </p:nvSpPr>
        <p:spPr>
          <a:xfrm flipV="1">
            <a:off x="7277040" y="5579640"/>
            <a:ext cx="0" cy="63720"/>
          </a:xfrm>
          <a:prstGeom prst="line">
            <a:avLst/>
          </a:prstGeom>
          <a:ln w="0">
            <a:solidFill>
              <a:srgbClr val="000000"/>
            </a:solid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7" name=""/>
          <p:cNvSpPr/>
          <p:nvPr/>
        </p:nvSpPr>
        <p:spPr>
          <a:xfrm>
            <a:off x="1676520" y="2585880"/>
            <a:ext cx="5591160" cy="2984760"/>
          </a:xfrm>
          <a:custGeom>
            <a:avLst/>
            <a:gdLst/>
            <a:ahLst/>
            <a:rect l="l" t="t" r="r" b="b"/>
            <a:pathLst>
              <a:path w="611" h="326">
                <a:moveTo>
                  <a:pt x="0" y="326"/>
                </a:moveTo>
                <a:lnTo>
                  <a:pt x="27" y="321"/>
                </a:lnTo>
                <a:lnTo>
                  <a:pt x="58" y="319"/>
                </a:lnTo>
                <a:lnTo>
                  <a:pt x="89" y="309"/>
                </a:lnTo>
                <a:lnTo>
                  <a:pt x="119" y="304"/>
                </a:lnTo>
                <a:lnTo>
                  <a:pt x="160" y="288"/>
                </a:lnTo>
                <a:lnTo>
                  <a:pt x="201" y="243"/>
                </a:lnTo>
                <a:lnTo>
                  <a:pt x="242" y="237"/>
                </a:lnTo>
                <a:lnTo>
                  <a:pt x="283" y="226"/>
                </a:lnTo>
                <a:lnTo>
                  <a:pt x="324" y="193"/>
                </a:lnTo>
                <a:lnTo>
                  <a:pt x="447" y="203"/>
                </a:lnTo>
                <a:lnTo>
                  <a:pt x="488" y="139"/>
                </a:lnTo>
                <a:lnTo>
                  <a:pt x="529" y="82"/>
                </a:lnTo>
                <a:lnTo>
                  <a:pt x="570" y="28"/>
                </a:lnTo>
                <a:lnTo>
                  <a:pt x="611" y="0"/>
                </a:lnTo>
              </a:path>
            </a:pathLst>
          </a:custGeom>
          <a:noFill/>
          <a:ln w="19080">
            <a:solidFill>
              <a:srgbClr val="ff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8" name=""/>
          <p:cNvSpPr/>
          <p:nvPr/>
        </p:nvSpPr>
        <p:spPr>
          <a:xfrm>
            <a:off x="1639800" y="553392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
          <p:cNvSpPr/>
          <p:nvPr/>
        </p:nvSpPr>
        <p:spPr>
          <a:xfrm>
            <a:off x="1895400" y="549756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0" name=""/>
          <p:cNvSpPr/>
          <p:nvPr/>
        </p:nvSpPr>
        <p:spPr>
          <a:xfrm>
            <a:off x="2170080" y="547056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1" name=""/>
          <p:cNvSpPr/>
          <p:nvPr/>
        </p:nvSpPr>
        <p:spPr>
          <a:xfrm>
            <a:off x="2454120" y="537840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2" name=""/>
          <p:cNvSpPr/>
          <p:nvPr/>
        </p:nvSpPr>
        <p:spPr>
          <a:xfrm>
            <a:off x="2738520" y="534204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3" name=""/>
          <p:cNvSpPr/>
          <p:nvPr/>
        </p:nvSpPr>
        <p:spPr>
          <a:xfrm>
            <a:off x="3112920" y="519588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
          <p:cNvSpPr/>
          <p:nvPr/>
        </p:nvSpPr>
        <p:spPr>
          <a:xfrm>
            <a:off x="3487680" y="4782960"/>
            <a:ext cx="65160" cy="65160"/>
          </a:xfrm>
          <a:prstGeom prst="rect">
            <a:avLst/>
          </a:prstGeom>
          <a:solidFill>
            <a:srgbClr val="ff00ff"/>
          </a:solidFill>
          <a:ln w="9360">
            <a:solidFill>
              <a:srgbClr val="ff00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
          <p:cNvSpPr/>
          <p:nvPr/>
        </p:nvSpPr>
        <p:spPr>
          <a:xfrm>
            <a:off x="3863880" y="471960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6" name=""/>
          <p:cNvSpPr/>
          <p:nvPr/>
        </p:nvSpPr>
        <p:spPr>
          <a:xfrm>
            <a:off x="4238640" y="4627440"/>
            <a:ext cx="73080" cy="65160"/>
          </a:xfrm>
          <a:prstGeom prst="rect">
            <a:avLst/>
          </a:prstGeom>
          <a:solidFill>
            <a:srgbClr val="ff00ff"/>
          </a:solidFill>
          <a:ln w="9360">
            <a:solidFill>
              <a:srgbClr val="ff00ff"/>
            </a:solidFill>
            <a:miter/>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7" name=""/>
          <p:cNvSpPr/>
          <p:nvPr/>
        </p:nvSpPr>
        <p:spPr>
          <a:xfrm>
            <a:off x="4614840" y="4316400"/>
            <a:ext cx="6336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8" name=""/>
          <p:cNvSpPr/>
          <p:nvPr/>
        </p:nvSpPr>
        <p:spPr>
          <a:xfrm>
            <a:off x="5730840" y="4417920"/>
            <a:ext cx="73080" cy="63720"/>
          </a:xfrm>
          <a:prstGeom prst="rect">
            <a:avLst/>
          </a:prstGeom>
          <a:solidFill>
            <a:srgbClr val="ff00ff"/>
          </a:solidFill>
          <a:ln w="9360">
            <a:solidFill>
              <a:srgbClr val="ff00ff"/>
            </a:solidFill>
            <a:miter/>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9" name=""/>
          <p:cNvSpPr/>
          <p:nvPr/>
        </p:nvSpPr>
        <p:spPr>
          <a:xfrm>
            <a:off x="6105600" y="3822840"/>
            <a:ext cx="73080" cy="72720"/>
          </a:xfrm>
          <a:prstGeom prst="rect">
            <a:avLst/>
          </a:prstGeom>
          <a:solidFill>
            <a:srgbClr val="ff00ff"/>
          </a:solidFill>
          <a:ln w="9360">
            <a:solidFill>
              <a:srgbClr val="ff00ff"/>
            </a:solidFill>
            <a:miter/>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0" name=""/>
          <p:cNvSpPr/>
          <p:nvPr/>
        </p:nvSpPr>
        <p:spPr>
          <a:xfrm>
            <a:off x="6481800" y="3300480"/>
            <a:ext cx="730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1" name=""/>
          <p:cNvSpPr/>
          <p:nvPr/>
        </p:nvSpPr>
        <p:spPr>
          <a:xfrm>
            <a:off x="6856560" y="2806560"/>
            <a:ext cx="7272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2" name=""/>
          <p:cNvSpPr/>
          <p:nvPr/>
        </p:nvSpPr>
        <p:spPr>
          <a:xfrm>
            <a:off x="7230960" y="2549520"/>
            <a:ext cx="74880" cy="73080"/>
          </a:xfrm>
          <a:prstGeom prst="rect">
            <a:avLst/>
          </a:prstGeom>
          <a:solidFill>
            <a:srgbClr val="ff00ff"/>
          </a:solidFill>
          <a:ln w="9360">
            <a:solidFill>
              <a:srgbClr val="ff00ff"/>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
          <p:cNvSpPr/>
          <p:nvPr/>
        </p:nvSpPr>
        <p:spPr>
          <a:xfrm>
            <a:off x="7277040" y="1963800"/>
            <a:ext cx="0" cy="364320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4" name=""/>
          <p:cNvSpPr/>
          <p:nvPr/>
        </p:nvSpPr>
        <p:spPr>
          <a:xfrm>
            <a:off x="7250040" y="560700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5" name=""/>
          <p:cNvSpPr/>
          <p:nvPr/>
        </p:nvSpPr>
        <p:spPr>
          <a:xfrm>
            <a:off x="7250040" y="520524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6" name=""/>
          <p:cNvSpPr/>
          <p:nvPr/>
        </p:nvSpPr>
        <p:spPr>
          <a:xfrm>
            <a:off x="7250040" y="480204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7" name=""/>
          <p:cNvSpPr/>
          <p:nvPr/>
        </p:nvSpPr>
        <p:spPr>
          <a:xfrm>
            <a:off x="7250040" y="438948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8" name=""/>
          <p:cNvSpPr/>
          <p:nvPr/>
        </p:nvSpPr>
        <p:spPr>
          <a:xfrm>
            <a:off x="7250040" y="398772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9" name=""/>
          <p:cNvSpPr/>
          <p:nvPr/>
        </p:nvSpPr>
        <p:spPr>
          <a:xfrm>
            <a:off x="7250040" y="358452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0" name=""/>
          <p:cNvSpPr/>
          <p:nvPr/>
        </p:nvSpPr>
        <p:spPr>
          <a:xfrm>
            <a:off x="7250040" y="318132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1" name=""/>
          <p:cNvSpPr/>
          <p:nvPr/>
        </p:nvSpPr>
        <p:spPr>
          <a:xfrm>
            <a:off x="7250040" y="277020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2" name=""/>
          <p:cNvSpPr/>
          <p:nvPr/>
        </p:nvSpPr>
        <p:spPr>
          <a:xfrm>
            <a:off x="7250040" y="236700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3" name=""/>
          <p:cNvSpPr/>
          <p:nvPr/>
        </p:nvSpPr>
        <p:spPr>
          <a:xfrm>
            <a:off x="7250040" y="1963800"/>
            <a:ext cx="63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4" name=""/>
          <p:cNvSpPr/>
          <p:nvPr/>
        </p:nvSpPr>
        <p:spPr>
          <a:xfrm>
            <a:off x="1676520" y="2330280"/>
            <a:ext cx="5591160" cy="2819520"/>
          </a:xfrm>
          <a:custGeom>
            <a:avLst/>
            <a:gdLst/>
            <a:ahLst/>
            <a:rect l="l" t="t" r="r" b="b"/>
            <a:pathLst>
              <a:path w="611" h="308">
                <a:moveTo>
                  <a:pt x="0" y="308"/>
                </a:moveTo>
                <a:lnTo>
                  <a:pt x="27" y="278"/>
                </a:lnTo>
                <a:lnTo>
                  <a:pt x="58" y="243"/>
                </a:lnTo>
                <a:lnTo>
                  <a:pt x="89" y="210"/>
                </a:lnTo>
                <a:lnTo>
                  <a:pt x="119" y="171"/>
                </a:lnTo>
                <a:lnTo>
                  <a:pt x="160" y="143"/>
                </a:lnTo>
                <a:lnTo>
                  <a:pt x="201" y="92"/>
                </a:lnTo>
                <a:lnTo>
                  <a:pt x="242" y="90"/>
                </a:lnTo>
                <a:lnTo>
                  <a:pt x="283" y="32"/>
                </a:lnTo>
                <a:lnTo>
                  <a:pt x="324" y="45"/>
                </a:lnTo>
                <a:lnTo>
                  <a:pt x="447" y="98"/>
                </a:lnTo>
                <a:lnTo>
                  <a:pt x="488" y="54"/>
                </a:lnTo>
                <a:lnTo>
                  <a:pt x="529" y="26"/>
                </a:lnTo>
                <a:lnTo>
                  <a:pt x="570" y="0"/>
                </a:lnTo>
                <a:lnTo>
                  <a:pt x="611" y="10"/>
                </a:lnTo>
              </a:path>
            </a:pathLst>
          </a:custGeom>
          <a:noFill/>
          <a:ln w="19080">
            <a:solidFill>
              <a:srgbClr val="00008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5" name=""/>
          <p:cNvSpPr/>
          <p:nvPr/>
        </p:nvSpPr>
        <p:spPr>
          <a:xfrm>
            <a:off x="1639800" y="5113440"/>
            <a:ext cx="63720" cy="63360"/>
          </a:xfrm>
          <a:custGeom>
            <a:avLst/>
            <a:gdLst/>
            <a:ahLst/>
            <a:rect l="l" t="t" r="r" b="b"/>
            <a:pathLst>
              <a:path w="40" h="40">
                <a:moveTo>
                  <a:pt x="23" y="0"/>
                </a:moveTo>
                <a:lnTo>
                  <a:pt x="40" y="23"/>
                </a:lnTo>
                <a:lnTo>
                  <a:pt x="23" y="40"/>
                </a:lnTo>
                <a:lnTo>
                  <a:pt x="0" y="23"/>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
          <p:cNvSpPr/>
          <p:nvPr/>
        </p:nvSpPr>
        <p:spPr>
          <a:xfrm>
            <a:off x="1895400" y="4838760"/>
            <a:ext cx="65160" cy="63360"/>
          </a:xfrm>
          <a:custGeom>
            <a:avLst/>
            <a:gdLst/>
            <a:ahLst/>
            <a:rect l="l" t="t" r="r" b="b"/>
            <a:pathLst>
              <a:path w="41" h="40">
                <a:moveTo>
                  <a:pt x="18" y="0"/>
                </a:moveTo>
                <a:lnTo>
                  <a:pt x="41" y="23"/>
                </a:lnTo>
                <a:lnTo>
                  <a:pt x="18" y="40"/>
                </a:lnTo>
                <a:lnTo>
                  <a:pt x="0" y="23"/>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7" name=""/>
          <p:cNvSpPr/>
          <p:nvPr/>
        </p:nvSpPr>
        <p:spPr>
          <a:xfrm>
            <a:off x="2170080" y="4518000"/>
            <a:ext cx="65160" cy="63360"/>
          </a:xfrm>
          <a:custGeom>
            <a:avLst/>
            <a:gdLst/>
            <a:ahLst/>
            <a:rect l="l" t="t" r="r" b="b"/>
            <a:pathLst>
              <a:path w="41" h="40">
                <a:moveTo>
                  <a:pt x="23" y="0"/>
                </a:moveTo>
                <a:lnTo>
                  <a:pt x="41" y="23"/>
                </a:lnTo>
                <a:lnTo>
                  <a:pt x="23" y="40"/>
                </a:lnTo>
                <a:lnTo>
                  <a:pt x="0" y="23"/>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8" name=""/>
          <p:cNvSpPr/>
          <p:nvPr/>
        </p:nvSpPr>
        <p:spPr>
          <a:xfrm>
            <a:off x="2454120" y="4224240"/>
            <a:ext cx="63720" cy="65160"/>
          </a:xfrm>
          <a:custGeom>
            <a:avLst/>
            <a:gdLst/>
            <a:ahLst/>
            <a:rect l="l" t="t" r="r" b="b"/>
            <a:pathLst>
              <a:path w="40" h="41">
                <a:moveTo>
                  <a:pt x="23" y="0"/>
                </a:moveTo>
                <a:lnTo>
                  <a:pt x="40" y="18"/>
                </a:lnTo>
                <a:lnTo>
                  <a:pt x="23" y="41"/>
                </a:lnTo>
                <a:lnTo>
                  <a:pt x="0" y="18"/>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9" name=""/>
          <p:cNvSpPr/>
          <p:nvPr/>
        </p:nvSpPr>
        <p:spPr>
          <a:xfrm>
            <a:off x="2738520" y="3868560"/>
            <a:ext cx="63360" cy="63720"/>
          </a:xfrm>
          <a:custGeom>
            <a:avLst/>
            <a:gdLst/>
            <a:ahLst/>
            <a:rect l="l" t="t" r="r" b="b"/>
            <a:pathLst>
              <a:path w="40" h="40">
                <a:moveTo>
                  <a:pt x="17" y="0"/>
                </a:moveTo>
                <a:lnTo>
                  <a:pt x="40" y="17"/>
                </a:lnTo>
                <a:lnTo>
                  <a:pt x="17" y="40"/>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0" name=""/>
          <p:cNvSpPr/>
          <p:nvPr/>
        </p:nvSpPr>
        <p:spPr>
          <a:xfrm>
            <a:off x="3112920" y="3611520"/>
            <a:ext cx="63720" cy="63720"/>
          </a:xfrm>
          <a:custGeom>
            <a:avLst/>
            <a:gdLst/>
            <a:ahLst/>
            <a:rect l="l" t="t" r="r" b="b"/>
            <a:pathLst>
              <a:path w="40" h="40">
                <a:moveTo>
                  <a:pt x="17" y="0"/>
                </a:moveTo>
                <a:lnTo>
                  <a:pt x="40" y="17"/>
                </a:lnTo>
                <a:lnTo>
                  <a:pt x="17" y="40"/>
                </a:lnTo>
                <a:lnTo>
                  <a:pt x="0" y="17"/>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1" name=""/>
          <p:cNvSpPr/>
          <p:nvPr/>
        </p:nvSpPr>
        <p:spPr>
          <a:xfrm>
            <a:off x="3487680" y="3144960"/>
            <a:ext cx="65160" cy="63360"/>
          </a:xfrm>
          <a:custGeom>
            <a:avLst/>
            <a:gdLst/>
            <a:ahLst/>
            <a:rect l="l" t="t" r="r" b="b"/>
            <a:pathLst>
              <a:path w="41" h="40">
                <a:moveTo>
                  <a:pt x="18" y="0"/>
                </a:moveTo>
                <a:lnTo>
                  <a:pt x="41" y="17"/>
                </a:lnTo>
                <a:lnTo>
                  <a:pt x="18" y="40"/>
                </a:lnTo>
                <a:lnTo>
                  <a:pt x="0" y="17"/>
                </a:lnTo>
                <a:lnTo>
                  <a:pt x="18"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2" name=""/>
          <p:cNvSpPr/>
          <p:nvPr/>
        </p:nvSpPr>
        <p:spPr>
          <a:xfrm>
            <a:off x="3863880" y="3125880"/>
            <a:ext cx="63720" cy="65160"/>
          </a:xfrm>
          <a:custGeom>
            <a:avLst/>
            <a:gdLst/>
            <a:ahLst/>
            <a:rect l="l" t="t" r="r" b="b"/>
            <a:pathLst>
              <a:path w="40" h="41">
                <a:moveTo>
                  <a:pt x="17" y="0"/>
                </a:moveTo>
                <a:lnTo>
                  <a:pt x="40" y="18"/>
                </a:lnTo>
                <a:lnTo>
                  <a:pt x="17" y="41"/>
                </a:lnTo>
                <a:lnTo>
                  <a:pt x="0" y="18"/>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3" name=""/>
          <p:cNvSpPr/>
          <p:nvPr/>
        </p:nvSpPr>
        <p:spPr>
          <a:xfrm>
            <a:off x="4238640" y="2585880"/>
            <a:ext cx="65160" cy="65160"/>
          </a:xfrm>
          <a:custGeom>
            <a:avLst/>
            <a:gdLst/>
            <a:ahLst/>
            <a:rect l="l" t="t" r="r" b="b"/>
            <a:pathLst>
              <a:path w="41" h="41">
                <a:moveTo>
                  <a:pt x="17" y="0"/>
                </a:moveTo>
                <a:lnTo>
                  <a:pt x="41" y="23"/>
                </a:lnTo>
                <a:lnTo>
                  <a:pt x="17" y="41"/>
                </a:lnTo>
                <a:lnTo>
                  <a:pt x="0" y="23"/>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4" name=""/>
          <p:cNvSpPr/>
          <p:nvPr/>
        </p:nvSpPr>
        <p:spPr>
          <a:xfrm>
            <a:off x="4614840" y="2705040"/>
            <a:ext cx="63360" cy="65160"/>
          </a:xfrm>
          <a:custGeom>
            <a:avLst/>
            <a:gdLst/>
            <a:ahLst/>
            <a:rect l="l" t="t" r="r" b="b"/>
            <a:pathLst>
              <a:path w="40" h="41">
                <a:moveTo>
                  <a:pt x="17" y="0"/>
                </a:moveTo>
                <a:lnTo>
                  <a:pt x="40" y="23"/>
                </a:lnTo>
                <a:lnTo>
                  <a:pt x="17" y="41"/>
                </a:lnTo>
                <a:lnTo>
                  <a:pt x="0" y="23"/>
                </a:lnTo>
                <a:lnTo>
                  <a:pt x="17" y="0"/>
                </a:lnTo>
                <a:close/>
              </a:path>
            </a:pathLst>
          </a:custGeom>
          <a:solidFill>
            <a:srgbClr val="000080"/>
          </a:solidFill>
          <a:ln w="9360">
            <a:solidFill>
              <a:srgbClr val="00008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5" name=""/>
          <p:cNvSpPr/>
          <p:nvPr/>
        </p:nvSpPr>
        <p:spPr>
          <a:xfrm>
            <a:off x="5730840" y="3200400"/>
            <a:ext cx="63360" cy="63360"/>
          </a:xfrm>
          <a:custGeom>
            <a:avLst/>
            <a:gdLst/>
            <a:ahLst/>
            <a:rect l="l" t="t" r="r" b="b"/>
            <a:pathLst>
              <a:path w="40" h="40">
                <a:moveTo>
                  <a:pt x="23" y="0"/>
                </a:moveTo>
                <a:lnTo>
                  <a:pt x="40" y="17"/>
                </a:lnTo>
                <a:lnTo>
                  <a:pt x="23" y="40"/>
                </a:lnTo>
                <a:lnTo>
                  <a:pt x="0" y="17"/>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6" name=""/>
          <p:cNvSpPr/>
          <p:nvPr/>
        </p:nvSpPr>
        <p:spPr>
          <a:xfrm>
            <a:off x="6105600" y="2797200"/>
            <a:ext cx="65160" cy="63360"/>
          </a:xfrm>
          <a:custGeom>
            <a:avLst/>
            <a:gdLst/>
            <a:ahLst/>
            <a:rect l="l" t="t" r="r" b="b"/>
            <a:pathLst>
              <a:path w="41" h="40">
                <a:moveTo>
                  <a:pt x="23" y="0"/>
                </a:moveTo>
                <a:lnTo>
                  <a:pt x="41" y="17"/>
                </a:lnTo>
                <a:lnTo>
                  <a:pt x="23" y="40"/>
                </a:lnTo>
                <a:lnTo>
                  <a:pt x="0" y="17"/>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
          <p:cNvSpPr/>
          <p:nvPr/>
        </p:nvSpPr>
        <p:spPr>
          <a:xfrm>
            <a:off x="6481800" y="2532240"/>
            <a:ext cx="63360" cy="63360"/>
          </a:xfrm>
          <a:custGeom>
            <a:avLst/>
            <a:gdLst/>
            <a:ahLst/>
            <a:rect l="l" t="t" r="r" b="b"/>
            <a:pathLst>
              <a:path w="40" h="40">
                <a:moveTo>
                  <a:pt x="23" y="0"/>
                </a:moveTo>
                <a:lnTo>
                  <a:pt x="40" y="23"/>
                </a:lnTo>
                <a:lnTo>
                  <a:pt x="23" y="40"/>
                </a:lnTo>
                <a:lnTo>
                  <a:pt x="0" y="23"/>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6560" bIns="16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8" name=""/>
          <p:cNvSpPr/>
          <p:nvPr/>
        </p:nvSpPr>
        <p:spPr>
          <a:xfrm>
            <a:off x="6856560" y="2293920"/>
            <a:ext cx="63360" cy="73080"/>
          </a:xfrm>
          <a:custGeom>
            <a:avLst/>
            <a:gdLst/>
            <a:ahLst/>
            <a:rect l="l" t="t" r="r" b="b"/>
            <a:pathLst>
              <a:path w="40" h="46">
                <a:moveTo>
                  <a:pt x="23" y="0"/>
                </a:moveTo>
                <a:lnTo>
                  <a:pt x="40" y="23"/>
                </a:lnTo>
                <a:lnTo>
                  <a:pt x="23" y="46"/>
                </a:lnTo>
                <a:lnTo>
                  <a:pt x="0" y="23"/>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9" name=""/>
          <p:cNvSpPr/>
          <p:nvPr/>
        </p:nvSpPr>
        <p:spPr>
          <a:xfrm>
            <a:off x="7230960" y="2384280"/>
            <a:ext cx="65160" cy="65160"/>
          </a:xfrm>
          <a:custGeom>
            <a:avLst/>
            <a:gdLst/>
            <a:ahLst/>
            <a:rect l="l" t="t" r="r" b="b"/>
            <a:pathLst>
              <a:path w="41" h="41">
                <a:moveTo>
                  <a:pt x="23" y="0"/>
                </a:moveTo>
                <a:lnTo>
                  <a:pt x="41" y="23"/>
                </a:lnTo>
                <a:lnTo>
                  <a:pt x="23" y="41"/>
                </a:lnTo>
                <a:lnTo>
                  <a:pt x="0" y="23"/>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0" name=""/>
          <p:cNvSpPr/>
          <p:nvPr/>
        </p:nvSpPr>
        <p:spPr>
          <a:xfrm>
            <a:off x="3581640" y="1617840"/>
            <a:ext cx="20170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O 9000 Certificates</a:t>
            </a:r>
            <a:endParaRPr b="1" lang="en-US" sz="1600" spc="-1" strike="noStrike">
              <a:solidFill>
                <a:srgbClr val="ffffff"/>
              </a:solidFill>
              <a:latin typeface="Arial"/>
            </a:endParaRPr>
          </a:p>
        </p:txBody>
      </p:sp>
      <p:sp>
        <p:nvSpPr>
          <p:cNvPr id="331" name=""/>
          <p:cNvSpPr/>
          <p:nvPr/>
        </p:nvSpPr>
        <p:spPr>
          <a:xfrm>
            <a:off x="1541520" y="5543640"/>
            <a:ext cx="57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1" lang="en-US" sz="800" spc="-1" strike="noStrike">
              <a:solidFill>
                <a:srgbClr val="ffffff"/>
              </a:solidFill>
              <a:latin typeface="Arial"/>
            </a:endParaRPr>
          </a:p>
        </p:txBody>
      </p:sp>
      <p:sp>
        <p:nvSpPr>
          <p:cNvPr id="332" name=""/>
          <p:cNvSpPr/>
          <p:nvPr/>
        </p:nvSpPr>
        <p:spPr>
          <a:xfrm>
            <a:off x="1347120" y="502128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00</a:t>
            </a:r>
            <a:endParaRPr b="1" lang="en-US" sz="1000" spc="-1" strike="noStrike">
              <a:solidFill>
                <a:srgbClr val="ffffff"/>
              </a:solidFill>
              <a:latin typeface="Arial"/>
            </a:endParaRPr>
          </a:p>
        </p:txBody>
      </p:sp>
      <p:sp>
        <p:nvSpPr>
          <p:cNvPr id="333" name=""/>
          <p:cNvSpPr/>
          <p:nvPr/>
        </p:nvSpPr>
        <p:spPr>
          <a:xfrm>
            <a:off x="1276920" y="449892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a:t>
            </a:r>
            <a:endParaRPr b="1" lang="en-US" sz="1000" spc="-1" strike="noStrike">
              <a:solidFill>
                <a:srgbClr val="ffffff"/>
              </a:solidFill>
              <a:latin typeface="Arial"/>
            </a:endParaRPr>
          </a:p>
        </p:txBody>
      </p:sp>
      <p:sp>
        <p:nvSpPr>
          <p:cNvPr id="334" name=""/>
          <p:cNvSpPr/>
          <p:nvPr/>
        </p:nvSpPr>
        <p:spPr>
          <a:xfrm>
            <a:off x="1276920" y="398772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00</a:t>
            </a:r>
            <a:endParaRPr b="1" lang="en-US" sz="1000" spc="-1" strike="noStrike">
              <a:solidFill>
                <a:srgbClr val="ffffff"/>
              </a:solidFill>
              <a:latin typeface="Arial"/>
            </a:endParaRPr>
          </a:p>
        </p:txBody>
      </p:sp>
      <p:sp>
        <p:nvSpPr>
          <p:cNvPr id="335" name=""/>
          <p:cNvSpPr/>
          <p:nvPr/>
        </p:nvSpPr>
        <p:spPr>
          <a:xfrm>
            <a:off x="1276920" y="346536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1" lang="en-US" sz="1000" spc="-1" strike="noStrike">
              <a:solidFill>
                <a:srgbClr val="ffffff"/>
              </a:solidFill>
              <a:latin typeface="Arial"/>
            </a:endParaRPr>
          </a:p>
        </p:txBody>
      </p:sp>
      <p:sp>
        <p:nvSpPr>
          <p:cNvPr id="336" name=""/>
          <p:cNvSpPr/>
          <p:nvPr/>
        </p:nvSpPr>
        <p:spPr>
          <a:xfrm>
            <a:off x="1276920" y="294336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00</a:t>
            </a:r>
            <a:endParaRPr b="1" lang="en-US" sz="1000" spc="-1" strike="noStrike">
              <a:solidFill>
                <a:srgbClr val="ffffff"/>
              </a:solidFill>
              <a:latin typeface="Arial"/>
            </a:endParaRPr>
          </a:p>
        </p:txBody>
      </p:sp>
      <p:sp>
        <p:nvSpPr>
          <p:cNvPr id="337" name=""/>
          <p:cNvSpPr/>
          <p:nvPr/>
        </p:nvSpPr>
        <p:spPr>
          <a:xfrm>
            <a:off x="1276920" y="242100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000</a:t>
            </a:r>
            <a:endParaRPr b="1" lang="en-US" sz="1000" spc="-1" strike="noStrike">
              <a:solidFill>
                <a:srgbClr val="ffffff"/>
              </a:solidFill>
              <a:latin typeface="Arial"/>
            </a:endParaRPr>
          </a:p>
        </p:txBody>
      </p:sp>
      <p:sp>
        <p:nvSpPr>
          <p:cNvPr id="338" name=""/>
          <p:cNvSpPr/>
          <p:nvPr/>
        </p:nvSpPr>
        <p:spPr>
          <a:xfrm>
            <a:off x="1276920" y="190008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000</a:t>
            </a:r>
            <a:endParaRPr b="1" lang="en-US" sz="1000" spc="-1" strike="noStrike">
              <a:solidFill>
                <a:srgbClr val="ffffff"/>
              </a:solidFill>
              <a:latin typeface="Arial"/>
            </a:endParaRPr>
          </a:p>
        </p:txBody>
      </p:sp>
      <p:sp>
        <p:nvSpPr>
          <p:cNvPr id="339" name=""/>
          <p:cNvSpPr/>
          <p:nvPr/>
        </p:nvSpPr>
        <p:spPr>
          <a:xfrm>
            <a:off x="157572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1" lang="en-US" sz="800" spc="-1" strike="noStrike">
              <a:solidFill>
                <a:srgbClr val="ffffff"/>
              </a:solidFill>
              <a:latin typeface="Arial"/>
            </a:endParaRPr>
          </a:p>
        </p:txBody>
      </p:sp>
      <p:sp>
        <p:nvSpPr>
          <p:cNvPr id="340" name=""/>
          <p:cNvSpPr/>
          <p:nvPr/>
        </p:nvSpPr>
        <p:spPr>
          <a:xfrm>
            <a:off x="195048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1" lang="en-US" sz="800" spc="-1" strike="noStrike">
              <a:solidFill>
                <a:srgbClr val="ffffff"/>
              </a:solidFill>
              <a:latin typeface="Arial"/>
            </a:endParaRPr>
          </a:p>
        </p:txBody>
      </p:sp>
      <p:sp>
        <p:nvSpPr>
          <p:cNvPr id="341" name=""/>
          <p:cNvSpPr/>
          <p:nvPr/>
        </p:nvSpPr>
        <p:spPr>
          <a:xfrm>
            <a:off x="233460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1" lang="en-US" sz="800" spc="-1" strike="noStrike">
              <a:solidFill>
                <a:srgbClr val="ffffff"/>
              </a:solidFill>
              <a:latin typeface="Arial"/>
            </a:endParaRPr>
          </a:p>
        </p:txBody>
      </p:sp>
      <p:sp>
        <p:nvSpPr>
          <p:cNvPr id="342" name=""/>
          <p:cNvSpPr/>
          <p:nvPr/>
        </p:nvSpPr>
        <p:spPr>
          <a:xfrm>
            <a:off x="270144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1" lang="en-US" sz="800" spc="-1" strike="noStrike">
              <a:solidFill>
                <a:srgbClr val="ffffff"/>
              </a:solidFill>
              <a:latin typeface="Arial"/>
            </a:endParaRPr>
          </a:p>
        </p:txBody>
      </p:sp>
      <p:sp>
        <p:nvSpPr>
          <p:cNvPr id="343" name=""/>
          <p:cNvSpPr/>
          <p:nvPr/>
        </p:nvSpPr>
        <p:spPr>
          <a:xfrm>
            <a:off x="307620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1" lang="en-US" sz="800" spc="-1" strike="noStrike">
              <a:solidFill>
                <a:srgbClr val="ffffff"/>
              </a:solidFill>
              <a:latin typeface="Arial"/>
            </a:endParaRPr>
          </a:p>
        </p:txBody>
      </p:sp>
      <p:sp>
        <p:nvSpPr>
          <p:cNvPr id="344" name=""/>
          <p:cNvSpPr/>
          <p:nvPr/>
        </p:nvSpPr>
        <p:spPr>
          <a:xfrm>
            <a:off x="345240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1" lang="en-US" sz="800" spc="-1" strike="noStrike">
              <a:solidFill>
                <a:srgbClr val="ffffff"/>
              </a:solidFill>
              <a:latin typeface="Arial"/>
            </a:endParaRPr>
          </a:p>
        </p:txBody>
      </p:sp>
      <p:sp>
        <p:nvSpPr>
          <p:cNvPr id="345" name=""/>
          <p:cNvSpPr/>
          <p:nvPr/>
        </p:nvSpPr>
        <p:spPr>
          <a:xfrm>
            <a:off x="382680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1" lang="en-US" sz="800" spc="-1" strike="noStrike">
              <a:solidFill>
                <a:srgbClr val="ffffff"/>
              </a:solidFill>
              <a:latin typeface="Arial"/>
            </a:endParaRPr>
          </a:p>
        </p:txBody>
      </p:sp>
      <p:sp>
        <p:nvSpPr>
          <p:cNvPr id="346" name=""/>
          <p:cNvSpPr/>
          <p:nvPr/>
        </p:nvSpPr>
        <p:spPr>
          <a:xfrm>
            <a:off x="420336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1" lang="en-US" sz="800" spc="-1" strike="noStrike">
              <a:solidFill>
                <a:srgbClr val="ffffff"/>
              </a:solidFill>
              <a:latin typeface="Arial"/>
            </a:endParaRPr>
          </a:p>
        </p:txBody>
      </p:sp>
      <p:sp>
        <p:nvSpPr>
          <p:cNvPr id="347" name=""/>
          <p:cNvSpPr/>
          <p:nvPr/>
        </p:nvSpPr>
        <p:spPr>
          <a:xfrm>
            <a:off x="457776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1" lang="en-US" sz="800" spc="-1" strike="noStrike">
              <a:solidFill>
                <a:srgbClr val="ffffff"/>
              </a:solidFill>
              <a:latin typeface="Arial"/>
            </a:endParaRPr>
          </a:p>
        </p:txBody>
      </p:sp>
      <p:sp>
        <p:nvSpPr>
          <p:cNvPr id="348" name=""/>
          <p:cNvSpPr/>
          <p:nvPr/>
        </p:nvSpPr>
        <p:spPr>
          <a:xfrm>
            <a:off x="495252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1" lang="en-US" sz="800" spc="-1" strike="noStrike">
              <a:solidFill>
                <a:srgbClr val="ffffff"/>
              </a:solidFill>
              <a:latin typeface="Arial"/>
            </a:endParaRPr>
          </a:p>
        </p:txBody>
      </p:sp>
      <p:sp>
        <p:nvSpPr>
          <p:cNvPr id="349" name=""/>
          <p:cNvSpPr/>
          <p:nvPr/>
        </p:nvSpPr>
        <p:spPr>
          <a:xfrm>
            <a:off x="532872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1" lang="en-US" sz="800" spc="-1" strike="noStrike">
              <a:solidFill>
                <a:srgbClr val="ffffff"/>
              </a:solidFill>
              <a:latin typeface="Arial"/>
            </a:endParaRPr>
          </a:p>
        </p:txBody>
      </p:sp>
      <p:sp>
        <p:nvSpPr>
          <p:cNvPr id="350" name=""/>
          <p:cNvSpPr/>
          <p:nvPr/>
        </p:nvSpPr>
        <p:spPr>
          <a:xfrm>
            <a:off x="570348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4</a:t>
            </a:r>
            <a:endParaRPr b="1" lang="en-US" sz="800" spc="-1" strike="noStrike">
              <a:solidFill>
                <a:srgbClr val="ffffff"/>
              </a:solidFill>
              <a:latin typeface="Arial"/>
            </a:endParaRPr>
          </a:p>
        </p:txBody>
      </p:sp>
      <p:sp>
        <p:nvSpPr>
          <p:cNvPr id="351" name=""/>
          <p:cNvSpPr/>
          <p:nvPr/>
        </p:nvSpPr>
        <p:spPr>
          <a:xfrm>
            <a:off x="607788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5</a:t>
            </a:r>
            <a:endParaRPr b="1" lang="en-US" sz="800" spc="-1" strike="noStrike">
              <a:solidFill>
                <a:srgbClr val="ffffff"/>
              </a:solidFill>
              <a:latin typeface="Arial"/>
            </a:endParaRPr>
          </a:p>
        </p:txBody>
      </p:sp>
      <p:sp>
        <p:nvSpPr>
          <p:cNvPr id="352" name=""/>
          <p:cNvSpPr/>
          <p:nvPr/>
        </p:nvSpPr>
        <p:spPr>
          <a:xfrm>
            <a:off x="645444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6</a:t>
            </a:r>
            <a:endParaRPr b="1" lang="en-US" sz="800" spc="-1" strike="noStrike">
              <a:solidFill>
                <a:srgbClr val="ffffff"/>
              </a:solidFill>
              <a:latin typeface="Arial"/>
            </a:endParaRPr>
          </a:p>
        </p:txBody>
      </p:sp>
      <p:sp>
        <p:nvSpPr>
          <p:cNvPr id="353" name=""/>
          <p:cNvSpPr/>
          <p:nvPr/>
        </p:nvSpPr>
        <p:spPr>
          <a:xfrm>
            <a:off x="6828840" y="5699160"/>
            <a:ext cx="2264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7</a:t>
            </a:r>
            <a:endParaRPr b="1" lang="en-US" sz="800" spc="-1" strike="noStrike">
              <a:solidFill>
                <a:srgbClr val="ffffff"/>
              </a:solidFill>
              <a:latin typeface="Arial"/>
            </a:endParaRPr>
          </a:p>
        </p:txBody>
      </p:sp>
      <p:sp>
        <p:nvSpPr>
          <p:cNvPr id="354" name=""/>
          <p:cNvSpPr/>
          <p:nvPr/>
        </p:nvSpPr>
        <p:spPr>
          <a:xfrm rot="16200000">
            <a:off x="-288000" y="3434040"/>
            <a:ext cx="248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Arial"/>
              </a:rPr>
              <a:t>Total Certificates (Southeast Asia)</a:t>
            </a:r>
            <a:endParaRPr b="1" lang="en-US" sz="1200" spc="-1" strike="noStrike">
              <a:solidFill>
                <a:srgbClr val="ffffff"/>
              </a:solidFill>
              <a:latin typeface="Arial"/>
            </a:endParaRPr>
          </a:p>
        </p:txBody>
      </p:sp>
      <p:sp>
        <p:nvSpPr>
          <p:cNvPr id="355" name=""/>
          <p:cNvSpPr/>
          <p:nvPr/>
        </p:nvSpPr>
        <p:spPr>
          <a:xfrm>
            <a:off x="7380360" y="5543640"/>
            <a:ext cx="5724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1" lang="en-US" sz="800" spc="-1" strike="noStrike">
              <a:solidFill>
                <a:srgbClr val="ffffff"/>
              </a:solidFill>
              <a:latin typeface="Arial"/>
            </a:endParaRPr>
          </a:p>
        </p:txBody>
      </p:sp>
      <p:sp>
        <p:nvSpPr>
          <p:cNvPr id="356" name=""/>
          <p:cNvSpPr/>
          <p:nvPr/>
        </p:nvSpPr>
        <p:spPr>
          <a:xfrm>
            <a:off x="7344360" y="514044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0</a:t>
            </a:r>
            <a:endParaRPr b="1" lang="en-US" sz="1000" spc="-1" strike="noStrike">
              <a:solidFill>
                <a:srgbClr val="ffffff"/>
              </a:solidFill>
              <a:latin typeface="Arial"/>
            </a:endParaRPr>
          </a:p>
        </p:txBody>
      </p:sp>
      <p:sp>
        <p:nvSpPr>
          <p:cNvPr id="357" name=""/>
          <p:cNvSpPr/>
          <p:nvPr/>
        </p:nvSpPr>
        <p:spPr>
          <a:xfrm>
            <a:off x="7344360" y="473724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000</a:t>
            </a:r>
            <a:endParaRPr b="1" lang="en-US" sz="1000" spc="-1" strike="noStrike">
              <a:solidFill>
                <a:srgbClr val="ffffff"/>
              </a:solidFill>
              <a:latin typeface="Arial"/>
            </a:endParaRPr>
          </a:p>
        </p:txBody>
      </p:sp>
      <p:sp>
        <p:nvSpPr>
          <p:cNvPr id="358" name=""/>
          <p:cNvSpPr/>
          <p:nvPr/>
        </p:nvSpPr>
        <p:spPr>
          <a:xfrm>
            <a:off x="7344360" y="432576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000</a:t>
            </a:r>
            <a:endParaRPr b="1" lang="en-US" sz="1000" spc="-1" strike="noStrike">
              <a:solidFill>
                <a:srgbClr val="ffffff"/>
              </a:solidFill>
              <a:latin typeface="Arial"/>
            </a:endParaRPr>
          </a:p>
        </p:txBody>
      </p:sp>
      <p:sp>
        <p:nvSpPr>
          <p:cNvPr id="359" name=""/>
          <p:cNvSpPr/>
          <p:nvPr/>
        </p:nvSpPr>
        <p:spPr>
          <a:xfrm>
            <a:off x="7344360" y="3922560"/>
            <a:ext cx="351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0000</a:t>
            </a:r>
            <a:endParaRPr b="1" lang="en-US" sz="1000" spc="-1" strike="noStrike">
              <a:solidFill>
                <a:srgbClr val="ffffff"/>
              </a:solidFill>
              <a:latin typeface="Arial"/>
            </a:endParaRPr>
          </a:p>
        </p:txBody>
      </p:sp>
      <p:sp>
        <p:nvSpPr>
          <p:cNvPr id="360" name=""/>
          <p:cNvSpPr/>
          <p:nvPr/>
        </p:nvSpPr>
        <p:spPr>
          <a:xfrm>
            <a:off x="7336440" y="3519360"/>
            <a:ext cx="421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00</a:t>
            </a:r>
            <a:endParaRPr b="1" lang="en-US" sz="1000" spc="-1" strike="noStrike">
              <a:solidFill>
                <a:srgbClr val="ffffff"/>
              </a:solidFill>
              <a:latin typeface="Arial"/>
            </a:endParaRPr>
          </a:p>
        </p:txBody>
      </p:sp>
      <p:sp>
        <p:nvSpPr>
          <p:cNvPr id="361" name=""/>
          <p:cNvSpPr/>
          <p:nvPr/>
        </p:nvSpPr>
        <p:spPr>
          <a:xfrm>
            <a:off x="7336440" y="3117960"/>
            <a:ext cx="421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000</a:t>
            </a:r>
            <a:endParaRPr b="1" lang="en-US" sz="1000" spc="-1" strike="noStrike">
              <a:solidFill>
                <a:srgbClr val="ffffff"/>
              </a:solidFill>
              <a:latin typeface="Arial"/>
            </a:endParaRPr>
          </a:p>
        </p:txBody>
      </p:sp>
      <p:sp>
        <p:nvSpPr>
          <p:cNvPr id="362" name=""/>
          <p:cNvSpPr/>
          <p:nvPr/>
        </p:nvSpPr>
        <p:spPr>
          <a:xfrm>
            <a:off x="7336440" y="2705040"/>
            <a:ext cx="421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00</a:t>
            </a:r>
            <a:endParaRPr b="1" lang="en-US" sz="1000" spc="-1" strike="noStrike">
              <a:solidFill>
                <a:srgbClr val="ffffff"/>
              </a:solidFill>
              <a:latin typeface="Arial"/>
            </a:endParaRPr>
          </a:p>
        </p:txBody>
      </p:sp>
      <p:sp>
        <p:nvSpPr>
          <p:cNvPr id="363" name=""/>
          <p:cNvSpPr/>
          <p:nvPr/>
        </p:nvSpPr>
        <p:spPr>
          <a:xfrm>
            <a:off x="7336440" y="2301840"/>
            <a:ext cx="421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000</a:t>
            </a:r>
            <a:endParaRPr b="1" lang="en-US" sz="1000" spc="-1" strike="noStrike">
              <a:solidFill>
                <a:srgbClr val="ffffff"/>
              </a:solidFill>
              <a:latin typeface="Arial"/>
            </a:endParaRPr>
          </a:p>
        </p:txBody>
      </p:sp>
      <p:sp>
        <p:nvSpPr>
          <p:cNvPr id="364" name=""/>
          <p:cNvSpPr/>
          <p:nvPr/>
        </p:nvSpPr>
        <p:spPr>
          <a:xfrm>
            <a:off x="7336440" y="1900080"/>
            <a:ext cx="42120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000</a:t>
            </a:r>
            <a:endParaRPr b="1" lang="en-US" sz="1000" spc="-1" strike="noStrike">
              <a:solidFill>
                <a:srgbClr val="ffffff"/>
              </a:solidFill>
              <a:latin typeface="Arial"/>
            </a:endParaRPr>
          </a:p>
        </p:txBody>
      </p:sp>
      <p:sp>
        <p:nvSpPr>
          <p:cNvPr id="365" name=""/>
          <p:cNvSpPr/>
          <p:nvPr/>
        </p:nvSpPr>
        <p:spPr>
          <a:xfrm rot="16200000">
            <a:off x="6329880" y="3646080"/>
            <a:ext cx="339156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otal Certificates (Northern &amp; Western Europe)</a:t>
            </a:r>
            <a:endParaRPr b="1" lang="en-US" sz="1200" spc="-1" strike="noStrike">
              <a:solidFill>
                <a:srgbClr val="ffffff"/>
              </a:solidFill>
              <a:latin typeface="Arial"/>
            </a:endParaRPr>
          </a:p>
        </p:txBody>
      </p:sp>
      <p:sp>
        <p:nvSpPr>
          <p:cNvPr id="366" name=""/>
          <p:cNvSpPr/>
          <p:nvPr/>
        </p:nvSpPr>
        <p:spPr>
          <a:xfrm>
            <a:off x="2282760" y="5964120"/>
            <a:ext cx="4645080" cy="292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pSp>
        <p:nvGrpSpPr>
          <p:cNvPr id="367" name=""/>
          <p:cNvGrpSpPr/>
          <p:nvPr/>
        </p:nvGrpSpPr>
        <p:grpSpPr>
          <a:xfrm>
            <a:off x="2541600" y="6014880"/>
            <a:ext cx="1674720" cy="182880"/>
            <a:chOff x="2541600" y="6014880"/>
            <a:chExt cx="1674720" cy="182880"/>
          </a:xfrm>
        </p:grpSpPr>
        <p:sp>
          <p:nvSpPr>
            <p:cNvPr id="368" name=""/>
            <p:cNvSpPr/>
            <p:nvPr/>
          </p:nvSpPr>
          <p:spPr>
            <a:xfrm>
              <a:off x="2541600" y="6097680"/>
              <a:ext cx="285480" cy="0"/>
            </a:xfrm>
            <a:prstGeom prst="line">
              <a:avLst/>
            </a:prstGeom>
            <a:ln w="1908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9" name=""/>
            <p:cNvSpPr/>
            <p:nvPr/>
          </p:nvSpPr>
          <p:spPr>
            <a:xfrm>
              <a:off x="2639880" y="6062760"/>
              <a:ext cx="74520" cy="95040"/>
            </a:xfrm>
            <a:prstGeom prst="rect">
              <a:avLst/>
            </a:prstGeom>
            <a:solidFill>
              <a:srgbClr val="ff00ff"/>
            </a:solidFill>
            <a:ln w="9360">
              <a:solidFill>
                <a:srgbClr val="ff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0" name=""/>
            <p:cNvSpPr/>
            <p:nvPr/>
          </p:nvSpPr>
          <p:spPr>
            <a:xfrm>
              <a:off x="2897280" y="6014880"/>
              <a:ext cx="131904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Eastern Asia</a:t>
              </a:r>
              <a:endParaRPr b="1" lang="en-US" sz="1200" spc="-1" strike="noStrike">
                <a:solidFill>
                  <a:srgbClr val="ffffff"/>
                </a:solidFill>
                <a:latin typeface="Arial"/>
              </a:endParaRPr>
            </a:p>
          </p:txBody>
        </p:sp>
      </p:grpSp>
      <p:grpSp>
        <p:nvGrpSpPr>
          <p:cNvPr id="371" name=""/>
          <p:cNvGrpSpPr/>
          <p:nvPr/>
        </p:nvGrpSpPr>
        <p:grpSpPr>
          <a:xfrm>
            <a:off x="4336920" y="6014880"/>
            <a:ext cx="2417760" cy="182880"/>
            <a:chOff x="4336920" y="6014880"/>
            <a:chExt cx="2417760" cy="182880"/>
          </a:xfrm>
        </p:grpSpPr>
        <p:sp>
          <p:nvSpPr>
            <p:cNvPr id="372" name=""/>
            <p:cNvSpPr/>
            <p:nvPr/>
          </p:nvSpPr>
          <p:spPr>
            <a:xfrm>
              <a:off x="4336920" y="6110280"/>
              <a:ext cx="328680" cy="0"/>
            </a:xfrm>
            <a:prstGeom prst="line">
              <a:avLst/>
            </a:prstGeom>
            <a:ln w="19080">
              <a:solidFill>
                <a:srgbClr val="00008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
            <p:cNvSpPr/>
            <p:nvPr/>
          </p:nvSpPr>
          <p:spPr>
            <a:xfrm>
              <a:off x="4483080" y="6075360"/>
              <a:ext cx="85680" cy="82440"/>
            </a:xfrm>
            <a:custGeom>
              <a:avLst/>
              <a:gdLst/>
              <a:ahLst/>
              <a:rect l="l" t="t" r="r" b="b"/>
              <a:pathLst>
                <a:path w="40" h="40">
                  <a:moveTo>
                    <a:pt x="23" y="0"/>
                  </a:moveTo>
                  <a:lnTo>
                    <a:pt x="40" y="17"/>
                  </a:lnTo>
                  <a:lnTo>
                    <a:pt x="23" y="40"/>
                  </a:lnTo>
                  <a:lnTo>
                    <a:pt x="0" y="17"/>
                  </a:lnTo>
                  <a:lnTo>
                    <a:pt x="23" y="0"/>
                  </a:lnTo>
                  <a:close/>
                </a:path>
              </a:pathLst>
            </a:custGeom>
            <a:solidFill>
              <a:srgbClr val="000080"/>
            </a:solidFill>
            <a:ln w="9360">
              <a:solidFill>
                <a:srgbClr val="000080"/>
              </a:solidFill>
              <a:round/>
            </a:ln>
          </p:spPr>
          <p:style>
            <a:lnRef idx="0"/>
            <a:fillRef idx="0"/>
            <a:effectRef idx="0"/>
            <a:fontRef idx="minor"/>
          </p:style>
          <p:txBody>
            <a:bodyPr lIns="90000" rIns="90000" tIns="35640" bIns="35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4" name=""/>
            <p:cNvSpPr/>
            <p:nvPr/>
          </p:nvSpPr>
          <p:spPr>
            <a:xfrm>
              <a:off x="4713480" y="6014880"/>
              <a:ext cx="2041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ern and Western Europe</a:t>
              </a:r>
              <a:endParaRPr b="1" lang="en-US" sz="12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0" y="952200"/>
            <a:ext cx="9144000" cy="6094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ISO 50001 and Trade</a:t>
            </a:r>
            <a:endParaRPr b="1" lang="en-US" sz="3200" spc="-1" strike="noStrike">
              <a:solidFill>
                <a:srgbClr val="787878"/>
              </a:solidFill>
              <a:latin typeface="Arial"/>
            </a:endParaRPr>
          </a:p>
        </p:txBody>
      </p:sp>
      <p:sp>
        <p:nvSpPr>
          <p:cNvPr id="376" name="PlaceHolder 2"/>
          <p:cNvSpPr>
            <a:spLocks noGrp="1"/>
          </p:cNvSpPr>
          <p:nvPr>
            <p:ph/>
          </p:nvPr>
        </p:nvSpPr>
        <p:spPr>
          <a:xfrm>
            <a:off x="406080" y="1663560"/>
            <a:ext cx="8458200" cy="4470480"/>
          </a:xfrm>
          <a:prstGeom prst="rect">
            <a:avLst/>
          </a:prstGeom>
          <a:noFill/>
          <a:ln w="0">
            <a:noFill/>
          </a:ln>
        </p:spPr>
        <p:txBody>
          <a:bodyPr anchor="t">
            <a:normAutofit/>
          </a:bodyPr>
          <a:p>
            <a:pPr marL="343080" indent="-343080">
              <a:lnSpc>
                <a:spcPct val="100000"/>
              </a:lnSpc>
              <a:spcBef>
                <a:spcPts val="16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nies will demand participation by their suppliers- this is already happening for environmental and lean manufacturing (i.e.--Wal-Mart, Toyota)</a:t>
            </a:r>
            <a:endParaRPr b="0" lang="en-US" sz="2400" spc="-1" strike="noStrike">
              <a:solidFill>
                <a:srgbClr val="000000"/>
              </a:solidFill>
              <a:latin typeface="Arial Unicode MS"/>
            </a:endParaRPr>
          </a:p>
          <a:p>
            <a:pPr marL="343080" indent="-343080">
              <a:lnSpc>
                <a:spcPct val="100000"/>
              </a:lnSpc>
              <a:spcBef>
                <a:spcPts val="16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take of ISO 9001 in the supply chain was driven largely by Western  European countries and Japan</a:t>
            </a:r>
            <a:endParaRPr b="0" lang="en-US" sz="2400" spc="-1" strike="noStrike">
              <a:solidFill>
                <a:srgbClr val="000000"/>
              </a:solidFill>
              <a:latin typeface="Arial Unicode MS"/>
            </a:endParaRPr>
          </a:p>
          <a:p>
            <a:pPr marL="343080" indent="-343080">
              <a:lnSpc>
                <a:spcPct val="100000"/>
              </a:lnSpc>
              <a:spcBef>
                <a:spcPts val="16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ptake of ISO 50001 will be driven by the US, Canada, the expanded EU, Japan, Korea, China, Brazil, and India</a:t>
            </a:r>
            <a:endParaRPr b="0" lang="en-US" sz="2400" spc="-1" strike="noStrike">
              <a:solidFill>
                <a:srgbClr val="000000"/>
              </a:solidFill>
              <a:latin typeface="Arial Unicode MS"/>
            </a:endParaRPr>
          </a:p>
          <a:p>
            <a:pPr marL="343080" indent="-343080">
              <a:lnSpc>
                <a:spcPct val="100000"/>
              </a:lnSpc>
              <a:spcBef>
                <a:spcPts val="1650"/>
              </a:spcBef>
              <a:buClr>
                <a:srgbClr val="008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porters that position themselves now will be at a competitive advantage</a:t>
            </a:r>
            <a:endParaRPr b="0" lang="en-US" sz="2400" spc="-1" strike="noStrike">
              <a:solidFill>
                <a:srgbClr val="000000"/>
              </a:solidFill>
              <a:latin typeface="Arial Unicode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930240"/>
            <a:ext cx="9144000" cy="812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787878"/>
                </a:solidFill>
                <a:latin typeface="Arial"/>
              </a:rPr>
              <a:t>Overview</a:t>
            </a:r>
            <a:endParaRPr b="1" lang="en-US" sz="3200" spc="-1" strike="noStrike">
              <a:solidFill>
                <a:srgbClr val="787878"/>
              </a:solidFill>
              <a:latin typeface="Arial"/>
            </a:endParaRPr>
          </a:p>
        </p:txBody>
      </p:sp>
      <p:sp>
        <p:nvSpPr>
          <p:cNvPr id="378" name="Rectangle 82"/>
          <p:cNvSpPr/>
          <p:nvPr/>
        </p:nvSpPr>
        <p:spPr>
          <a:xfrm>
            <a:off x="271440" y="3684600"/>
            <a:ext cx="4264200" cy="29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MetaBook-Roman"/>
              </a:rPr>
              <a:t>	</a:t>
            </a:r>
            <a:endParaRPr b="1" lang="en-US" sz="2000" spc="-1" strike="noStrike">
              <a:solidFill>
                <a:srgbClr val="ffffff"/>
              </a:solidFill>
              <a:latin typeface="Arial"/>
            </a:endParaRPr>
          </a:p>
        </p:txBody>
      </p:sp>
      <p:pic>
        <p:nvPicPr>
          <p:cNvPr id="379" name="Content Placeholder 9" descr=""/>
          <p:cNvPicPr/>
          <p:nvPr/>
        </p:nvPicPr>
        <p:blipFill>
          <a:blip r:embed="rId1"/>
          <a:stretch/>
        </p:blipFill>
        <p:spPr>
          <a:xfrm>
            <a:off x="225360" y="1663560"/>
            <a:ext cx="8564760" cy="4743720"/>
          </a:xfrm>
          <a:prstGeom prst="rect">
            <a:avLst/>
          </a:prstGeom>
          <a:ln w="0">
            <a:noFill/>
          </a:ln>
        </p:spPr>
      </p:pic>
      <p:sp>
        <p:nvSpPr>
          <p:cNvPr id="380" name="Rounded Rectangle 5"/>
          <p:cNvSpPr/>
          <p:nvPr/>
        </p:nvSpPr>
        <p:spPr>
          <a:xfrm>
            <a:off x="1455840" y="2884320"/>
            <a:ext cx="7315200" cy="1955880"/>
          </a:xfrm>
          <a:prstGeom prst="roundRect">
            <a:avLst>
              <a:gd name="adj" fmla="val 16667"/>
            </a:avLst>
          </a:prstGeom>
          <a:noFill/>
          <a:ln w="73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Rounded Rectangle 5"/>
          <p:cNvSpPr/>
          <p:nvPr/>
        </p:nvSpPr>
        <p:spPr>
          <a:xfrm>
            <a:off x="1442880" y="5316480"/>
            <a:ext cx="7315200" cy="509760"/>
          </a:xfrm>
          <a:prstGeom prst="roundRect">
            <a:avLst>
              <a:gd name="adj" fmla="val 16667"/>
            </a:avLst>
          </a:prstGeom>
          <a:noFill/>
          <a:ln w="73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
          <p:cNvSpPr/>
          <p:nvPr/>
        </p:nvSpPr>
        <p:spPr>
          <a:xfrm>
            <a:off x="1652760" y="5391000"/>
            <a:ext cx="32590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NIDO-EBRD project</a:t>
            </a:r>
            <a:endParaRPr b="1"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41160" y="1598760"/>
            <a:ext cx="7770600" cy="736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Thank you for your attention!</a:t>
            </a:r>
            <a:endParaRPr b="1" lang="en-US" sz="3200" spc="-1" strike="noStrike">
              <a:solidFill>
                <a:srgbClr val="787878"/>
              </a:solidFill>
              <a:latin typeface="Arial"/>
            </a:endParaRPr>
          </a:p>
        </p:txBody>
      </p:sp>
      <p:sp>
        <p:nvSpPr>
          <p:cNvPr id="384" name="Rectangle 2"/>
          <p:cNvSpPr/>
          <p:nvPr/>
        </p:nvSpPr>
        <p:spPr>
          <a:xfrm>
            <a:off x="482760" y="3463920"/>
            <a:ext cx="3801960" cy="61272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87878"/>
                </a:solidFill>
                <a:latin typeface="Arial"/>
              </a:rPr>
              <a:t>For more information:</a:t>
            </a:r>
            <a:endParaRPr b="1" lang="en-US" sz="2000" spc="-1" strike="noStrike">
              <a:solidFill>
                <a:srgbClr val="ffffff"/>
              </a:solidFill>
              <a:latin typeface="Arial"/>
            </a:endParaRPr>
          </a:p>
        </p:txBody>
      </p:sp>
      <p:sp>
        <p:nvSpPr>
          <p:cNvPr id="385" name="Rectangle 4"/>
          <p:cNvSpPr/>
          <p:nvPr/>
        </p:nvSpPr>
        <p:spPr>
          <a:xfrm>
            <a:off x="461880" y="3851280"/>
            <a:ext cx="3884760" cy="267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arco Matteini</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ial Energy Efficiency Unit</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DO </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nna International Centre</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 Box 300</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1400 Vienna, Austria</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l: 0043 1 26026 4583</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ail</a:t>
            </a:r>
            <a:r>
              <a:rPr b="0" lang="en-US" sz="1800" spc="-1" strike="noStrike">
                <a:solidFill>
                  <a:srgbClr val="ffffff"/>
                </a:solidFill>
                <a:latin typeface="Arial"/>
                <a:ea typeface="Arial"/>
              </a:rPr>
              <a:t>: </a:t>
            </a:r>
            <a:r>
              <a:rPr b="0" lang="en-US" sz="1800" spc="-1" strike="noStrike" u="sng">
                <a:solidFill>
                  <a:srgbClr val="999933"/>
                </a:solidFill>
                <a:uFillTx/>
                <a:latin typeface="Arial"/>
                <a:ea typeface="Arial"/>
                <a:hlinkClick r:id="rId1"/>
              </a:rPr>
              <a:t>M.Matteini@unido.org</a:t>
            </a:r>
            <a:endParaRPr b="1" lang="en-US" sz="1800" spc="-1" strike="noStrike">
              <a:solidFill>
                <a:srgbClr val="ffffff"/>
              </a:solidFill>
              <a:latin typeface="Arial"/>
            </a:endParaRPr>
          </a:p>
        </p:txBody>
      </p:sp>
      <p:sp>
        <p:nvSpPr>
          <p:cNvPr id="386" name="Rectangle 4"/>
          <p:cNvSpPr/>
          <p:nvPr/>
        </p:nvSpPr>
        <p:spPr>
          <a:xfrm>
            <a:off x="4503600" y="3851280"/>
            <a:ext cx="3884760" cy="267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khail Khoroshev</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ustrial Energy Efficiency Unit</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IDO </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enna International Centre</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O. Box 300</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1400 Vienna, Austria</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l: 0043 1 26026 3706</a:t>
            </a:r>
            <a:endParaRPr b="1" lang="en-US" sz="1800" spc="-1" strike="noStrike">
              <a:solidFill>
                <a:srgbClr val="ffffff"/>
              </a:solidFill>
              <a:latin typeface="Arial"/>
            </a:endParaRPr>
          </a:p>
          <a:p>
            <a:pPr marL="343080" indent="-343080">
              <a:lnSpc>
                <a:spcPct val="9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mail: </a:t>
            </a:r>
            <a:r>
              <a:rPr b="0" lang="en-US" sz="1800" spc="-1" strike="noStrike" u="sng">
                <a:solidFill>
                  <a:srgbClr val="999933"/>
                </a:solidFill>
                <a:uFillTx/>
                <a:latin typeface="Arial"/>
                <a:ea typeface="Arial"/>
                <a:hlinkClick r:id="rId2"/>
              </a:rPr>
              <a:t>M.Khoroshev@unido.org</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10600" y="888840"/>
            <a:ext cx="8703000" cy="663840"/>
          </a:xfrm>
          <a:prstGeom prst="rect">
            <a:avLst/>
          </a:prstGeom>
          <a:noFill/>
          <a:ln w="0">
            <a:noFill/>
          </a:ln>
        </p:spPr>
        <p:txBody>
          <a:bodyPr lIns="90000" rIns="90000" tIns="46800" bIns="46800" anchor="ctr">
            <a:noAutofit/>
          </a:bodyPr>
          <a:p>
            <a:pPr indent="0" algn="ctr">
              <a:lnSpc>
                <a:spcPct val="8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About UNIDO</a:t>
            </a:r>
            <a:endParaRPr b="1" lang="en-US" sz="3200" spc="-1" strike="noStrike">
              <a:solidFill>
                <a:srgbClr val="787878"/>
              </a:solidFill>
              <a:latin typeface="Arial"/>
            </a:endParaRPr>
          </a:p>
        </p:txBody>
      </p:sp>
      <p:sp>
        <p:nvSpPr>
          <p:cNvPr id="56" name=""/>
          <p:cNvSpPr/>
          <p:nvPr/>
        </p:nvSpPr>
        <p:spPr>
          <a:xfrm>
            <a:off x="279360" y="1587600"/>
            <a:ext cx="8634600" cy="475776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DO’s mandate is to promote </a:t>
            </a:r>
            <a:r>
              <a:rPr b="1" lang="en-GB" sz="2000" spc="-1" strike="noStrike">
                <a:solidFill>
                  <a:srgbClr val="000000"/>
                </a:solidFill>
                <a:latin typeface="Arial"/>
              </a:rPr>
              <a:t>sustainable industrial development</a:t>
            </a:r>
            <a:endParaRPr b="1" lang="en-US" sz="2000" spc="-1" strike="noStrike">
              <a:solidFill>
                <a:srgbClr val="ffffff"/>
              </a:solidFill>
              <a:latin typeface="Arial"/>
            </a:endParaRPr>
          </a:p>
          <a:p>
            <a:pPr marL="457200" indent="-457200">
              <a:lnSpc>
                <a:spcPct val="10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DO is the only specialized agency of the UN promoting the creation of wealth  and tackling poverty alleviation through support to  industry and manufacturing sector development, </a:t>
            </a:r>
            <a:r>
              <a:rPr b="1" lang="en-GB" sz="2000" spc="-1" strike="noStrike">
                <a:solidFill>
                  <a:srgbClr val="000000"/>
                </a:solidFill>
                <a:latin typeface="Arial"/>
              </a:rPr>
              <a:t>in particular SMEs</a:t>
            </a:r>
            <a:endParaRPr b="1" lang="en-US" sz="2000" spc="-1" strike="noStrike">
              <a:solidFill>
                <a:srgbClr val="ffffff"/>
              </a:solidFill>
              <a:latin typeface="Arial"/>
            </a:endParaRPr>
          </a:p>
          <a:p>
            <a:pPr marL="457200" indent="-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ree inter-related </a:t>
            </a:r>
            <a:r>
              <a:rPr b="1" lang="en-GB" sz="2400" spc="-1" strike="noStrike">
                <a:solidFill>
                  <a:srgbClr val="000000"/>
                </a:solidFill>
                <a:latin typeface="Arial"/>
              </a:rPr>
              <a:t>thematic priorities</a:t>
            </a:r>
            <a:r>
              <a:rPr b="0" lang="en-GB" sz="2400" spc="-1" strike="noStrike">
                <a:solidFill>
                  <a:srgbClr val="000000"/>
                </a:solidFill>
                <a:latin typeface="Arial"/>
              </a:rPr>
              <a:t>:</a:t>
            </a:r>
            <a:endParaRPr b="1" lang="en-US" sz="2400" spc="-1" strike="noStrike">
              <a:solidFill>
                <a:srgbClr val="ffffff"/>
              </a:solidFill>
              <a:latin typeface="Arial"/>
            </a:endParaRPr>
          </a:p>
          <a:p>
            <a:pPr marL="457200" indent="-457200">
              <a:lnSpc>
                <a:spcPct val="10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overty Reduction through Productive Activities </a:t>
            </a:r>
            <a:endParaRPr b="1" lang="en-US" sz="2000" spc="-1" strike="noStrike">
              <a:solidFill>
                <a:srgbClr val="ffffff"/>
              </a:solidFill>
              <a:latin typeface="Arial"/>
            </a:endParaRPr>
          </a:p>
          <a:p>
            <a:pPr marL="457200" indent="-457200">
              <a:lnSpc>
                <a:spcPct val="10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de Capacity-Building</a:t>
            </a:r>
            <a:endParaRPr b="1" lang="en-US" sz="2000" spc="-1" strike="noStrike">
              <a:solidFill>
                <a:srgbClr val="ffffff"/>
              </a:solidFill>
              <a:latin typeface="Arial"/>
            </a:endParaRPr>
          </a:p>
          <a:p>
            <a:pPr marL="457200" indent="-457200">
              <a:lnSpc>
                <a:spcPct val="10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 and Environment</a:t>
            </a:r>
            <a:endParaRPr b="1" lang="en-US" sz="2000" spc="-1" strike="noStrike">
              <a:solidFill>
                <a:srgbClr val="ffffff"/>
              </a:solidFill>
              <a:latin typeface="Arial"/>
            </a:endParaRPr>
          </a:p>
          <a:p>
            <a:pPr marL="457200" indent="-457200">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ergy Programmes</a:t>
            </a:r>
            <a:r>
              <a:rPr b="1" lang="en-GB" sz="2000" spc="-1" strike="noStrike">
                <a:solidFill>
                  <a:srgbClr val="000000"/>
                </a:solidFill>
                <a:latin typeface="Arial"/>
              </a:rPr>
              <a:t> </a:t>
            </a:r>
            <a:endParaRPr b="1" lang="en-US" sz="2000" spc="-1" strike="noStrike">
              <a:solidFill>
                <a:srgbClr val="ffffff"/>
              </a:solidFill>
              <a:latin typeface="Arial"/>
            </a:endParaRPr>
          </a:p>
          <a:p>
            <a:pPr marL="457200" indent="-457200">
              <a:lnSpc>
                <a:spcPct val="95000"/>
              </a:lnSpc>
              <a:spcBef>
                <a:spcPts val="624"/>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ustrial Energy Efficiency</a:t>
            </a:r>
            <a:endParaRPr b="1" lang="en-US" sz="2000" spc="-1" strike="noStrike">
              <a:solidFill>
                <a:srgbClr val="ffffff"/>
              </a:solidFill>
              <a:latin typeface="Arial"/>
            </a:endParaRPr>
          </a:p>
          <a:p>
            <a:pPr marL="457200" indent="-457200">
              <a:lnSpc>
                <a:spcPct val="95000"/>
              </a:lnSpc>
              <a:spcBef>
                <a:spcPts val="624"/>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ewable Energy for Productive Uses</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lide Number Placeholder 4"/>
          <p:cNvSpPr/>
          <p:nvPr/>
        </p:nvSpPr>
        <p:spPr>
          <a:xfrm>
            <a:off x="6516720" y="6553080"/>
            <a:ext cx="22320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05572-BAB2-42E6-B1AA-FF6EB61B4CCC}" type="slidenum">
              <a:rPr b="0" lang="en-US" sz="1000" spc="-1" strike="noStrike">
                <a:solidFill>
                  <a:srgbClr val="008080"/>
                </a:solidFill>
                <a:latin typeface="MetaBold-Roman"/>
                <a:ea typeface="Arial"/>
              </a:rPr>
              <a:t>&lt;number&gt;</a:t>
            </a:fld>
            <a:endParaRPr b="1" lang="en-US" sz="1000" spc="-1" strike="noStrike">
              <a:solidFill>
                <a:srgbClr val="ffffff"/>
              </a:solidFill>
              <a:latin typeface="Arial"/>
            </a:endParaRPr>
          </a:p>
        </p:txBody>
      </p:sp>
      <p:sp>
        <p:nvSpPr>
          <p:cNvPr id="58" name="PlaceHolder 1"/>
          <p:cNvSpPr>
            <a:spLocks noGrp="1"/>
          </p:cNvSpPr>
          <p:nvPr>
            <p:ph type="title"/>
          </p:nvPr>
        </p:nvSpPr>
        <p:spPr>
          <a:xfrm>
            <a:off x="0" y="980640"/>
            <a:ext cx="9144000" cy="647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87878"/>
                </a:solidFill>
                <a:latin typeface="Arial"/>
              </a:rPr>
              <a:t>UNIDO Industrial Energy Efficiency Programme</a:t>
            </a:r>
            <a:r>
              <a:rPr b="1" lang="en-NZ" sz="3200" spc="-1" strike="noStrike">
                <a:solidFill>
                  <a:srgbClr val="787878"/>
                </a:solidFill>
                <a:latin typeface="Arial"/>
              </a:rPr>
              <a:t> </a:t>
            </a:r>
            <a:endParaRPr b="1" lang="en-US" sz="3200" spc="-1" strike="noStrike">
              <a:solidFill>
                <a:srgbClr val="787878"/>
              </a:solidFill>
              <a:latin typeface="Arial"/>
            </a:endParaRPr>
          </a:p>
        </p:txBody>
      </p:sp>
      <p:sp>
        <p:nvSpPr>
          <p:cNvPr id="59" name="PlaceHolder 2"/>
          <p:cNvSpPr>
            <a:spLocks noGrp="1"/>
          </p:cNvSpPr>
          <p:nvPr>
            <p:ph/>
          </p:nvPr>
        </p:nvSpPr>
        <p:spPr>
          <a:xfrm>
            <a:off x="270000" y="1879200"/>
            <a:ext cx="8694720" cy="4429080"/>
          </a:xfrm>
          <a:prstGeom prst="rect">
            <a:avLst/>
          </a:prstGeom>
          <a:noFill/>
          <a:ln w="0">
            <a:noFill/>
          </a:ln>
        </p:spPr>
        <p:txBody>
          <a:bodyPr anchor="t">
            <a:normAutofit/>
          </a:bodyPr>
          <a:p>
            <a:pPr marL="457200" indent="0">
              <a:lnSpc>
                <a:spcPct val="9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matic focus areas</a:t>
            </a:r>
            <a:endParaRPr b="0" lang="en-US" sz="2400" spc="-1" strike="noStrike">
              <a:solidFill>
                <a:srgbClr val="000000"/>
              </a:solidFill>
              <a:latin typeface="Arial Unicode MS"/>
            </a:endParaRPr>
          </a:p>
          <a:p>
            <a:pPr marL="457200" indent="-457200">
              <a:lnSpc>
                <a:spcPct val="95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Energy management systems (EnMS) and standards</a:t>
            </a:r>
            <a:endParaRPr b="0" lang="en-US" sz="2000" spc="-1" strike="noStrike">
              <a:solidFill>
                <a:srgbClr val="000000"/>
              </a:solidFill>
              <a:latin typeface="Arial Unicode MS"/>
            </a:endParaRPr>
          </a:p>
          <a:p>
            <a:pPr marL="457200" indent="-457200">
              <a:lnSpc>
                <a:spcPct val="95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systems optimization (SO) - steam, pumps, compressed-air, etc.</a:t>
            </a:r>
            <a:endParaRPr b="0" lang="en-US" sz="2000" spc="-1" strike="noStrike">
              <a:solidFill>
                <a:srgbClr val="000000"/>
              </a:solidFill>
              <a:latin typeface="Arial Unicode MS"/>
            </a:endParaRPr>
          </a:p>
          <a:p>
            <a:pPr marL="457200" indent="-457200">
              <a:lnSpc>
                <a:spcPct val="95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strial energy and carbon benchmarking</a:t>
            </a:r>
            <a:endParaRPr b="0" lang="en-US" sz="2000" spc="-1" strike="noStrike">
              <a:solidFill>
                <a:srgbClr val="000000"/>
              </a:solidFill>
              <a:latin typeface="Arial Unicode MS"/>
            </a:endParaRPr>
          </a:p>
          <a:p>
            <a:pPr marL="457200" indent="-457200">
              <a:lnSpc>
                <a:spcPct val="95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ector, process and product specific low-carbon technology</a:t>
            </a:r>
            <a:endParaRPr b="0" lang="en-US" sz="2000" spc="-1" strike="noStrike">
              <a:solidFill>
                <a:srgbClr val="000000"/>
              </a:solidFill>
              <a:latin typeface="Arial Unicode MS"/>
            </a:endParaRPr>
          </a:p>
          <a:p>
            <a:pPr marL="457200" indent="-457200">
              <a:lnSpc>
                <a:spcPct val="95000"/>
              </a:lnSpc>
              <a:spcBef>
                <a:spcPts val="1250"/>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ergy and Carbon Storage technologies</a:t>
            </a:r>
            <a:endParaRPr b="0" lang="en-US" sz="2000" spc="-1" strike="noStrike">
              <a:solidFill>
                <a:srgbClr val="000000"/>
              </a:solidFill>
              <a:latin typeface="Arial Unicode MS"/>
            </a:endParaRPr>
          </a:p>
          <a:p>
            <a:pPr lvl="1" marL="743040" indent="-285840">
              <a:lnSpc>
                <a:spcPct val="95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technology applications (RE+H2, fuel-cells in industry &amp; transport)</a:t>
            </a:r>
            <a:endParaRPr b="0" lang="en-US" sz="1800" spc="-1" strike="noStrike">
              <a:solidFill>
                <a:srgbClr val="ffffff"/>
              </a:solidFill>
              <a:latin typeface="Arial"/>
            </a:endParaRPr>
          </a:p>
          <a:p>
            <a:pPr lvl="1" marL="743040" indent="-285840">
              <a:lnSpc>
                <a:spcPct val="95000"/>
              </a:lnSpc>
              <a:spcBef>
                <a:spcPts val="56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bon Capture &amp; Storage technology in selected industrial sectors</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9200" y="1006560"/>
            <a:ext cx="9064800" cy="565200"/>
          </a:xfrm>
          <a:prstGeom prst="rect">
            <a:avLst/>
          </a:prstGeom>
          <a:no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87878"/>
                </a:solidFill>
                <a:latin typeface="Arial"/>
              </a:rPr>
              <a:t>UNIDO EnMS Programme</a:t>
            </a:r>
            <a:endParaRPr b="1" lang="en-US" sz="3200" spc="-1" strike="noStrike">
              <a:solidFill>
                <a:srgbClr val="787878"/>
              </a:solidFill>
              <a:latin typeface="Arial"/>
            </a:endParaRPr>
          </a:p>
        </p:txBody>
      </p:sp>
      <p:sp>
        <p:nvSpPr>
          <p:cNvPr id="61" name="Content Placeholder 5"/>
          <p:cNvSpPr/>
          <p:nvPr/>
        </p:nvSpPr>
        <p:spPr>
          <a:xfrm>
            <a:off x="252360" y="1278000"/>
            <a:ext cx="8640720" cy="927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39480" indent="-33948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Operational in 12 countries; ongoing &amp; planned activities in more than 30 countries</a:t>
            </a:r>
            <a:r>
              <a:rPr b="0" lang="en-US" sz="2400" spc="-1" strike="noStrike">
                <a:solidFill>
                  <a:srgbClr val="000000"/>
                </a:solidFill>
                <a:latin typeface="Arial"/>
                <a:ea typeface="ＭＳ Ｐゴシック"/>
              </a:rPr>
              <a:t> </a:t>
            </a:r>
            <a:endParaRPr b="1" lang="en-US" sz="2400" spc="-1" strike="noStrike">
              <a:solidFill>
                <a:srgbClr val="ffffff"/>
              </a:solidFill>
              <a:latin typeface="Arial"/>
            </a:endParaRPr>
          </a:p>
        </p:txBody>
      </p:sp>
      <p:pic>
        <p:nvPicPr>
          <p:cNvPr id="62" name="" descr=""/>
          <p:cNvPicPr/>
          <p:nvPr/>
        </p:nvPicPr>
        <p:blipFill>
          <a:blip r:embed="rId1"/>
          <a:srcRect l="2067" t="0" r="0" b="0"/>
          <a:stretch/>
        </p:blipFill>
        <p:spPr>
          <a:xfrm>
            <a:off x="784080" y="2168640"/>
            <a:ext cx="8359920" cy="4167000"/>
          </a:xfrm>
          <a:prstGeom prst="rect">
            <a:avLst/>
          </a:prstGeom>
          <a:ln w="0">
            <a:noFill/>
          </a:ln>
        </p:spPr>
      </p:pic>
      <p:sp>
        <p:nvSpPr>
          <p:cNvPr id="63" name=""/>
          <p:cNvSpPr/>
          <p:nvPr/>
        </p:nvSpPr>
        <p:spPr>
          <a:xfrm>
            <a:off x="6048360" y="4897440"/>
            <a:ext cx="228600" cy="228600"/>
          </a:xfrm>
          <a:prstGeom prst="rect">
            <a:avLst/>
          </a:prstGeom>
          <a:solidFill>
            <a:srgbClr val="99cc00">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
          <p:cNvSpPr/>
          <p:nvPr/>
        </p:nvSpPr>
        <p:spPr>
          <a:xfrm>
            <a:off x="6328800" y="4871880"/>
            <a:ext cx="1166760" cy="550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going </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discussion</a:t>
            </a:r>
            <a:r>
              <a:rPr b="0" lang="en-US" sz="1600" spc="-1" strike="noStrike">
                <a:solidFill>
                  <a:srgbClr val="ffffff"/>
                </a:solidFill>
                <a:latin typeface="Arial"/>
                <a:ea typeface="Arial"/>
              </a:rPr>
              <a:t> </a:t>
            </a:r>
            <a:endParaRPr b="1" lang="en-US" sz="1600" spc="-1" strike="noStrike">
              <a:solidFill>
                <a:srgbClr val="ffffff"/>
              </a:solidFill>
              <a:latin typeface="Arial"/>
            </a:endParaRPr>
          </a:p>
        </p:txBody>
      </p:sp>
      <p:graphicFrame>
        <p:nvGraphicFramePr>
          <p:cNvPr id="65" name=""/>
          <p:cNvGraphicFramePr/>
          <p:nvPr/>
        </p:nvGraphicFramePr>
        <p:xfrm>
          <a:off x="3132000" y="5805360"/>
          <a:ext cx="5010120" cy="546120"/>
        </p:xfrm>
        <a:graphic>
          <a:graphicData uri="http://schemas.openxmlformats.org/drawingml/2006/table">
            <a:tbl>
              <a:tblPr/>
              <a:tblGrid>
                <a:gridCol w="1675080"/>
                <a:gridCol w="1498320"/>
                <a:gridCol w="1836720"/>
              </a:tblGrid>
              <a:tr h="276480">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tal UNIDO Funds</a:t>
                      </a:r>
                      <a:endParaRPr b="1" lang="en-US" sz="1200" spc="-1" strike="noStrike">
                        <a:solidFill>
                          <a:srgbClr val="ffffff"/>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tal Co-Funding</a:t>
                      </a:r>
                      <a:endParaRPr b="1" lang="en-US" sz="1200" spc="-1" strike="noStrike">
                        <a:solidFill>
                          <a:srgbClr val="ffffff"/>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Arial"/>
                        </a:rPr>
                        <a:t>Total Project Funding</a:t>
                      </a:r>
                      <a:endParaRPr b="1" lang="en-US" sz="1200" spc="-1" strike="noStrike">
                        <a:solidFill>
                          <a:srgbClr val="ffffff"/>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2764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 Mio US$</a:t>
                      </a:r>
                      <a:endParaRPr b="1" lang="en-US" sz="1200" spc="-1" strike="noStrike">
                        <a:solidFill>
                          <a:srgbClr val="ffffff"/>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2b2b2">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6 Mio US$</a:t>
                      </a:r>
                      <a:endParaRPr b="1" lang="en-US" sz="1200" spc="-1" strike="noStrike">
                        <a:solidFill>
                          <a:srgbClr val="ffffff"/>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2b2b2">
                        <a:alpha val="50000"/>
                      </a:srgbClr>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 Mio US$</a:t>
                      </a:r>
                      <a:endParaRPr b="1" lang="en-US" sz="1200" spc="-1" strike="noStrike">
                        <a:solidFill>
                          <a:srgbClr val="ffffff"/>
                        </a:solidFill>
                        <a:latin typeface="Arial"/>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2b2b2">
                        <a:alpha val="50000"/>
                      </a:srgbClr>
                    </a:solidFill>
                  </a:tcPr>
                </a:tc>
              </a:tr>
            </a:tbl>
          </a:graphicData>
        </a:graphic>
      </p:graphicFrame>
      <p:grpSp>
        <p:nvGrpSpPr>
          <p:cNvPr id="66" name=""/>
          <p:cNvGrpSpPr/>
          <p:nvPr/>
        </p:nvGrpSpPr>
        <p:grpSpPr>
          <a:xfrm>
            <a:off x="108000" y="4348080"/>
            <a:ext cx="2663640" cy="2105280"/>
            <a:chOff x="108000" y="4348080"/>
            <a:chExt cx="2663640" cy="2105280"/>
          </a:xfrm>
        </p:grpSpPr>
        <p:grpSp>
          <p:nvGrpSpPr>
            <p:cNvPr id="67" name=""/>
            <p:cNvGrpSpPr/>
            <p:nvPr/>
          </p:nvGrpSpPr>
          <p:grpSpPr>
            <a:xfrm>
              <a:off x="216000" y="4348080"/>
              <a:ext cx="1728720" cy="337320"/>
              <a:chOff x="216000" y="4348080"/>
              <a:chExt cx="1728720" cy="337320"/>
            </a:xfrm>
          </p:grpSpPr>
          <p:sp>
            <p:nvSpPr>
              <p:cNvPr id="68" name=""/>
              <p:cNvSpPr/>
              <p:nvPr/>
            </p:nvSpPr>
            <p:spPr>
              <a:xfrm>
                <a:off x="216000" y="4410000"/>
                <a:ext cx="228600" cy="2286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
              <p:cNvSpPr/>
              <p:nvPr/>
            </p:nvSpPr>
            <p:spPr>
              <a:xfrm>
                <a:off x="504720" y="4348080"/>
                <a:ext cx="144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perational</a:t>
                </a:r>
                <a:endParaRPr b="1" lang="en-US" sz="1600" spc="-1" strike="noStrike">
                  <a:solidFill>
                    <a:srgbClr val="ffffff"/>
                  </a:solidFill>
                  <a:latin typeface="Arial"/>
                </a:endParaRPr>
              </a:p>
            </p:txBody>
          </p:sp>
        </p:grpSp>
        <p:sp>
          <p:nvSpPr>
            <p:cNvPr id="70" name=""/>
            <p:cNvSpPr/>
            <p:nvPr/>
          </p:nvSpPr>
          <p:spPr>
            <a:xfrm>
              <a:off x="108000" y="4761000"/>
              <a:ext cx="1511280" cy="169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frica</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ldova</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ssia</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key</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ran</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aysia</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71" name=""/>
            <p:cNvSpPr/>
            <p:nvPr/>
          </p:nvSpPr>
          <p:spPr>
            <a:xfrm>
              <a:off x="1403280" y="4500720"/>
              <a:ext cx="1368360" cy="188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1" lang="en-US" sz="1400" spc="-1" strike="noStrike">
                <a:solidFill>
                  <a:srgbClr val="ffffff"/>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iland</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t Nam</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ippines</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gypt</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onesia</a:t>
              </a:r>
              <a:endParaRPr b="1" lang="en-US" sz="1400" spc="-1" strike="noStrike">
                <a:solidFill>
                  <a:srgbClr val="ffffff"/>
                </a:solidFill>
                <a:latin typeface="Arial"/>
              </a:endParaRPr>
            </a:p>
            <a:p>
              <a:pPr marL="343080" indent="-343080">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cuador</a:t>
              </a:r>
              <a:endParaRPr b="1" lang="en-US" sz="14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6516720" y="6553080"/>
            <a:ext cx="223200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B7805-5324-4799-8D09-3FDBBF29AD82}" type="slidenum">
              <a:rPr b="0" lang="en-US" sz="1000" spc="-1" strike="noStrike">
                <a:solidFill>
                  <a:srgbClr val="008080"/>
                </a:solidFill>
                <a:latin typeface="MetaBold-Roman"/>
                <a:ea typeface="Arial"/>
              </a:rPr>
              <a:t>&lt;number&gt;</a:t>
            </a:fld>
            <a:endParaRPr b="1" lang="en-US" sz="1000" spc="-1" strike="noStrike">
              <a:solidFill>
                <a:srgbClr val="ffffff"/>
              </a:solidFill>
              <a:latin typeface="Arial"/>
            </a:endParaRPr>
          </a:p>
        </p:txBody>
      </p:sp>
      <p:sp>
        <p:nvSpPr>
          <p:cNvPr id="73" name="PlaceHolder 1"/>
          <p:cNvSpPr>
            <a:spLocks noGrp="1"/>
          </p:cNvSpPr>
          <p:nvPr>
            <p:ph type="title"/>
          </p:nvPr>
        </p:nvSpPr>
        <p:spPr>
          <a:xfrm>
            <a:off x="0" y="980640"/>
            <a:ext cx="9144000" cy="6476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787878"/>
                </a:solidFill>
                <a:latin typeface="Arial"/>
              </a:rPr>
              <a:t>UNIDO Industrial Energy Efficiency Programme</a:t>
            </a:r>
            <a:r>
              <a:rPr b="1" lang="en-NZ" sz="3200" spc="-1" strike="noStrike">
                <a:solidFill>
                  <a:srgbClr val="787878"/>
                </a:solidFill>
                <a:latin typeface="Arial"/>
              </a:rPr>
              <a:t> </a:t>
            </a:r>
            <a:endParaRPr b="1" lang="en-US" sz="3200" spc="-1" strike="noStrike">
              <a:solidFill>
                <a:srgbClr val="787878"/>
              </a:solidFill>
              <a:latin typeface="Arial"/>
            </a:endParaRPr>
          </a:p>
        </p:txBody>
      </p:sp>
      <p:sp>
        <p:nvSpPr>
          <p:cNvPr id="74" name="PlaceHolder 2"/>
          <p:cNvSpPr>
            <a:spLocks noGrp="1"/>
          </p:cNvSpPr>
          <p:nvPr>
            <p:ph/>
          </p:nvPr>
        </p:nvSpPr>
        <p:spPr>
          <a:xfrm>
            <a:off x="270000" y="1699920"/>
            <a:ext cx="8694720" cy="4537080"/>
          </a:xfrm>
          <a:prstGeom prst="rect">
            <a:avLst/>
          </a:prstGeom>
          <a:noFill/>
          <a:ln w="0">
            <a:noFill/>
          </a:ln>
        </p:spPr>
        <p:txBody>
          <a:bodyPr anchor="t">
            <a:normAutofit/>
          </a:bodyPr>
          <a:p>
            <a:pPr marL="457200" indent="0" algn="ctr">
              <a:lnSpc>
                <a:spcPct val="95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king a Comprehensive Approach</a:t>
            </a:r>
            <a:r>
              <a:rPr b="0" lang="en-NZ" sz="2800" spc="-1" strike="noStrike">
                <a:solidFill>
                  <a:srgbClr val="000000"/>
                </a:solidFill>
                <a:latin typeface="Arial"/>
              </a:rPr>
              <a:t> </a:t>
            </a:r>
            <a:endParaRPr b="0" lang="en-US" sz="2800" spc="-1" strike="noStrike">
              <a:solidFill>
                <a:srgbClr val="000000"/>
              </a:solidFill>
              <a:latin typeface="Arial Unicode MS"/>
            </a:endParaRPr>
          </a:p>
          <a:p>
            <a:pPr marL="457200" indent="0">
              <a:lnSpc>
                <a:spcPct val="90000"/>
              </a:lnSpc>
              <a:spcBef>
                <a:spcPts val="200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 </a:t>
            </a:r>
            <a:r>
              <a:rPr b="0" lang="en-US" sz="2000" spc="-1" strike="noStrike">
                <a:solidFill>
                  <a:srgbClr val="000000"/>
                </a:solidFill>
                <a:latin typeface="Arial"/>
                <a:ea typeface="Arial Unicode MS"/>
              </a:rPr>
              <a:t>To reduce GHG emissions &amp; enhance competitiveness </a:t>
            </a:r>
            <a:endParaRPr b="0" lang="en-US" sz="2000" spc="-1" strike="noStrike">
              <a:solidFill>
                <a:srgbClr val="000000"/>
              </a:solidFill>
              <a:latin typeface="Arial Unicode MS"/>
            </a:endParaRPr>
          </a:p>
          <a:p>
            <a:pPr marL="457200"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of industry through improved energy efficiency and the transformation of the </a:t>
            </a:r>
            <a:endParaRPr b="0" lang="en-US" sz="2000" spc="-1" strike="noStrike">
              <a:solidFill>
                <a:srgbClr val="000000"/>
              </a:solidFill>
              <a:latin typeface="Arial Unicode MS"/>
            </a:endParaRPr>
          </a:p>
          <a:p>
            <a:pPr marL="457200" indent="0">
              <a:lnSpc>
                <a:spcPct val="90000"/>
              </a:lnSpc>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market for industrial energy efficiency products and services</a:t>
            </a:r>
            <a:endParaRPr b="0" lang="en-US" sz="2000" spc="-1" strike="noStrike">
              <a:solidFill>
                <a:srgbClr val="000000"/>
              </a:solidFill>
              <a:latin typeface="Arial Unicode MS"/>
            </a:endParaRPr>
          </a:p>
          <a:p>
            <a:pPr marL="457200" indent="0">
              <a:lnSpc>
                <a:spcPct val="90000"/>
              </a:lnSpc>
              <a:spcBef>
                <a:spcPts val="2001"/>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s components</a:t>
            </a:r>
            <a:endParaRPr b="0" lang="en-US" sz="2000" spc="-1" strike="noStrike">
              <a:solidFill>
                <a:srgbClr val="000000"/>
              </a:solidFill>
              <a:latin typeface="Arial Unicode MS"/>
            </a:endParaRPr>
          </a:p>
          <a:p>
            <a:pPr marL="457200" indent="-457200">
              <a:lnSpc>
                <a:spcPct val="9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and institutional support</a:t>
            </a:r>
            <a:endParaRPr b="0" lang="en-US" sz="2000" spc="-1" strike="noStrike">
              <a:solidFill>
                <a:srgbClr val="000000"/>
              </a:solidFill>
              <a:latin typeface="Arial Unicode MS"/>
            </a:endParaRPr>
          </a:p>
          <a:p>
            <a:pPr marL="457200" indent="-457200">
              <a:lnSpc>
                <a:spcPct val="9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city building (EE service providers, vendors and enterprises)</a:t>
            </a:r>
            <a:endParaRPr b="0" lang="en-US" sz="2000" spc="-1" strike="noStrike">
              <a:solidFill>
                <a:srgbClr val="000000"/>
              </a:solidFill>
              <a:latin typeface="Arial Unicode MS"/>
            </a:endParaRPr>
          </a:p>
          <a:p>
            <a:pPr marL="457200" indent="-457200">
              <a:lnSpc>
                <a:spcPct val="9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E projects development and implementation (EnMS, SO, etc.)</a:t>
            </a:r>
            <a:endParaRPr b="0" lang="en-US" sz="2000" spc="-1" strike="noStrike">
              <a:solidFill>
                <a:srgbClr val="000000"/>
              </a:solidFill>
              <a:latin typeface="Arial Unicode MS"/>
            </a:endParaRPr>
          </a:p>
          <a:p>
            <a:pPr marL="457200" indent="-457200">
              <a:lnSpc>
                <a:spcPct val="90000"/>
              </a:lnSpc>
              <a:spcBef>
                <a:spcPts val="876"/>
              </a:spcBef>
              <a:buClr>
                <a:srgbClr val="ff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support to </a:t>
            </a:r>
            <a:r>
              <a:rPr b="0" lang="en-US" sz="2000" spc="-1" strike="noStrike">
                <a:solidFill>
                  <a:srgbClr val="000000"/>
                </a:solidFill>
                <a:latin typeface="Arial"/>
                <a:ea typeface="Arial Unicode MS"/>
              </a:rPr>
              <a:t>IEE investment supporting schemes (in partnership with financing institutions)</a:t>
            </a:r>
            <a:endParaRPr b="0" lang="en-US" sz="2000" spc="-1" strike="noStrike">
              <a:solidFill>
                <a:srgbClr val="000000"/>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30120" y="1383840"/>
            <a:ext cx="8483760" cy="187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Energy Management in Industry: Issues &amp; Opportunities</a:t>
            </a:r>
            <a:endParaRPr b="1" lang="en-US" sz="3600" spc="-1" strike="noStrike">
              <a:solidFill>
                <a:srgbClr val="787878"/>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6520" y="1023480"/>
            <a:ext cx="8685360" cy="7621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d6d6d"/>
                </a:solidFill>
                <a:latin typeface="Trebuchet MS"/>
              </a:rPr>
              <a:t>World Industrial Energy Use</a:t>
            </a:r>
            <a:endParaRPr b="1" lang="en-US" sz="3200" spc="-1" strike="noStrike">
              <a:solidFill>
                <a:srgbClr val="787878"/>
              </a:solidFill>
              <a:latin typeface="Arial"/>
            </a:endParaRPr>
          </a:p>
        </p:txBody>
      </p:sp>
      <p:sp>
        <p:nvSpPr>
          <p:cNvPr id="77" name="Text Box 17"/>
          <p:cNvSpPr/>
          <p:nvPr/>
        </p:nvSpPr>
        <p:spPr>
          <a:xfrm>
            <a:off x="393840" y="5956200"/>
            <a:ext cx="5626080" cy="276480"/>
          </a:xfrm>
          <a:prstGeom prst="rect">
            <a:avLst/>
          </a:prstGeom>
          <a:noFill/>
          <a:ln w="0">
            <a:noFill/>
          </a:ln>
        </p:spPr>
        <p:style>
          <a:lnRef idx="0"/>
          <a:fillRef idx="0"/>
          <a:effectRef idx="0"/>
          <a:fontRef idx="minor"/>
        </p:style>
        <p:txBody>
          <a:bodyPr lIns="90000" rIns="90000" tIns="46800" bIns="46800" anchor="t">
            <a:spAutoFit/>
          </a:bodyPr>
          <a:p>
            <a:pPr marL="177840" indent="-17784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 EIA/International Energy Outlook 2007</a:t>
            </a:r>
            <a:endParaRPr b="1" lang="en-US" sz="1200" spc="-1" strike="noStrike">
              <a:solidFill>
                <a:srgbClr val="ffffff"/>
              </a:solidFill>
              <a:latin typeface="Arial"/>
            </a:endParaRPr>
          </a:p>
        </p:txBody>
      </p:sp>
      <p:sp>
        <p:nvSpPr>
          <p:cNvPr id="78" name="Rectangle 2"/>
          <p:cNvSpPr/>
          <p:nvPr/>
        </p:nvSpPr>
        <p:spPr>
          <a:xfrm>
            <a:off x="311040" y="2006640"/>
            <a:ext cx="5562720" cy="342900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graphicFrame>
        <p:nvGraphicFramePr>
          <p:cNvPr id="79" name="Object 3"/>
          <p:cNvGraphicFramePr/>
          <p:nvPr/>
        </p:nvGraphicFramePr>
        <p:xfrm>
          <a:off x="1073160" y="3035160"/>
          <a:ext cx="4645080" cy="2624400"/>
        </p:xfrm>
        <a:graphic>
          <a:graphicData uri="http://schemas.openxmlformats.org/presentationml/2006/ole">
            <p:oleObj r:id="rId1" spid="">
              <p:embed/>
              <p:pic>
                <p:nvPicPr>
                  <p:cNvPr id="80" name="Object 3" descr=""/>
                  <p:cNvPicPr/>
                  <p:nvPr/>
                </p:nvPicPr>
                <p:blipFill>
                  <a:blip r:embed="rId2"/>
                  <a:stretch/>
                </p:blipFill>
                <p:spPr>
                  <a:xfrm>
                    <a:off x="1073160" y="3035160"/>
                    <a:ext cx="4645080" cy="2624400"/>
                  </a:xfrm>
                  <a:prstGeom prst="rect">
                    <a:avLst/>
                  </a:prstGeom>
                  <a:ln w="0">
                    <a:noFill/>
                  </a:ln>
                </p:spPr>
              </p:pic>
            </p:oleObj>
          </a:graphicData>
        </a:graphic>
      </p:graphicFrame>
      <p:sp>
        <p:nvSpPr>
          <p:cNvPr id="81" name="Rectangle 4"/>
          <p:cNvSpPr/>
          <p:nvPr/>
        </p:nvSpPr>
        <p:spPr>
          <a:xfrm>
            <a:off x="5937120" y="2038320"/>
            <a:ext cx="2971800" cy="340380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Text Box 6"/>
          <p:cNvSpPr/>
          <p:nvPr/>
        </p:nvSpPr>
        <p:spPr>
          <a:xfrm>
            <a:off x="399960" y="3100320"/>
            <a:ext cx="13082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ercial 12%</a:t>
            </a:r>
            <a:endParaRPr b="1" lang="en-US" sz="1600" spc="-1" strike="noStrike">
              <a:solidFill>
                <a:srgbClr val="ffffff"/>
              </a:solidFill>
              <a:latin typeface="Arial"/>
            </a:endParaRPr>
          </a:p>
        </p:txBody>
      </p:sp>
      <p:sp>
        <p:nvSpPr>
          <p:cNvPr id="83" name="Text Box 7"/>
          <p:cNvSpPr/>
          <p:nvPr/>
        </p:nvSpPr>
        <p:spPr>
          <a:xfrm>
            <a:off x="228600" y="4789440"/>
            <a:ext cx="159696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ortation</a:t>
            </a:r>
            <a:br>
              <a:rPr sz="1600"/>
            </a:br>
            <a:r>
              <a:rPr b="0" lang="en-US" sz="1600" spc="-1" strike="noStrike">
                <a:solidFill>
                  <a:srgbClr val="000000"/>
                </a:solidFill>
                <a:latin typeface="Arial"/>
              </a:rPr>
              <a:t>20%</a:t>
            </a:r>
            <a:endParaRPr b="1" lang="en-US" sz="1600" spc="-1" strike="noStrike">
              <a:solidFill>
                <a:srgbClr val="ffffff"/>
              </a:solidFill>
              <a:latin typeface="Arial"/>
            </a:endParaRPr>
          </a:p>
        </p:txBody>
      </p:sp>
      <p:sp>
        <p:nvSpPr>
          <p:cNvPr id="84" name="Text Box 8"/>
          <p:cNvSpPr/>
          <p:nvPr/>
        </p:nvSpPr>
        <p:spPr>
          <a:xfrm>
            <a:off x="412920" y="3875040"/>
            <a:ext cx="1307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18%</a:t>
            </a:r>
            <a:endParaRPr b="1" lang="en-US" sz="1600" spc="-1" strike="noStrike">
              <a:solidFill>
                <a:srgbClr val="ffffff"/>
              </a:solidFill>
              <a:latin typeface="Arial"/>
            </a:endParaRPr>
          </a:p>
        </p:txBody>
      </p:sp>
      <p:sp>
        <p:nvSpPr>
          <p:cNvPr id="85" name="Text Box 9"/>
          <p:cNvSpPr/>
          <p:nvPr/>
        </p:nvSpPr>
        <p:spPr>
          <a:xfrm>
            <a:off x="704880" y="2087640"/>
            <a:ext cx="5016600" cy="6998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 World Energy Use: 447 quads</a:t>
            </a:r>
            <a:endParaRPr b="1" lang="en-US" sz="1800" spc="-1" strike="noStrike">
              <a:solidFill>
                <a:srgbClr val="ffffff"/>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 accounts for 50% of world energy use</a:t>
            </a:r>
            <a:endParaRPr b="1" lang="en-US" sz="1800" spc="-1" strike="noStrike">
              <a:solidFill>
                <a:srgbClr val="ffffff"/>
              </a:solidFill>
              <a:latin typeface="Arial"/>
            </a:endParaRPr>
          </a:p>
        </p:txBody>
      </p:sp>
      <p:sp>
        <p:nvSpPr>
          <p:cNvPr id="86" name="Text Box 10"/>
          <p:cNvSpPr/>
          <p:nvPr/>
        </p:nvSpPr>
        <p:spPr>
          <a:xfrm>
            <a:off x="4624560" y="3892680"/>
            <a:ext cx="138420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strial 50%</a:t>
            </a:r>
            <a:br>
              <a:rPr sz="1600"/>
            </a:br>
            <a:r>
              <a:rPr b="0" lang="en-US" sz="1600" spc="-1" strike="noStrike">
                <a:solidFill>
                  <a:srgbClr val="000000"/>
                </a:solidFill>
                <a:latin typeface="Arial"/>
              </a:rPr>
              <a:t>(223 quads)</a:t>
            </a:r>
            <a:endParaRPr b="1" lang="en-US" sz="1600" spc="-1" strike="noStrike">
              <a:solidFill>
                <a:srgbClr val="ffffff"/>
              </a:solidFill>
              <a:latin typeface="Arial"/>
            </a:endParaRPr>
          </a:p>
        </p:txBody>
      </p:sp>
      <p:sp>
        <p:nvSpPr>
          <p:cNvPr id="87" name="Line 11"/>
          <p:cNvSpPr/>
          <p:nvPr/>
        </p:nvSpPr>
        <p:spPr>
          <a:xfrm flipV="1">
            <a:off x="1619280" y="5094000"/>
            <a:ext cx="1041480" cy="12600"/>
          </a:xfrm>
          <a:prstGeom prst="line">
            <a:avLst/>
          </a:prstGeom>
          <a:ln w="25560">
            <a:solidFill>
              <a:srgbClr val="000000"/>
            </a:solidFill>
            <a:miter/>
            <a:tailEnd len="med" type="arrow" w="me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 name="Line 12"/>
          <p:cNvSpPr/>
          <p:nvPr/>
        </p:nvSpPr>
        <p:spPr>
          <a:xfrm>
            <a:off x="1631880" y="3405240"/>
            <a:ext cx="12445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 name="Line 13"/>
          <p:cNvSpPr/>
          <p:nvPr/>
        </p:nvSpPr>
        <p:spPr>
          <a:xfrm>
            <a:off x="1581120" y="4179960"/>
            <a:ext cx="774720" cy="0"/>
          </a:xfrm>
          <a:prstGeom prst="line">
            <a:avLst/>
          </a:prstGeom>
          <a:ln w="25560">
            <a:solidFill>
              <a:srgbClr val="00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Text Box 14"/>
          <p:cNvSpPr/>
          <p:nvPr/>
        </p:nvSpPr>
        <p:spPr>
          <a:xfrm>
            <a:off x="6794640" y="5049720"/>
            <a:ext cx="18572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 of World, 35%</a:t>
            </a:r>
            <a:br>
              <a:rPr sz="1200"/>
            </a:br>
            <a:r>
              <a:rPr b="0" lang="en-US" sz="1200" spc="-1" strike="noStrike">
                <a:solidFill>
                  <a:srgbClr val="000000"/>
                </a:solidFill>
                <a:latin typeface="Arial"/>
              </a:rPr>
              <a:t>(80 quads)</a:t>
            </a:r>
            <a:endParaRPr b="1" lang="en-US" sz="1200" spc="-1" strike="noStrike">
              <a:solidFill>
                <a:srgbClr val="ffffff"/>
              </a:solidFill>
              <a:latin typeface="Arial"/>
            </a:endParaRPr>
          </a:p>
        </p:txBody>
      </p:sp>
      <p:sp>
        <p:nvSpPr>
          <p:cNvPr id="91" name="Text Box 15"/>
          <p:cNvSpPr/>
          <p:nvPr/>
        </p:nvSpPr>
        <p:spPr>
          <a:xfrm>
            <a:off x="5956200" y="2533680"/>
            <a:ext cx="2592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ed States, 15%</a:t>
            </a:r>
            <a:br>
              <a:rPr sz="1400"/>
            </a:br>
            <a:r>
              <a:rPr b="0" lang="en-US" sz="1400" spc="-1" strike="noStrike">
                <a:solidFill>
                  <a:srgbClr val="000000"/>
                </a:solidFill>
                <a:latin typeface="Arial"/>
              </a:rPr>
              <a:t>(34 quads)</a:t>
            </a:r>
            <a:endParaRPr b="1" lang="en-US" sz="1400" spc="-1" strike="noStrike">
              <a:solidFill>
                <a:srgbClr val="ffffff"/>
              </a:solidFill>
              <a:latin typeface="Arial"/>
            </a:endParaRPr>
          </a:p>
        </p:txBody>
      </p:sp>
      <p:sp>
        <p:nvSpPr>
          <p:cNvPr id="92" name="Line 16"/>
          <p:cNvSpPr/>
          <p:nvPr/>
        </p:nvSpPr>
        <p:spPr>
          <a:xfrm>
            <a:off x="3784680" y="3386160"/>
            <a:ext cx="23461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 name="Line 18"/>
          <p:cNvSpPr/>
          <p:nvPr/>
        </p:nvSpPr>
        <p:spPr>
          <a:xfrm>
            <a:off x="3828960" y="5294160"/>
            <a:ext cx="2349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 name="Line 20"/>
          <p:cNvSpPr/>
          <p:nvPr/>
        </p:nvSpPr>
        <p:spPr>
          <a:xfrm>
            <a:off x="6638760" y="5137200"/>
            <a:ext cx="385920" cy="16488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Line 21"/>
          <p:cNvSpPr/>
          <p:nvPr/>
        </p:nvSpPr>
        <p:spPr>
          <a:xfrm flipV="1">
            <a:off x="6568920" y="2928960"/>
            <a:ext cx="103320" cy="450720"/>
          </a:xfrm>
          <a:prstGeom prst="line">
            <a:avLst/>
          </a:prstGeom>
          <a:ln w="25560">
            <a:solidFill>
              <a:srgbClr val="000000"/>
            </a:solidFill>
            <a:miter/>
            <a:head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Text Box 22"/>
          <p:cNvSpPr/>
          <p:nvPr/>
        </p:nvSpPr>
        <p:spPr>
          <a:xfrm>
            <a:off x="6143760" y="2089080"/>
            <a:ext cx="248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ustry: 223 quads</a:t>
            </a:r>
            <a:endParaRPr b="1" lang="en-US" sz="1800" spc="-1" strike="noStrike">
              <a:solidFill>
                <a:srgbClr val="ffffff"/>
              </a:solidFill>
              <a:latin typeface="Arial"/>
            </a:endParaRPr>
          </a:p>
        </p:txBody>
      </p:sp>
      <p:sp>
        <p:nvSpPr>
          <p:cNvPr id="97" name="Text Box 23"/>
          <p:cNvSpPr/>
          <p:nvPr/>
        </p:nvSpPr>
        <p:spPr>
          <a:xfrm>
            <a:off x="6681960" y="3116160"/>
            <a:ext cx="1723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ECD Europe, 15%</a:t>
            </a:r>
            <a:br>
              <a:rPr sz="1200"/>
            </a:br>
            <a:r>
              <a:rPr b="0" lang="en-US" sz="1200" spc="-1" strike="noStrike">
                <a:solidFill>
                  <a:srgbClr val="000000"/>
                </a:solidFill>
                <a:latin typeface="Arial"/>
              </a:rPr>
              <a:t>(34 quads)</a:t>
            </a:r>
            <a:endParaRPr b="1" lang="en-US" sz="1200" spc="-1" strike="noStrike">
              <a:solidFill>
                <a:srgbClr val="ffffff"/>
              </a:solidFill>
              <a:latin typeface="Arial"/>
            </a:endParaRPr>
          </a:p>
        </p:txBody>
      </p:sp>
      <p:sp>
        <p:nvSpPr>
          <p:cNvPr id="98" name="Text Box 24"/>
          <p:cNvSpPr/>
          <p:nvPr/>
        </p:nvSpPr>
        <p:spPr>
          <a:xfrm>
            <a:off x="7016760" y="3646440"/>
            <a:ext cx="1724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na, 20%</a:t>
            </a:r>
            <a:br>
              <a:rPr sz="1200"/>
            </a:br>
            <a:r>
              <a:rPr b="0" lang="en-US" sz="1200" spc="-1" strike="noStrike">
                <a:solidFill>
                  <a:srgbClr val="000000"/>
                </a:solidFill>
                <a:latin typeface="Arial"/>
              </a:rPr>
              <a:t>(44 quads)</a:t>
            </a:r>
            <a:endParaRPr b="1" lang="en-US" sz="1200" spc="-1" strike="noStrike">
              <a:solidFill>
                <a:srgbClr val="ffffff"/>
              </a:solidFill>
              <a:latin typeface="Arial"/>
            </a:endParaRPr>
          </a:p>
        </p:txBody>
      </p:sp>
      <p:sp>
        <p:nvSpPr>
          <p:cNvPr id="99" name="Text Box 25"/>
          <p:cNvSpPr/>
          <p:nvPr/>
        </p:nvSpPr>
        <p:spPr>
          <a:xfrm>
            <a:off x="7162920" y="4157640"/>
            <a:ext cx="1724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ssia, 9%</a:t>
            </a:r>
            <a:br>
              <a:rPr sz="1200"/>
            </a:br>
            <a:r>
              <a:rPr b="1" lang="en-US" sz="1200" spc="-1" strike="noStrike">
                <a:solidFill>
                  <a:srgbClr val="000000"/>
                </a:solidFill>
                <a:latin typeface="Arial"/>
              </a:rPr>
              <a:t>(21 quads)</a:t>
            </a:r>
            <a:endParaRPr b="1" lang="en-US" sz="1200" spc="-1" strike="noStrike">
              <a:solidFill>
                <a:srgbClr val="ffffff"/>
              </a:solidFill>
              <a:latin typeface="Arial"/>
            </a:endParaRPr>
          </a:p>
        </p:txBody>
      </p:sp>
      <p:sp>
        <p:nvSpPr>
          <p:cNvPr id="100" name="Text Box 26"/>
          <p:cNvSpPr/>
          <p:nvPr/>
        </p:nvSpPr>
        <p:spPr>
          <a:xfrm>
            <a:off x="7091280" y="4594320"/>
            <a:ext cx="17240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5%</a:t>
            </a:r>
            <a:br>
              <a:rPr sz="1200"/>
            </a:br>
            <a:r>
              <a:rPr b="0" lang="en-US" sz="1200" spc="-1" strike="noStrike">
                <a:solidFill>
                  <a:srgbClr val="000000"/>
                </a:solidFill>
                <a:latin typeface="Arial"/>
              </a:rPr>
              <a:t>(11 quads)</a:t>
            </a:r>
            <a:endParaRPr b="1" lang="en-US" sz="1200" spc="-1" strike="noStrike">
              <a:solidFill>
                <a:srgbClr val="ffffff"/>
              </a:solidFill>
              <a:latin typeface="Arial"/>
            </a:endParaRPr>
          </a:p>
        </p:txBody>
      </p:sp>
      <p:sp>
        <p:nvSpPr>
          <p:cNvPr id="101" name="Line 27"/>
          <p:cNvSpPr/>
          <p:nvPr/>
        </p:nvSpPr>
        <p:spPr>
          <a:xfrm flipH="1">
            <a:off x="6958080" y="3425760"/>
            <a:ext cx="146160" cy="262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 name="Line 28"/>
          <p:cNvSpPr/>
          <p:nvPr/>
        </p:nvSpPr>
        <p:spPr>
          <a:xfrm flipH="1">
            <a:off x="7183440" y="3887640"/>
            <a:ext cx="262080" cy="130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Line 29"/>
          <p:cNvSpPr/>
          <p:nvPr/>
        </p:nvSpPr>
        <p:spPr>
          <a:xfrm flipH="1">
            <a:off x="7292880" y="4413240"/>
            <a:ext cx="246240" cy="73080"/>
          </a:xfrm>
          <a:prstGeom prst="line">
            <a:avLst/>
          </a:prstGeom>
          <a:ln w="28440">
            <a:solidFill>
              <a:srgbClr val="000000"/>
            </a:solidFill>
            <a:miter/>
            <a:tailEnd len="med" type="triangle" w="me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Line 30"/>
          <p:cNvSpPr/>
          <p:nvPr/>
        </p:nvSpPr>
        <p:spPr>
          <a:xfrm flipH="1" flipV="1">
            <a:off x="7219440" y="4703760"/>
            <a:ext cx="274680" cy="117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 name="Line 31"/>
          <p:cNvSpPr/>
          <p:nvPr/>
        </p:nvSpPr>
        <p:spPr>
          <a:xfrm flipH="1">
            <a:off x="4154040" y="4340160"/>
            <a:ext cx="638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6" name="Picture 32" descr=""/>
          <p:cNvPicPr/>
          <p:nvPr/>
        </p:nvPicPr>
        <p:blipFill>
          <a:blip r:embed="rId3"/>
          <a:stretch/>
        </p:blipFill>
        <p:spPr>
          <a:xfrm>
            <a:off x="6153120" y="3225960"/>
            <a:ext cx="2032200" cy="2211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64640"/>
            <a:ext cx="91440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787878"/>
                </a:solidFill>
                <a:latin typeface="Arial"/>
              </a:rPr>
              <a:t>Developing countries &amp; Emerging Economies</a:t>
            </a:r>
            <a:endParaRPr b="1" lang="en-US" sz="3200" spc="-1" strike="noStrike">
              <a:solidFill>
                <a:srgbClr val="787878"/>
              </a:solidFill>
              <a:latin typeface="Arial"/>
            </a:endParaRPr>
          </a:p>
        </p:txBody>
      </p:sp>
      <p:sp>
        <p:nvSpPr>
          <p:cNvPr id="108" name="PlaceHolder 2"/>
          <p:cNvSpPr>
            <a:spLocks noGrp="1"/>
          </p:cNvSpPr>
          <p:nvPr>
            <p:ph/>
          </p:nvPr>
        </p:nvSpPr>
        <p:spPr>
          <a:xfrm>
            <a:off x="270000" y="1800000"/>
            <a:ext cx="8694720" cy="4500360"/>
          </a:xfrm>
          <a:prstGeom prst="rect">
            <a:avLst/>
          </a:prstGeom>
          <a:noFill/>
          <a:ln w="0">
            <a:noFill/>
          </a:ln>
        </p:spPr>
        <p:txBody>
          <a:bodyPr anchor="t">
            <a:normAutofit fontScale="97000"/>
          </a:bodyPr>
          <a:p>
            <a:pPr marL="443160" indent="-443160">
              <a:lnSpc>
                <a:spcPct val="90000"/>
              </a:lnSpc>
              <a:spcBef>
                <a:spcPts val="1012"/>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dustrial energy use can be up to 50% of the total use and can produce supply problems </a:t>
            </a:r>
            <a:r>
              <a:rPr b="0" lang="en-US" sz="1800" spc="-1" strike="noStrike">
                <a:solidFill>
                  <a:srgbClr val="000000"/>
                </a:solidFill>
                <a:latin typeface="Wingdings"/>
                <a:ea typeface="Wingdings"/>
              </a:rPr>
              <a:t></a:t>
            </a:r>
            <a:r>
              <a:rPr b="0" lang="en-US" sz="1800" spc="-1" strike="noStrike">
                <a:solidFill>
                  <a:srgbClr val="000000"/>
                </a:solidFill>
                <a:latin typeface="Arial Unicode MS"/>
              </a:rPr>
              <a:t> energy security </a:t>
            </a:r>
            <a:endParaRPr b="0" lang="en-US" sz="1800" spc="-1" strike="noStrike">
              <a:solidFill>
                <a:srgbClr val="000000"/>
              </a:solidFill>
              <a:latin typeface="Arial Unicode MS"/>
            </a:endParaRPr>
          </a:p>
          <a:p>
            <a:pPr marL="443160" indent="-443160">
              <a:lnSpc>
                <a:spcPct val="90000"/>
              </a:lnSpc>
              <a:spcBef>
                <a:spcPts val="1239"/>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cc"/>
                </a:solidFill>
                <a:latin typeface="Arial Unicode MS"/>
              </a:rPr>
              <a:t>Non-OECD countries will continue to lead global growth of energy demand (87% until 2030 according to the IEA) with industry being the biggest user</a:t>
            </a:r>
            <a:endParaRPr b="0" lang="en-US" sz="2200" spc="-1" strike="noStrike">
              <a:solidFill>
                <a:srgbClr val="000000"/>
              </a:solidFill>
              <a:latin typeface="Arial Unicode MS"/>
            </a:endParaRPr>
          </a:p>
          <a:p>
            <a:pPr marL="443160" indent="-443160">
              <a:lnSpc>
                <a:spcPct val="90000"/>
              </a:lnSpc>
              <a:spcBef>
                <a:spcPts val="1239"/>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Industrial sector growth requires many new facilities, rapidly built and expanded; including substantial growth in energy intensive sectors</a:t>
            </a:r>
            <a:endParaRPr b="0" lang="en-US" sz="2200" spc="-1" strike="noStrike">
              <a:solidFill>
                <a:srgbClr val="000000"/>
              </a:solidFill>
              <a:latin typeface="Arial Unicode MS"/>
            </a:endParaRPr>
          </a:p>
          <a:p>
            <a:pPr marL="443160" indent="-443160">
              <a:lnSpc>
                <a:spcPct val="90000"/>
              </a:lnSpc>
              <a:spcBef>
                <a:spcPts val="1239"/>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Building in energy efficiency the first time is much more cost-effective than retrofitting it later</a:t>
            </a:r>
            <a:endParaRPr b="0" lang="en-US" sz="2200" spc="-1" strike="noStrike">
              <a:solidFill>
                <a:srgbClr val="000000"/>
              </a:solidFill>
              <a:latin typeface="Arial Unicode MS"/>
            </a:endParaRPr>
          </a:p>
          <a:p>
            <a:pPr marL="443160" indent="-443160">
              <a:lnSpc>
                <a:spcPct val="90000"/>
              </a:lnSpc>
              <a:spcBef>
                <a:spcPts val="1239"/>
              </a:spcBef>
              <a:buClr>
                <a:srgbClr val="00808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Governments are increasingly aware, and concerned about, both energy security, industry competitiveness </a:t>
            </a:r>
            <a:r>
              <a:rPr b="1" lang="en-US" sz="2200" spc="-1" strike="noStrike">
                <a:solidFill>
                  <a:srgbClr val="000000"/>
                </a:solidFill>
                <a:latin typeface="Arial Unicode MS"/>
              </a:rPr>
              <a:t>and climate change</a:t>
            </a:r>
            <a:r>
              <a:rPr b="0" lang="en-US" sz="2200" spc="-1" strike="noStrike">
                <a:solidFill>
                  <a:srgbClr val="000000"/>
                </a:solidFill>
                <a:latin typeface="Arial Unicode MS"/>
              </a:rPr>
              <a:t> </a:t>
            </a:r>
            <a:endParaRPr b="0" lang="en-US" sz="2200" spc="-1" strike="noStrike">
              <a:solidFill>
                <a:srgbClr val="000000"/>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0:51:00Z</dcterms:created>
  <dc:creator>paul kern</dc:creator>
  <dc:description/>
  <dc:language>en-US</dc:language>
  <cp:lastModifiedBy>test</cp:lastModifiedBy>
  <dcterms:modified xsi:type="dcterms:W3CDTF">2010-11-18T03:32:45Z</dcterms:modified>
  <cp:revision>711</cp:revision>
  <dc:subject/>
  <dc:title>[Project Name] Post-Mortem</dc:title>
</cp:coreProperties>
</file>